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wmf" ContentType="image/x-wmf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11880"/>
            <a:ext cx="3308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6934320" y="5810400"/>
          <a:ext cx="220968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10400"/>
                    <a:ext cx="22096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66688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d Gastein, Januar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ls and Strong 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4114800" cy="67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5410080" y="5195880"/>
          <a:ext cx="3505320" cy="166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195880"/>
                    <a:ext cx="35053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64760" y="3200400"/>
            <a:ext cx="789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llabo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Bulderyev,C. De Michele, E. La Nave, A. Moren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Saika-Voivod, P. Tartaglia, E. Zaccar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-609480" y="708588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itolo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92160" y="5668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9135" t="0" r="11706" b="0"/>
          <a:stretch/>
        </p:blipFill>
        <p:spPr>
          <a:xfrm>
            <a:off x="1447920" y="457200"/>
            <a:ext cx="3917880" cy="6400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8915400" cy="343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conf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8640" y="2209680"/>
            <a:ext cx="283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models for fragile liquids, the number of configurations with energy E has been found to be gaussian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334120"/>
            <a:ext cx="914400" cy="4572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92160" y="3595680"/>
            <a:ext cx="161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zero ground state 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99072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160020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76320" y="213372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76320" y="266688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040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0988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95288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56272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838080"/>
            <a:ext cx="1904760" cy="53352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762120"/>
            <a:ext cx="1905120" cy="4572000"/>
          </a:xfrm>
          <a:prstGeom prst="rect">
            <a:avLst/>
          </a:prstGeom>
          <a:gradFill rotWithShape="0">
            <a:gsLst>
              <a:gs pos="0">
                <a:srgbClr val="288257"/>
              </a:gs>
              <a:gs pos="100000">
                <a:srgbClr val="579d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2438280"/>
            <a:ext cx="1904760" cy="53352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1371600"/>
            <a:ext cx="1904760" cy="53352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114800"/>
            <a:ext cx="1904760" cy="53352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648320"/>
            <a:ext cx="1904760" cy="60948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1905120"/>
            <a:ext cx="1904760" cy="53316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3581280"/>
            <a:ext cx="1904760" cy="53352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971800"/>
            <a:ext cx="1904760" cy="60948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5257800"/>
            <a:ext cx="1904760" cy="533520"/>
          </a:xfrm>
          <a:prstGeom prst="rect">
            <a:avLst/>
          </a:prstGeom>
          <a:gradFill rotWithShape="0">
            <a:gsLst>
              <a:gs pos="0">
                <a:srgbClr val="49e27c"/>
              </a:gs>
              <a:gs pos="50000">
                <a:srgbClr val="339966"/>
              </a:gs>
              <a:gs pos="100000">
                <a:srgbClr val="49e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dscape of strong and fragile liquids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5240" y="57913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9436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57150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Model fo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7080" y="58816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ile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56272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548640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563868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541008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5334120"/>
            <a:ext cx="19051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362320" cy="202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00680" y="977760"/>
            <a:ext cx="5143320" cy="588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066680" y="3960720"/>
            <a:ext cx="1981440" cy="159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62120" y="1066680"/>
            <a:ext cx="2209680" cy="177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lica Primitive Model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9560" y="14400"/>
            <a:ext cx="86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rom models for gels to models for network forming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28800" y="2681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77240" y="51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s for discussions….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76212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icky points collo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tes for Gel formations by suppression of the spinodal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tes for strong liquid behav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ndscape differences between strong and fragile liqu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 configurational entropy of strong liquids at low T (in the classical limit) non z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y areas. Gel if favored. Role of the  space correlation between the points. No crystals for special sticky points configuratio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7273" t="0" r="12753" b="0"/>
          <a:stretch/>
        </p:blipFill>
        <p:spPr>
          <a:xfrm>
            <a:off x="838080" y="380880"/>
            <a:ext cx="4003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2388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900" spc="-1" strike="noStrike">
                <a:solidFill>
                  <a:srgbClr val="ff0000"/>
                </a:solidFill>
                <a:latin typeface="Comic Sans MS"/>
              </a:rPr>
              <a:t>MAX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-modified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Phase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hase Diagra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934320" cy="6045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81480" y="1905120"/>
            <a:ext cx="0" cy="36716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6359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-fragile: Dire  Stretched, Delta Cp</a:t>
            </a:r>
            <a:br>
              <a:rPr sz="2400"/>
            </a:b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5720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oids: model for fragi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74240" y="30492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ic Constraint: Maximum Val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371600"/>
            <a:ext cx="0" cy="304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342900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066320" y="44197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905120"/>
            <a:ext cx="6248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W if  # of bonded particles &lt;= 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S  if  # of bonded particles  &gt; N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0880"/>
            <a:ext cx="0" cy="3048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ximum Valenc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3733920" y="41148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46390" t="46384" r="46390" b="46384"/>
          <a:stretch/>
        </p:blipFill>
        <p:spPr>
          <a:xfrm>
            <a:off x="3505320" y="47242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46390" t="46384" r="46390" b="46384"/>
          <a:stretch/>
        </p:blipFill>
        <p:spPr>
          <a:xfrm>
            <a:off x="3276720" y="36576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4724280" y="41911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46390" t="46384" r="46390" b="46384"/>
          <a:stretch/>
        </p:blipFill>
        <p:spPr>
          <a:xfrm>
            <a:off x="4267080" y="37339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46390" t="46384" r="46390" b="46384"/>
          <a:stretch/>
        </p:blipFill>
        <p:spPr>
          <a:xfrm>
            <a:off x="4800600" y="48769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rcRect l="46390" t="46384" r="46390" b="46384"/>
          <a:stretch/>
        </p:blipFill>
        <p:spPr>
          <a:xfrm>
            <a:off x="5334120" y="39625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rcRect l="46390" t="46384" r="46390" b="46384"/>
          <a:stretch/>
        </p:blipFill>
        <p:spPr>
          <a:xfrm>
            <a:off x="4343400" y="3048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rcRect l="46390" t="46384" r="46390" b="46384"/>
          <a:stretch/>
        </p:blipFill>
        <p:spPr>
          <a:xfrm>
            <a:off x="5791320" y="4419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rcRect l="46390" t="46384" r="46390" b="46384"/>
          <a:stretch/>
        </p:blipFill>
        <p:spPr>
          <a:xfrm>
            <a:off x="5715000" y="33526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rcRect l="46390" t="46384" r="46390" b="46384"/>
          <a:stretch/>
        </p:blipFill>
        <p:spPr>
          <a:xfrm>
            <a:off x="6477120" y="4419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rcRect l="46390" t="46384" r="46390" b="46384"/>
          <a:stretch/>
        </p:blipFill>
        <p:spPr>
          <a:xfrm>
            <a:off x="5029200" y="32004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rcRect l="46390" t="46384" r="46390" b="46384"/>
          <a:stretch/>
        </p:blipFill>
        <p:spPr>
          <a:xfrm>
            <a:off x="3657600" y="3048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4"/>
          <a:srcRect l="46390" t="46384" r="46390" b="46384"/>
          <a:stretch/>
        </p:blipFill>
        <p:spPr>
          <a:xfrm>
            <a:off x="5486400" y="50292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5"/>
          <a:srcRect l="46390" t="46384" r="46390" b="46384"/>
          <a:stretch/>
        </p:blipFill>
        <p:spPr>
          <a:xfrm>
            <a:off x="3581280" y="54100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6"/>
          <a:srcRect l="46390" t="46384" r="46390" b="46384"/>
          <a:stretch/>
        </p:blipFill>
        <p:spPr>
          <a:xfrm>
            <a:off x="4114800" y="49528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7"/>
          <a:srcRect l="46390" t="46384" r="46390" b="46384"/>
          <a:stretch/>
        </p:blipFill>
        <p:spPr>
          <a:xfrm>
            <a:off x="6324480" y="3733920"/>
            <a:ext cx="962280" cy="990360"/>
          </a:xfrm>
          <a:prstGeom prst="rect">
            <a:avLst/>
          </a:prstGeom>
          <a:ln w="0">
            <a:noFill/>
          </a:ln>
        </p:spPr>
      </p:pic>
      <p:cxnSp>
        <p:nvCxnSpPr>
          <p:cNvPr id="84" name=""/>
          <p:cNvCxnSpPr/>
          <p:nvPr/>
        </p:nvCxnSpPr>
        <p:spPr>
          <a:xfrm>
            <a:off x="6248160" y="3809880"/>
            <a:ext cx="5338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H="1" flipV="1">
            <a:off x="5638320" y="3656880"/>
            <a:ext cx="610560" cy="153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H="1">
            <a:off x="5866560" y="3809880"/>
            <a:ext cx="381960" cy="496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>
            <a:off x="5181480" y="4419000"/>
            <a:ext cx="610560" cy="229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>
            <a:off x="5181480" y="4647960"/>
            <a:ext cx="76680" cy="6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H="1" flipV="1">
            <a:off x="4647600" y="4190760"/>
            <a:ext cx="5338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62720" y="1981080"/>
            <a:ext cx="0" cy="36720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ase Diagram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61504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61504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61504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61504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22124" r="-1510" b="28892"/>
          <a:stretch/>
        </p:blipFill>
        <p:spPr>
          <a:xfrm>
            <a:off x="0" y="380880"/>
            <a:ext cx="9144000" cy="37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5286" r="2040" b="10182"/>
          <a:stretch/>
        </p:blipFill>
        <p:spPr>
          <a:xfrm>
            <a:off x="1981080" y="350532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Visual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12351" r="9544" b="3088"/>
          <a:stretch/>
        </p:blipFill>
        <p:spPr>
          <a:xfrm>
            <a:off x="3886200" y="0"/>
            <a:ext cx="525780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2860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iscosity and Diffusivity: Arrhenius 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13432" r="7693" b="0"/>
          <a:stretch/>
        </p:blipFill>
        <p:spPr>
          <a:xfrm>
            <a:off x="2666880" y="3827520"/>
            <a:ext cx="4496040" cy="3030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304920" y="3657600"/>
            <a:ext cx="327672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okes-Einstei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335268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tro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762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99160" y="39528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ol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9907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08660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Energy per P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ound State Energy Known !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4203720"/>
            <a:ext cx="48276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t is possible to equilibrate at low T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(T) is known and hence free energy can be calculat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xactl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down to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6438" t="13432" r="5564" b="5163"/>
          <a:stretch/>
        </p:blipFill>
        <p:spPr>
          <a:xfrm>
            <a:off x="0" y="9907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4939" t="13913" r="7068" b="0"/>
          <a:stretch/>
        </p:blipFill>
        <p:spPr>
          <a:xfrm>
            <a:off x="4876920" y="1066680"/>
            <a:ext cx="42670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 is possible to calculat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xactl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h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ibrational entropy of one single bonding patter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basin free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203" r="8136" b="19440"/>
          <a:stretch/>
        </p:blipFill>
        <p:spPr>
          <a:xfrm>
            <a:off x="2286000" y="2971800"/>
            <a:ext cx="6858000" cy="3886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933960" cy="965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6890040" cy="1019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815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asin Free energ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400" y="4114800"/>
            <a:ext cx="163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Lad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renk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rmodynamics in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inger-Weber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523880"/>
            <a:ext cx="7238880" cy="8568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(T)=-T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(T))+f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,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59092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352680"/>
            <a:ext cx="205740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2670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029200"/>
            <a:ext cx="472464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429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Sampled  Space with 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6483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configurations with 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39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illinger-Weber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26:44Z</dcterms:created>
  <dc:creator>root root</dc:creator>
  <dc:description/>
  <dc:language>en-US</dc:language>
  <cp:lastModifiedBy>Administrator</cp:lastModifiedBy>
  <cp:lastPrinted>2002-09-12T07:04:17Z</cp:lastPrinted>
  <dcterms:modified xsi:type="dcterms:W3CDTF">2006-03-10T14:43:28Z</dcterms:modified>
  <cp:revision>137</cp:revision>
  <dc:subject/>
  <dc:title>titolo</dc:title>
</cp:coreProperties>
</file>