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41.png" ContentType="image/png"/>
  <Override PartName="/ppt/media/image3.jpeg" ContentType="image/jpeg"/>
  <Override PartName="/ppt/media/image34.png" ContentType="image/png"/>
  <Override PartName="/ppt/media/image33.jpeg" ContentType="image/jpe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52.jpeg" ContentType="image/jpeg"/>
  <Override PartName="/ppt/media/image1.png" ContentType="image/png"/>
  <Override PartName="/ppt/media/image8.png" ContentType="image/png"/>
  <Override PartName="/ppt/media/image85.png" ContentType="image/png"/>
  <Override PartName="/ppt/media/image102.jpeg" ContentType="image/jpe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27.jpeg" ContentType="image/jpeg"/>
  <Override PartName="/ppt/media/image106.jpeg" ContentType="image/jpeg"/>
  <Override PartName="/ppt/media/image35.png" ContentType="image/png"/>
  <Override PartName="/ppt/media/image77.png" ContentType="image/png"/>
  <Override PartName="/ppt/media/image40.png" ContentType="image/png"/>
  <Override PartName="/ppt/media/image61.jpeg" ContentType="image/jpeg"/>
  <Override PartName="/ppt/media/image74.png" ContentType="image/png"/>
  <Override PartName="/ppt/media/image66.png" ContentType="image/png"/>
  <Override PartName="/ppt/media/image67.jpeg" ContentType="image/jpeg"/>
  <Override PartName="/ppt/media/image21.png" ContentType="image/png"/>
  <Override PartName="/ppt/media/image31.png" ContentType="image/png"/>
  <Override PartName="/ppt/media/image68.jpeg" ContentType="image/jpeg"/>
  <Override PartName="/ppt/media/image79.png" ContentType="image/png"/>
  <Override PartName="/ppt/media/image78.png" ContentType="image/png"/>
  <Override PartName="/ppt/media/image70.png" ContentType="image/png"/>
  <Override PartName="/ppt/media/image28.png" ContentType="image/png"/>
  <Override PartName="/ppt/media/image71.jpeg" ContentType="image/jpeg"/>
  <Override PartName="/ppt/media/image75.png" ContentType="image/png"/>
  <Override PartName="/ppt/media/image101.jpeg" ContentType="image/jpeg"/>
  <Override PartName="/ppt/media/image14.png" ContentType="image/png"/>
  <Override PartName="/ppt/media/image76.png" ContentType="image/png"/>
  <Override PartName="/ppt/media/image109.jpeg" ContentType="image/jpeg"/>
  <Override PartName="/ppt/media/image95.jpeg" ContentType="image/jpeg"/>
  <Override PartName="/ppt/media/image2.wmf" ContentType="image/x-wmf"/>
  <Override PartName="/ppt/media/image62.png" ContentType="image/png"/>
  <Override PartName="/ppt/media/image96.jpeg" ContentType="image/jpeg"/>
  <Override PartName="/ppt/media/image103.jpeg" ContentType="image/jpeg"/>
  <Override PartName="/ppt/media/image69.jpeg" ContentType="image/jpeg"/>
  <Override PartName="/ppt/media/image89.png" ContentType="image/png"/>
  <Override PartName="/ppt/media/image91.png" ContentType="image/png"/>
  <Override PartName="/ppt/media/image92.png" ContentType="image/png"/>
  <Override PartName="/ppt/media/image99.jpeg" ContentType="image/jpeg"/>
  <Override PartName="/ppt/media/image25.jpeg" ContentType="image/jpeg"/>
  <Override PartName="/ppt/media/image104.png" ContentType="image/png"/>
  <Override PartName="/ppt/media/image100.jpeg" ContentType="image/jpeg"/>
  <Override PartName="/ppt/media/image93.jpeg" ContentType="image/jpeg"/>
  <Override PartName="/ppt/media/image88.png" ContentType="image/png"/>
  <Override PartName="/ppt/media/image90.png" ContentType="image/png"/>
  <Override PartName="/ppt/media/image87.png" ContentType="image/png"/>
  <Override PartName="/ppt/media/image64.png" ContentType="image/png"/>
  <Override PartName="/ppt/media/image60.jpeg" ContentType="image/jpeg"/>
  <Override PartName="/ppt/media/image30.png" ContentType="image/png"/>
  <Override PartName="/ppt/media/image26.jpeg" ContentType="image/jpeg"/>
  <Override PartName="/ppt/media/image105.jpeg" ContentType="image/jpeg"/>
  <Override PartName="/ppt/media/image42.png" ContentType="image/png"/>
  <Override PartName="/ppt/media/image94.jpeg" ContentType="image/jpeg"/>
  <Override PartName="/ppt/media/image23.png" ContentType="image/png"/>
  <Override PartName="/ppt/media/image22.png" ContentType="image/png"/>
  <Override PartName="/ppt/media/image59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98.jpeg" ContentType="image/jpeg"/>
  <Override PartName="/ppt/media/image20.png" ContentType="image/png"/>
  <Override PartName="/ppt/media/image32.jpeg" ContentType="image/jpeg"/>
  <Override PartName="/ppt/media/image81.png" ContentType="image/png"/>
  <Override PartName="/ppt/media/image16.png" ContentType="image/png"/>
  <Override PartName="/ppt/media/image73.jpeg" ContentType="image/jpeg"/>
  <Override PartName="/ppt/media/image24.png" ContentType="image/png"/>
  <Override PartName="/ppt/media/image15.png" ContentType="image/png"/>
  <Override PartName="/ppt/media/image80.png" ContentType="image/png"/>
  <Override PartName="/ppt/media/image29.jpeg" ContentType="image/jpeg"/>
  <Override PartName="/ppt/media/image38.jpeg" ContentType="image/jpeg"/>
  <Override PartName="/ppt/media/image97.jpeg" ContentType="image/jpeg"/>
  <Override PartName="/ppt/media/image72.png" ContentType="image/png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43600" y="-32040"/>
            <a:ext cx="320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43600" y="-32040"/>
            <a:ext cx="320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43600" y="-32040"/>
            <a:ext cx="320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43600" y="-32040"/>
            <a:ext cx="320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43600" y="-32040"/>
            <a:ext cx="320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43600" y="-32040"/>
            <a:ext cx="320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43600" y="-32040"/>
            <a:ext cx="320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43600" y="-360"/>
            <a:ext cx="3200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43600" y="-32040"/>
            <a:ext cx="320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43600" y="-32040"/>
            <a:ext cx="320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43600" y="-32040"/>
            <a:ext cx="320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43600" y="-36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311880"/>
            <a:ext cx="330840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" name=""/>
          <p:cNvGraphicFramePr/>
          <p:nvPr/>
        </p:nvGraphicFramePr>
        <p:xfrm>
          <a:off x="6934320" y="5810400"/>
          <a:ext cx="2209680" cy="104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5810400"/>
                    <a:ext cx="22096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3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png"/><Relationship Id="rId3" Type="http://schemas.openxmlformats.org/officeDocument/2006/relationships/image" Target="../media/image103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666880"/>
            <a:ext cx="346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31240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ngalore, Jun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tential Energy Landscape Description of Supercooled Liquids and G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178680"/>
            <a:ext cx="4114800" cy="679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43600" y="-32040"/>
            <a:ext cx="320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824440" y="5284800"/>
          <a:ext cx="3319560" cy="157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24440" y="5284800"/>
                    <a:ext cx="331956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rmodynamics in the IS formalis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914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illinger-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209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828800"/>
            <a:ext cx="7445160" cy="718200"/>
          </a:xfrm>
          <a:prstGeom prst="rect">
            <a:avLst/>
          </a:prstGeom>
          <a:noFill/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T)=-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ln[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)]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,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666880"/>
            <a:ext cx="19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505320"/>
            <a:ext cx="5105520" cy="718200"/>
          </a:xfrm>
          <a:prstGeom prst="rect">
            <a:avLst/>
          </a:prstGeom>
          <a:noFill/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T)= 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vi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4267080"/>
            <a:ext cx="11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029200"/>
            <a:ext cx="4724280" cy="718200"/>
          </a:xfrm>
          <a:prstGeom prst="rect">
            <a:avLst/>
          </a:prstGeom>
          <a:noFill/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)=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n[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)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562720" y="3809880"/>
            <a:ext cx="1295280" cy="0"/>
          </a:xfrm>
          <a:prstGeom prst="line">
            <a:avLst/>
          </a:prstGeom>
          <a:ln w="7632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33526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Basin depth and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638320" y="5257800"/>
            <a:ext cx="1295640" cy="0"/>
          </a:xfrm>
          <a:prstGeom prst="line">
            <a:avLst/>
          </a:prstGeom>
          <a:ln w="7632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480060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Number of explored bas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2286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168360" cy="998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3504960" cy="1042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952880" y="4572000"/>
            <a:ext cx="2362320" cy="38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276720" y="5257800"/>
            <a:ext cx="5524560" cy="442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276720" y="5867280"/>
            <a:ext cx="4368600" cy="495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4876920" y="2438280"/>
            <a:ext cx="3549600" cy="992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4876920" y="1523880"/>
            <a:ext cx="1517400" cy="973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rcRect l="2777" t="3594" r="6943" b="11943"/>
          <a:stretch/>
        </p:blipFill>
        <p:spPr>
          <a:xfrm>
            <a:off x="0" y="1295280"/>
            <a:ext cx="4800600" cy="3471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4648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-d Cos(x) Landscape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4290" t="11110" r="9859" b="22244"/>
          <a:stretch/>
        </p:blipFill>
        <p:spPr>
          <a:xfrm>
            <a:off x="762120" y="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520" y="8077320"/>
            <a:ext cx="3200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idattic - Correlation Function in IS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8156" t="10813" r="23251" b="16790"/>
          <a:stretch/>
        </p:blipFill>
        <p:spPr>
          <a:xfrm>
            <a:off x="1219320" y="973080"/>
            <a:ext cx="7391160" cy="588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461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V="1">
            <a:off x="3733920" y="1219320"/>
            <a:ext cx="0" cy="487656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0" y="777204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pecific Heat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5974" t="11085" r="8552" b="14707"/>
          <a:stretch/>
        </p:blipFill>
        <p:spPr>
          <a:xfrm>
            <a:off x="685800" y="1817640"/>
            <a:ext cx="7696080" cy="504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895480" y="762120"/>
            <a:ext cx="2934000" cy="419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9144000" cy="241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9040" y="0"/>
            <a:ext cx="84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Time-Dependent Specific Heat in the IS form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400" y="792432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pecific Heat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240" y="8381520"/>
            <a:ext cx="1600200" cy="1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al Space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18921" t="11537" r="48650" b="11537"/>
          <a:stretch/>
        </p:blipFill>
        <p:spPr>
          <a:xfrm>
            <a:off x="3276720" y="1523880"/>
            <a:ext cx="2666880" cy="5334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629400" y="2209680"/>
            <a:ext cx="1506600" cy="1722600"/>
          </a:xfrm>
          <a:custGeom>
            <a:avLst/>
            <a:gdLst/>
            <a:ahLst/>
            <a:rect l="l" t="t" r="r" b="b"/>
            <a:pathLst>
              <a:path w="949" h="1085">
                <a:moveTo>
                  <a:pt x="0" y="32"/>
                </a:moveTo>
                <a:cubicBezTo>
                  <a:pt x="12" y="199"/>
                  <a:pt x="34" y="491"/>
                  <a:pt x="92" y="660"/>
                </a:cubicBezTo>
                <a:cubicBezTo>
                  <a:pt x="102" y="689"/>
                  <a:pt x="107" y="785"/>
                  <a:pt x="132" y="802"/>
                </a:cubicBezTo>
                <a:cubicBezTo>
                  <a:pt x="206" y="851"/>
                  <a:pt x="252" y="957"/>
                  <a:pt x="324" y="1015"/>
                </a:cubicBezTo>
                <a:cubicBezTo>
                  <a:pt x="370" y="1052"/>
                  <a:pt x="440" y="1071"/>
                  <a:pt x="497" y="1085"/>
                </a:cubicBezTo>
                <a:cubicBezTo>
                  <a:pt x="534" y="1081"/>
                  <a:pt x="571" y="1082"/>
                  <a:pt x="608" y="1075"/>
                </a:cubicBezTo>
                <a:cubicBezTo>
                  <a:pt x="645" y="1066"/>
                  <a:pt x="634" y="1050"/>
                  <a:pt x="649" y="1025"/>
                </a:cubicBezTo>
                <a:cubicBezTo>
                  <a:pt x="686" y="957"/>
                  <a:pt x="721" y="895"/>
                  <a:pt x="750" y="822"/>
                </a:cubicBezTo>
                <a:cubicBezTo>
                  <a:pt x="761" y="792"/>
                  <a:pt x="769" y="761"/>
                  <a:pt x="780" y="731"/>
                </a:cubicBezTo>
                <a:cubicBezTo>
                  <a:pt x="786" y="710"/>
                  <a:pt x="800" y="670"/>
                  <a:pt x="800" y="670"/>
                </a:cubicBezTo>
                <a:cubicBezTo>
                  <a:pt x="803" y="646"/>
                  <a:pt x="800" y="620"/>
                  <a:pt x="811" y="599"/>
                </a:cubicBezTo>
                <a:cubicBezTo>
                  <a:pt x="815" y="589"/>
                  <a:pt x="835" y="598"/>
                  <a:pt x="841" y="589"/>
                </a:cubicBezTo>
                <a:cubicBezTo>
                  <a:pt x="851" y="571"/>
                  <a:pt x="847" y="548"/>
                  <a:pt x="851" y="529"/>
                </a:cubicBezTo>
                <a:cubicBezTo>
                  <a:pt x="862" y="471"/>
                  <a:pt x="869" y="413"/>
                  <a:pt x="881" y="356"/>
                </a:cubicBezTo>
                <a:cubicBezTo>
                  <a:pt x="884" y="315"/>
                  <a:pt x="886" y="275"/>
                  <a:pt x="892" y="235"/>
                </a:cubicBezTo>
                <a:cubicBezTo>
                  <a:pt x="898" y="188"/>
                  <a:pt x="922" y="150"/>
                  <a:pt x="922" y="103"/>
                </a:cubicBezTo>
                <a:lnTo>
                  <a:pt x="94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8280" y="3222720"/>
            <a:ext cx="6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0481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685440" y="30481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0"/>
            <a:ext cx="29718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on of local minima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80880"/>
            <a:ext cx="2057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brations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i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37339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7621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4680" y="3049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38862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962520"/>
            <a:ext cx="2286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2400" y="2971800"/>
            <a:ext cx="30492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24680" y="304812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35053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7203960" y="3235320"/>
            <a:ext cx="64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v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049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12040" y="380880"/>
            <a:ext cx="7118280" cy="718200"/>
          </a:xfrm>
          <a:prstGeom prst="rect">
            <a:avLst/>
          </a:prstGeom>
          <a:noFill/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T)=-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ln[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)]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,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2438280"/>
            <a:ext cx="190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simulations…..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(T) </a:t>
            </a: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(steepest descent minimiz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T) </a:t>
            </a: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(harmonic and anharmonic contribu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T) </a:t>
            </a: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(thermodynamic integration from ideal g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4440" y="533412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 La Nave et al.,  Numerical Evaluation of the Statistical Properti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otential Energy Landscape, J. Phys.: Condens. Matter 15, S1085 (200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12058" t="-211" r="25606" b="8730"/>
          <a:stretch/>
        </p:blipFill>
        <p:spPr>
          <a:xfrm>
            <a:off x="1752480" y="380880"/>
            <a:ext cx="5232600" cy="5791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943600" y="-36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inimization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4394" t="13699" r="22209" b="17730"/>
          <a:stretch/>
        </p:blipFill>
        <p:spPr>
          <a:xfrm>
            <a:off x="609480" y="609480"/>
            <a:ext cx="7848720" cy="51818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7848720"/>
            <a:ext cx="3200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is nel tempo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880" y="-1584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KS Si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168880" cy="1384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469800" cy="44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362320" y="39625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rcRect l="14598" t="14611" r="18869" b="24301"/>
          <a:stretch/>
        </p:blipFill>
        <p:spPr>
          <a:xfrm>
            <a:off x="3352680" y="2743200"/>
            <a:ext cx="5486400" cy="3894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33000" y="1828800"/>
            <a:ext cx="31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merican Typewriter"/>
              </a:rPr>
              <a:t>diagon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2590920"/>
            <a:ext cx="0" cy="761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581280"/>
            <a:ext cx="2590920" cy="1143000"/>
          </a:xfrm>
          <a:prstGeom prst="rect">
            <a:avLst/>
          </a:prstGeom>
          <a:solidFill>
            <a:srgbClr val="bbe0e3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43600" y="-36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valuete the DOS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43600" y="-32040"/>
            <a:ext cx="320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y do we case ? Thermodynamics and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Review of thermodynamic formalism in the PE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mparison with numerical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Times New Roman"/>
              </a:rPr>
              <a:t>Development of an PEL 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Extention to non-equilibrium case  (one or more fictive parameters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838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43600" y="-36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armonic Basin free energy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67360" cy="495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4997160" cy="822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8802720" cy="723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0" y="1752480"/>
            <a:ext cx="8853480" cy="1447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0" y="4343400"/>
            <a:ext cx="8991720" cy="569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2120" y="5181480"/>
            <a:ext cx="49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merican Typewriter"/>
              </a:rPr>
              <a:t>Very often approximated with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0" y="5683320"/>
            <a:ext cx="914400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ibrational Free Energy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39186" r="10909" b="0"/>
          <a:stretch/>
        </p:blipFill>
        <p:spPr>
          <a:xfrm>
            <a:off x="4964040" y="838080"/>
            <a:ext cx="4179960" cy="4221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51120" y="1135080"/>
            <a:ext cx="12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PC/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63080" y="10508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LW-O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rcRect l="6452" t="12938" r="8065" b="0"/>
          <a:stretch/>
        </p:blipFill>
        <p:spPr>
          <a:xfrm>
            <a:off x="0" y="1523880"/>
            <a:ext cx="4495680" cy="3996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919520" y="5410080"/>
            <a:ext cx="567792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 baseline="-5000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n[</a:t>
            </a: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5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)]=a+b e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29720" y="488880"/>
            <a:ext cx="3926880" cy="8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 baseline="-3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 [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/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9210" t="10214" r="6581" b="11456"/>
          <a:stretch/>
        </p:blipFill>
        <p:spPr>
          <a:xfrm>
            <a:off x="762120" y="304920"/>
            <a:ext cx="7696080" cy="5532480"/>
          </a:xfrm>
          <a:prstGeom prst="rect">
            <a:avLst/>
          </a:prstGeom>
          <a:ln w="28440">
            <a:solidFill>
              <a:srgbClr val="ff0e21"/>
            </a:solidFill>
            <a:miter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43600" y="-36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itfalls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4549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nharm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213360" cy="1371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666880" y="0"/>
            <a:ext cx="5029200" cy="965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34120" y="3581280"/>
            <a:ext cx="3467160" cy="546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0" y="4495680"/>
            <a:ext cx="4622760" cy="1371600"/>
          </a:xfrm>
          <a:prstGeom prst="rect">
            <a:avLst/>
          </a:prstGeom>
          <a:ln w="9360">
            <a:solidFill>
              <a:srgbClr val="ff0e21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295960" y="4876920"/>
            <a:ext cx="3848040" cy="495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1828800" y="2362320"/>
            <a:ext cx="0" cy="45720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838080"/>
            <a:ext cx="1447560" cy="60984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4080" y="1417680"/>
            <a:ext cx="27702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harmon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14520" y="1523880"/>
            <a:ext cx="340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eak 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depen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nharmon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057040" y="838080"/>
            <a:ext cx="1523880" cy="5335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2590920"/>
            <a:ext cx="0" cy="76176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754344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nharmonic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instein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rystal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0" t="11141" r="8136" b="19440"/>
          <a:stretch/>
        </p:blipFill>
        <p:spPr>
          <a:xfrm>
            <a:off x="2620800" y="3048120"/>
            <a:ext cx="6523200" cy="3809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02600" cy="1015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5987880" cy="9968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0" y="1143000"/>
            <a:ext cx="6889680" cy="1019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90720" y="502920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990360" y="50292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505320"/>
            <a:ext cx="7596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60199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657600" y="3808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27480" y="1363680"/>
            <a:ext cx="2644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aso r2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n-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-457560"/>
            <a:ext cx="8610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ff"/>
                </a:solidFill>
                <a:latin typeface="Times New Roman"/>
              </a:rPr>
              <a:t>The Random Energy Model for e</a:t>
            </a:r>
            <a:r>
              <a:rPr b="1" lang="en-US" sz="2800" spc="-1" strike="noStrike" baseline="-25000">
                <a:solidFill>
                  <a:srgbClr val="0080ff"/>
                </a:solidFill>
                <a:latin typeface="Times New Roman"/>
              </a:rPr>
              <a:t>IS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40240" y="9144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Hypothes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388620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Predi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5880" y="1614600"/>
            <a:ext cx="69444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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d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800" spc="-1" strike="noStrike" baseline="38000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4800" spc="-1" strike="noStrike" baseline="38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---------------d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1371600"/>
            <a:ext cx="2568600" cy="7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-(e</a:t>
            </a:r>
            <a:r>
              <a:rPr b="0" lang="en-US" sz="3200" spc="-1" strike="noStrike" baseline="-9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3600" spc="-1" strike="noStrike" baseline="36000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3200" spc="-1" strike="noStrike" baseline="-9000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7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3600" spc="-1" strike="noStrike" baseline="36000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74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22096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39400" y="2895480"/>
            <a:ext cx="473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 baseline="-5000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n[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]=a+b 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440" y="4876920"/>
            <a:ext cx="5026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)&gt;=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k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791320"/>
            <a:ext cx="7226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)=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T)&gt;-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2209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105160" y="22096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876560" y="2362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2548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23183" t="0" r="28528" b="20830"/>
          <a:stretch/>
        </p:blipFill>
        <p:spPr>
          <a:xfrm>
            <a:off x="457200" y="2513160"/>
            <a:ext cx="3429000" cy="4344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rcRect l="10308" t="5583" r="7068" b="10819"/>
          <a:stretch/>
        </p:blipFill>
        <p:spPr>
          <a:xfrm>
            <a:off x="4267080" y="1523880"/>
            <a:ext cx="4648320" cy="3635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33920" y="457200"/>
            <a:ext cx="294948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5105520"/>
            <a:ext cx="4191120" cy="28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4000" spc="-1" strike="noStrike" baseline="-25000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gt;=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N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562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Gaussian Distribution ?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ff"/>
                </a:solidFill>
                <a:latin typeface="Times New Roman"/>
              </a:rPr>
              <a:t>T-dependence of &lt;e</a:t>
            </a:r>
            <a:r>
              <a:rPr b="1" lang="en-US" sz="2800" spc="-1" strike="noStrike" baseline="-25000">
                <a:solidFill>
                  <a:srgbClr val="0080ff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0080ff"/>
                </a:solidFill>
                <a:latin typeface="Times New Roman"/>
              </a:rPr>
              <a:t>&gt; 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7896" t="0" r="21054" b="11998"/>
          <a:stretch/>
        </p:blipFill>
        <p:spPr>
          <a:xfrm>
            <a:off x="0" y="1143000"/>
            <a:ext cx="4876920" cy="3971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rcRect l="0" t="2804" r="23164" b="5552"/>
          <a:stretch/>
        </p:blipFill>
        <p:spPr>
          <a:xfrm>
            <a:off x="4876920" y="1066680"/>
            <a:ext cx="4267080" cy="39340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278520" y="13716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C/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40480" y="13716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W-O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6840" y="5227560"/>
            <a:ext cx="79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dependence observed in the studied T-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6600" y="5729400"/>
            <a:ext cx="59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pport for the Gaussian Approx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943600" y="-36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(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,T)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3142" t="6985" r="12372" b="5204"/>
          <a:stretch/>
        </p:blipFill>
        <p:spPr>
          <a:xfrm>
            <a:off x="1752480" y="0"/>
            <a:ext cx="7391520" cy="6572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2374920" cy="495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41148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162920"/>
            <a:ext cx="3200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hy do we care: Dynamics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8280" y="-90360"/>
            <a:ext cx="51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y do we care ?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ynam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553080" cy="5817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553080" y="457200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.G. Debenedetti, and F.H. Stillinger, Nature 410,  259 (200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89880" y="1127160"/>
            <a:ext cx="245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slowing down  that cover more than 15 order of magn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rcRect l="0" t="7311" r="31864" b="24956"/>
          <a:stretch/>
        </p:blipFill>
        <p:spPr>
          <a:xfrm>
            <a:off x="0" y="533520"/>
            <a:ext cx="8915400" cy="5648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08760" y="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MLJ Configurational Entr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52480" y="7391520"/>
            <a:ext cx="3200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MLJ Sconf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ff"/>
                </a:solidFill>
                <a:latin typeface="Times New Roman"/>
              </a:rPr>
              <a:t>T-dependence of S</a:t>
            </a:r>
            <a:r>
              <a:rPr b="1" lang="en-US" sz="2800" spc="-1" strike="noStrike" baseline="-25000">
                <a:solidFill>
                  <a:srgbClr val="0080ff"/>
                </a:solidFill>
                <a:latin typeface="Times New Roman"/>
              </a:rPr>
              <a:t>conf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(SPC/E)</a:t>
            </a:r>
            <a:r>
              <a:rPr b="1" lang="en-US" sz="1800" spc="-1" strike="noStrike" baseline="-25000">
                <a:solidFill>
                  <a:srgbClr val="0080ff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13085" t="6040" r="5607" b="10597"/>
          <a:stretch/>
        </p:blipFill>
        <p:spPr>
          <a:xfrm>
            <a:off x="685800" y="814320"/>
            <a:ext cx="762012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533880" y="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V-dependence of </a:t>
            </a:r>
            <a:r>
              <a:rPr b="1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E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609480"/>
            <a:ext cx="6705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d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e</a:t>
            </a:r>
            <a:r>
              <a:rPr b="0" lang="en-US" sz="3600" spc="-1" strike="noStrike" baseline="38000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38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----------------d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380880"/>
            <a:ext cx="2568600" cy="7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-(e</a:t>
            </a:r>
            <a:r>
              <a:rPr b="0" lang="en-US" sz="3200" spc="-1" strike="noStrike" baseline="-9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3600" spc="-1" strike="noStrike" baseline="36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 baseline="-9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7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3600" spc="-1" strike="noStrike" baseline="36000">
                <a:solidFill>
                  <a:srgbClr val="0000ff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74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67320" y="990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0" t="2894" r="0" b="8655"/>
          <a:stretch/>
        </p:blipFill>
        <p:spPr>
          <a:xfrm>
            <a:off x="990720" y="1392120"/>
            <a:ext cx="716256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andscape Equation of State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762120"/>
            <a:ext cx="2667240" cy="787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=-∂F/∂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|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752480"/>
            <a:ext cx="7729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V,T)=-T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,V)+&lt;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,V)&gt;+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vi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,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2286000"/>
            <a:ext cx="630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n Gaussian (and harmonic) approx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3200400"/>
            <a:ext cx="8359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(T,V)=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+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 T +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/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/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4267080"/>
            <a:ext cx="7848720" cy="21740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= - </a:t>
            </a:r>
            <a:r>
              <a:rPr b="0" lang="en-US" sz="4000" spc="-1" strike="noStrike">
                <a:solidFill>
                  <a:srgbClr val="0080ff"/>
                </a:solidFill>
                <a:latin typeface="Times New Roman"/>
              </a:rPr>
              <a:t>d/d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[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-b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    =R </a:t>
            </a:r>
            <a:r>
              <a:rPr b="0" lang="en-US" sz="4000" spc="-1" strike="noStrike">
                <a:solidFill>
                  <a:srgbClr val="0080ff"/>
                </a:solidFill>
                <a:latin typeface="Times New Roman"/>
              </a:rPr>
              <a:t>d/d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-bE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+b</a:t>
            </a:r>
            <a:r>
              <a:rPr b="0" lang="en-US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/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/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)  =    </a:t>
            </a:r>
            <a:r>
              <a:rPr b="0" lang="en-US" sz="4000" spc="-1" strike="noStrike">
                <a:solidFill>
                  <a:srgbClr val="0080ff"/>
                </a:solidFill>
                <a:latin typeface="Times New Roman"/>
              </a:rPr>
              <a:t>d/d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2R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Developing an EOS based on PES properties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10308" t="4193" r="38187" b="0"/>
          <a:stretch/>
        </p:blipFill>
        <p:spPr>
          <a:xfrm>
            <a:off x="2286000" y="762120"/>
            <a:ext cx="4240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C/E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T,V)=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on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V)+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V) T +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/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V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T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21460" t="-1383" r="21665" b="5583"/>
          <a:stretch/>
        </p:blipFill>
        <p:spPr>
          <a:xfrm>
            <a:off x="4800600" y="609480"/>
            <a:ext cx="4748040" cy="6019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rcRect l="23173" t="11048" r="12198" b="21108"/>
          <a:stretch/>
        </p:blipFill>
        <p:spPr>
          <a:xfrm>
            <a:off x="304920" y="533520"/>
            <a:ext cx="3581280" cy="2906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rcRect l="10673" t="11798" r="0" b="41330"/>
          <a:stretch/>
        </p:blipFill>
        <p:spPr>
          <a:xfrm>
            <a:off x="0" y="3429000"/>
            <a:ext cx="4343400" cy="32259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514600" y="6491160"/>
            <a:ext cx="9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S, E. La Nave, and P. Tartaglia, PRL. 91, 155701 (2003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159800" y="2182680"/>
            <a:ext cx="329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Eis e S conf for silic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Esempio di f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6995" t="13464" r="33620" b="14707"/>
          <a:stretch/>
        </p:blipFill>
        <p:spPr>
          <a:xfrm>
            <a:off x="1295280" y="393840"/>
            <a:ext cx="70866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rcRect l="2704" t="11474" r="21623" b="5656"/>
          <a:stretch/>
        </p:blipFill>
        <p:spPr>
          <a:xfrm>
            <a:off x="0" y="533520"/>
            <a:ext cx="7391520" cy="5719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-4320" y="228600"/>
            <a:ext cx="84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relating Thermodynamics and Dynamics: Adam-Gibbs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960" y="1143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43800" y="41911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an Saika-Voivod et al, Nature  412, 514 (200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822924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G per Silica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943600" y="-36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V ~ (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r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</a:rPr>
              <a:t>)-n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34320" cy="53578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665720" y="533520"/>
            <a:ext cx="62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Soft Spheres with different soft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nclusion I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57200"/>
            <a:ext cx="91440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ff"/>
                </a:solidFill>
                <a:latin typeface="Times New Roman"/>
              </a:rPr>
              <a:t>The V-dependence of the statistical properties of the PEL can be  quantified for  models of liqu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ccurate EOS can be constructed from these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Interesting features of the liquid state  (TMD line) can be correlated to features of the PEL statistical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Connections between Dynamics and Thermodyna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601992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9000" y="-90360"/>
            <a:ext cx="591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y do we car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rmo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7391520"/>
            <a:ext cx="3200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hy do we care  Thermodyanmics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12952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vanishing of the entropy difference at a finite 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172200" cy="4534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mple (numerical) Aging Experiment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ging in the PEL-IS framework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22070" t="12458" r="50002" b="13825"/>
          <a:stretch/>
        </p:blipFill>
        <p:spPr>
          <a:xfrm>
            <a:off x="0" y="1447920"/>
            <a:ext cx="1523880" cy="40384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rcRect l="22070" t="12458" r="50002" b="13825"/>
          <a:stretch/>
        </p:blipFill>
        <p:spPr>
          <a:xfrm>
            <a:off x="3200400" y="1371600"/>
            <a:ext cx="1630440" cy="4114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rcRect l="22070" t="12458" r="50002" b="13825"/>
          <a:stretch/>
        </p:blipFill>
        <p:spPr>
          <a:xfrm>
            <a:off x="6248520" y="1600200"/>
            <a:ext cx="1600200" cy="4038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772400" y="2971800"/>
            <a:ext cx="884160" cy="1317600"/>
          </a:xfrm>
          <a:custGeom>
            <a:avLst/>
            <a:gdLst/>
            <a:ahLst/>
            <a:rect l="l" t="t" r="r" b="b"/>
            <a:pathLst>
              <a:path w="557" h="830">
                <a:moveTo>
                  <a:pt x="0" y="61"/>
                </a:moveTo>
                <a:cubicBezTo>
                  <a:pt x="25" y="148"/>
                  <a:pt x="48" y="235"/>
                  <a:pt x="71" y="324"/>
                </a:cubicBezTo>
                <a:cubicBezTo>
                  <a:pt x="81" y="416"/>
                  <a:pt x="104" y="507"/>
                  <a:pt x="132" y="597"/>
                </a:cubicBezTo>
                <a:cubicBezTo>
                  <a:pt x="148" y="651"/>
                  <a:pt x="153" y="701"/>
                  <a:pt x="193" y="739"/>
                </a:cubicBezTo>
                <a:cubicBezTo>
                  <a:pt x="206" y="779"/>
                  <a:pt x="222" y="799"/>
                  <a:pt x="253" y="830"/>
                </a:cubicBezTo>
                <a:cubicBezTo>
                  <a:pt x="370" y="818"/>
                  <a:pt x="356" y="828"/>
                  <a:pt x="436" y="749"/>
                </a:cubicBezTo>
                <a:cubicBezTo>
                  <a:pt x="463" y="667"/>
                  <a:pt x="422" y="795"/>
                  <a:pt x="456" y="638"/>
                </a:cubicBezTo>
                <a:cubicBezTo>
                  <a:pt x="485" y="498"/>
                  <a:pt x="467" y="639"/>
                  <a:pt x="486" y="537"/>
                </a:cubicBezTo>
                <a:cubicBezTo>
                  <a:pt x="506" y="423"/>
                  <a:pt x="502" y="306"/>
                  <a:pt x="517" y="192"/>
                </a:cubicBezTo>
                <a:cubicBezTo>
                  <a:pt x="525" y="126"/>
                  <a:pt x="557" y="67"/>
                  <a:pt x="5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24280" y="2057400"/>
            <a:ext cx="884520" cy="1317600"/>
          </a:xfrm>
          <a:custGeom>
            <a:avLst/>
            <a:gdLst/>
            <a:ahLst/>
            <a:rect l="l" t="t" r="r" b="b"/>
            <a:pathLst>
              <a:path w="557" h="830">
                <a:moveTo>
                  <a:pt x="0" y="61"/>
                </a:moveTo>
                <a:cubicBezTo>
                  <a:pt x="25" y="148"/>
                  <a:pt x="48" y="235"/>
                  <a:pt x="71" y="324"/>
                </a:cubicBezTo>
                <a:cubicBezTo>
                  <a:pt x="81" y="416"/>
                  <a:pt x="104" y="507"/>
                  <a:pt x="132" y="597"/>
                </a:cubicBezTo>
                <a:cubicBezTo>
                  <a:pt x="148" y="651"/>
                  <a:pt x="153" y="701"/>
                  <a:pt x="193" y="739"/>
                </a:cubicBezTo>
                <a:cubicBezTo>
                  <a:pt x="206" y="779"/>
                  <a:pt x="222" y="799"/>
                  <a:pt x="253" y="830"/>
                </a:cubicBezTo>
                <a:cubicBezTo>
                  <a:pt x="370" y="818"/>
                  <a:pt x="356" y="828"/>
                  <a:pt x="436" y="749"/>
                </a:cubicBezTo>
                <a:cubicBezTo>
                  <a:pt x="463" y="667"/>
                  <a:pt x="422" y="795"/>
                  <a:pt x="456" y="638"/>
                </a:cubicBezTo>
                <a:cubicBezTo>
                  <a:pt x="485" y="498"/>
                  <a:pt x="467" y="639"/>
                  <a:pt x="486" y="537"/>
                </a:cubicBezTo>
                <a:cubicBezTo>
                  <a:pt x="506" y="423"/>
                  <a:pt x="502" y="306"/>
                  <a:pt x="517" y="192"/>
                </a:cubicBezTo>
                <a:cubicBezTo>
                  <a:pt x="525" y="126"/>
                  <a:pt x="557" y="67"/>
                  <a:pt x="5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8120" y="487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1981080"/>
            <a:ext cx="884520" cy="1317600"/>
          </a:xfrm>
          <a:custGeom>
            <a:avLst/>
            <a:gdLst/>
            <a:ahLst/>
            <a:rect l="l" t="t" r="r" b="b"/>
            <a:pathLst>
              <a:path w="557" h="830">
                <a:moveTo>
                  <a:pt x="0" y="61"/>
                </a:moveTo>
                <a:cubicBezTo>
                  <a:pt x="25" y="148"/>
                  <a:pt x="48" y="235"/>
                  <a:pt x="71" y="324"/>
                </a:cubicBezTo>
                <a:cubicBezTo>
                  <a:pt x="81" y="416"/>
                  <a:pt x="104" y="507"/>
                  <a:pt x="132" y="597"/>
                </a:cubicBezTo>
                <a:cubicBezTo>
                  <a:pt x="148" y="651"/>
                  <a:pt x="153" y="701"/>
                  <a:pt x="193" y="739"/>
                </a:cubicBezTo>
                <a:cubicBezTo>
                  <a:pt x="206" y="779"/>
                  <a:pt x="222" y="799"/>
                  <a:pt x="253" y="830"/>
                </a:cubicBezTo>
                <a:cubicBezTo>
                  <a:pt x="370" y="818"/>
                  <a:pt x="356" y="828"/>
                  <a:pt x="436" y="749"/>
                </a:cubicBezTo>
                <a:cubicBezTo>
                  <a:pt x="463" y="667"/>
                  <a:pt x="422" y="795"/>
                  <a:pt x="456" y="638"/>
                </a:cubicBezTo>
                <a:cubicBezTo>
                  <a:pt x="485" y="498"/>
                  <a:pt x="467" y="639"/>
                  <a:pt x="486" y="537"/>
                </a:cubicBezTo>
                <a:cubicBezTo>
                  <a:pt x="506" y="423"/>
                  <a:pt x="502" y="306"/>
                  <a:pt x="517" y="192"/>
                </a:cubicBezTo>
                <a:cubicBezTo>
                  <a:pt x="525" y="126"/>
                  <a:pt x="557" y="67"/>
                  <a:pt x="5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971800"/>
            <a:ext cx="514440" cy="433440"/>
          </a:xfrm>
          <a:custGeom>
            <a:avLst/>
            <a:gdLst/>
            <a:ahLst/>
            <a:rect l="l" t="t" r="r" b="b"/>
            <a:pathLst>
              <a:path w="324" h="273">
                <a:moveTo>
                  <a:pt x="0" y="0"/>
                </a:moveTo>
                <a:cubicBezTo>
                  <a:pt x="13" y="41"/>
                  <a:pt x="29" y="45"/>
                  <a:pt x="41" y="91"/>
                </a:cubicBezTo>
                <a:cubicBezTo>
                  <a:pt x="47" y="153"/>
                  <a:pt x="30" y="212"/>
                  <a:pt x="91" y="233"/>
                </a:cubicBezTo>
                <a:cubicBezTo>
                  <a:pt x="122" y="262"/>
                  <a:pt x="139" y="263"/>
                  <a:pt x="183" y="263"/>
                </a:cubicBezTo>
                <a:cubicBezTo>
                  <a:pt x="245" y="255"/>
                  <a:pt x="262" y="273"/>
                  <a:pt x="284" y="223"/>
                </a:cubicBezTo>
                <a:cubicBezTo>
                  <a:pt x="293" y="200"/>
                  <a:pt x="297" y="175"/>
                  <a:pt x="304" y="152"/>
                </a:cubicBezTo>
                <a:cubicBezTo>
                  <a:pt x="311" y="125"/>
                  <a:pt x="324" y="71"/>
                  <a:pt x="324" y="71"/>
                </a:cubicBezTo>
                <a:cubicBezTo>
                  <a:pt x="248" y="58"/>
                  <a:pt x="232" y="51"/>
                  <a:pt x="152" y="61"/>
                </a:cubicBezTo>
                <a:cubicBezTo>
                  <a:pt x="84" y="83"/>
                  <a:pt x="166" y="61"/>
                  <a:pt x="51" y="61"/>
                </a:cubicBezTo>
                <a:cubicBezTo>
                  <a:pt x="40" y="61"/>
                  <a:pt x="21" y="71"/>
                  <a:pt x="21" y="71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76320" y="5562720"/>
            <a:ext cx="2895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5540760"/>
            <a:ext cx="243828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-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008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219320" y="3429000"/>
            <a:ext cx="12189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314840" y="4343400"/>
            <a:ext cx="12193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4343040" y="3429000"/>
            <a:ext cx="12193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16320" y="3820320"/>
            <a:ext cx="187920" cy="28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945120" y="3516840"/>
            <a:ext cx="130320" cy="357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86600" y="403848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781320" y="4267080"/>
            <a:ext cx="304920" cy="76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81680" y="3429000"/>
            <a:ext cx="30492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590920"/>
            <a:ext cx="0" cy="8380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2971800"/>
            <a:ext cx="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10480" y="3886200"/>
            <a:ext cx="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2585520" y="27777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8674560" y="3850200"/>
            <a:ext cx="42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5627880" y="2935800"/>
            <a:ext cx="42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2666880"/>
            <a:ext cx="701640" cy="609840"/>
          </a:xfrm>
          <a:custGeom>
            <a:avLst/>
            <a:gdLst/>
            <a:ahLst/>
            <a:rect l="l" t="t" r="r" b="b"/>
            <a:pathLst>
              <a:path w="442" h="384">
                <a:moveTo>
                  <a:pt x="0" y="0"/>
                </a:moveTo>
                <a:lnTo>
                  <a:pt x="48" y="192"/>
                </a:lnTo>
                <a:lnTo>
                  <a:pt x="96" y="336"/>
                </a:lnTo>
                <a:lnTo>
                  <a:pt x="192" y="384"/>
                </a:lnTo>
                <a:lnTo>
                  <a:pt x="288" y="384"/>
                </a:lnTo>
                <a:lnTo>
                  <a:pt x="336" y="336"/>
                </a:lnTo>
                <a:lnTo>
                  <a:pt x="336" y="240"/>
                </a:lnTo>
                <a:lnTo>
                  <a:pt x="384" y="192"/>
                </a:lnTo>
                <a:lnTo>
                  <a:pt x="384" y="96"/>
                </a:lnTo>
                <a:cubicBezTo>
                  <a:pt x="436" y="43"/>
                  <a:pt x="442" y="67"/>
                  <a:pt x="423" y="31"/>
                </a:cubicBez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91640" y="3898800"/>
            <a:ext cx="545760" cy="409680"/>
          </a:xfrm>
          <a:custGeom>
            <a:avLst/>
            <a:gdLst/>
            <a:ahLst/>
            <a:rect l="l" t="t" r="r" b="b"/>
            <a:pathLst>
              <a:path w="344" h="258">
                <a:moveTo>
                  <a:pt x="9" y="25"/>
                </a:moveTo>
                <a:cubicBezTo>
                  <a:pt x="16" y="105"/>
                  <a:pt x="20" y="155"/>
                  <a:pt x="70" y="217"/>
                </a:cubicBezTo>
                <a:cubicBezTo>
                  <a:pt x="88" y="240"/>
                  <a:pt x="151" y="258"/>
                  <a:pt x="151" y="258"/>
                </a:cubicBezTo>
                <a:cubicBezTo>
                  <a:pt x="171" y="251"/>
                  <a:pt x="197" y="253"/>
                  <a:pt x="212" y="238"/>
                </a:cubicBezTo>
                <a:cubicBezTo>
                  <a:pt x="218" y="231"/>
                  <a:pt x="223" y="220"/>
                  <a:pt x="232" y="217"/>
                </a:cubicBezTo>
                <a:cubicBezTo>
                  <a:pt x="247" y="210"/>
                  <a:pt x="266" y="210"/>
                  <a:pt x="283" y="207"/>
                </a:cubicBezTo>
                <a:cubicBezTo>
                  <a:pt x="297" y="149"/>
                  <a:pt x="300" y="66"/>
                  <a:pt x="344" y="25"/>
                </a:cubicBezTo>
                <a:cubicBezTo>
                  <a:pt x="267" y="0"/>
                  <a:pt x="199" y="6"/>
                  <a:pt x="121" y="15"/>
                </a:cubicBezTo>
                <a:cubicBezTo>
                  <a:pt x="45" y="40"/>
                  <a:pt x="150" y="4"/>
                  <a:pt x="40" y="45"/>
                </a:cubicBezTo>
                <a:cubicBezTo>
                  <a:pt x="29" y="48"/>
                  <a:pt x="18" y="60"/>
                  <a:pt x="9" y="55"/>
                </a:cubicBezTo>
                <a:cubicBezTo>
                  <a:pt x="0" y="49"/>
                  <a:pt x="9" y="35"/>
                  <a:pt x="9" y="25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rcRect l="4505" t="10492" r="19822" b="18116"/>
          <a:stretch/>
        </p:blipFill>
        <p:spPr>
          <a:xfrm>
            <a:off x="0" y="1143000"/>
            <a:ext cx="7696080" cy="51307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tion of e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in aging   (BMLJ)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96080" y="44956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. Kob et al Europhys. Letters 49, 590 (200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3352680"/>
            <a:ext cx="266688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07400" y="617220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can hardly do better than equilibrium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90720" y="762120"/>
            <a:ext cx="6781680" cy="718200"/>
          </a:xfrm>
          <a:prstGeom prst="rect">
            <a:avLst/>
          </a:prstGeom>
          <a:noFill/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,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=-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conf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200" y="5105520"/>
            <a:ext cx="84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first derived  by  S. Franz and  M. A. Virasor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Phys. A 33 (2000) 891, in the context of disordered spi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ich T in aging ?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7816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457560" y="-152640"/>
            <a:ext cx="6553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look to the meaning of T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ff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476440" cy="4190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5715000" y="304920"/>
            <a:ext cx="2565360" cy="11300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5702400" cy="5079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0" y="2286000"/>
            <a:ext cx="6515280" cy="495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6819840" y="1905120"/>
            <a:ext cx="2324160" cy="11430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228600" y="3124080"/>
            <a:ext cx="5207040" cy="10414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7"/>
          <a:stretch/>
        </p:blipFill>
        <p:spPr>
          <a:xfrm>
            <a:off x="228600" y="4495680"/>
            <a:ext cx="8650440" cy="5209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8"/>
          <a:stretch/>
        </p:blipFill>
        <p:spPr>
          <a:xfrm>
            <a:off x="2819520" y="5334120"/>
            <a:ext cx="4800600" cy="1130040"/>
          </a:xfrm>
          <a:prstGeom prst="rect">
            <a:avLst/>
          </a:prstGeom>
          <a:ln w="50760">
            <a:solidFill>
              <a:srgbClr val="ff585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066680" y="1471680"/>
            <a:ext cx="7239240" cy="47466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6172200" cy="13399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520" y="777204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ow to ask a system its Tin t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04920" y="1117440"/>
            <a:ext cx="8007120" cy="49485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luctuation Dissipation Relati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Cugliandolo, Kurcian, Peliti, ….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588312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S and Piero Tartag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nsion of the Fluctuation-Dissipation theorem to the physical aging of a model glass-forming liqu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. Rev. Lett. 86, 107 (200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28600" y="358128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upport from the Sof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pher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04920" y="5257800"/>
            <a:ext cx="3809880" cy="554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76201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oft sphere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4495680" y="3292560"/>
            <a:ext cx="4648320" cy="35654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0"/>
            <a:ext cx="6934320" cy="718200"/>
          </a:xfrm>
          <a:prstGeom prst="rect">
            <a:avLst/>
          </a:prstGeom>
          <a:noFill/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V, T,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=-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conf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638680" y="2514600"/>
            <a:ext cx="3505320" cy="7430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228600" y="990720"/>
            <a:ext cx="5410080" cy="10540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0" y="2209680"/>
            <a:ext cx="4267080" cy="12542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191120" y="2819520"/>
            <a:ext cx="1371600" cy="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rom Equilibrium to OOE….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56480" y="-1219320"/>
            <a:ext cx="5697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(T,V)=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,V)+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vi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,V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9907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know which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quilibr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n the system is explo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9680" y="5410080"/>
            <a:ext cx="4240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acts as a fictive T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2057400"/>
            <a:ext cx="62485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V, 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35812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 We can correlate the state of the aging system with  an equilibrium state and predict the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76000" y="4724280"/>
            <a:ext cx="21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(OOE-E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ff"/>
                </a:solidFill>
                <a:latin typeface="Times New Roman"/>
              </a:rPr>
              <a:t>Numerical Tests</a:t>
            </a:r>
            <a:br>
              <a:rPr sz="3200"/>
            </a:b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iquid-to-Liquid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0" t="12882" r="0" b="4288"/>
          <a:stretch/>
        </p:blipFill>
        <p:spPr>
          <a:xfrm>
            <a:off x="0" y="2441520"/>
            <a:ext cx="7543800" cy="44164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520640" y="2895480"/>
            <a:ext cx="16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-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constant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1760" y="3048120"/>
            <a:ext cx="161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-jum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constan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rcRect l="2433" t="2021" r="21264" b="33423"/>
          <a:stretch/>
        </p:blipFill>
        <p:spPr>
          <a:xfrm>
            <a:off x="5257800" y="0"/>
            <a:ext cx="3886200" cy="25351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85200" y="1219320"/>
            <a:ext cx="407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. Mossa et al.  EUR PHYS J B 30 351 (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10116" t="10496" r="3372" b="17551"/>
          <a:stretch/>
        </p:blipFill>
        <p:spPr>
          <a:xfrm>
            <a:off x="685800" y="1676520"/>
            <a:ext cx="6858000" cy="427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76720" y="3962520"/>
            <a:ext cx="2819160" cy="0"/>
          </a:xfrm>
          <a:prstGeom prst="line">
            <a:avLst/>
          </a:prstGeom>
          <a:ln w="3168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12683" t="53683" r="8387" b="17244"/>
          <a:stretch/>
        </p:blipFill>
        <p:spPr>
          <a:xfrm>
            <a:off x="4648320" y="380880"/>
            <a:ext cx="4267080" cy="2873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535720" y="3352680"/>
            <a:ext cx="360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van Megen and S.M. Underw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200" spc="-1" strike="noStrike">
                <a:solidFill>
                  <a:srgbClr val="000000"/>
                </a:solidFill>
                <a:latin typeface="Arial"/>
              </a:rPr>
              <a:t>Phys. Rev. Lett.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 70, 2766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0760" y="2133720"/>
            <a:ext cx="8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IE" sz="36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228600"/>
            <a:ext cx="6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7621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20640" y="59738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og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3962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paration of time scale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10040" y="525780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Supercooled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5040" y="4572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38480" y="4647960"/>
            <a:ext cx="685800" cy="685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5333760" y="4114800"/>
            <a:ext cx="533160" cy="5335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ff"/>
                </a:solidFill>
                <a:latin typeface="Times New Roman"/>
              </a:rPr>
              <a:t>Numerical Tests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eating a glass at constant P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219320" y="1295280"/>
            <a:ext cx="0" cy="1371600"/>
          </a:xfrm>
          <a:prstGeom prst="line">
            <a:avLst/>
          </a:prstGeom>
          <a:ln w="3816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2666880"/>
            <a:ext cx="2743200" cy="0"/>
          </a:xfrm>
          <a:prstGeom prst="line">
            <a:avLst/>
          </a:prstGeom>
          <a:ln w="3816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9320" y="2057400"/>
            <a:ext cx="28191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19320" y="1218960"/>
            <a:ext cx="2743200" cy="53316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62320" y="14479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308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120" y="25146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rcRect l="11110" t="1055" r="41685" b="11577"/>
          <a:stretch/>
        </p:blipFill>
        <p:spPr>
          <a:xfrm>
            <a:off x="6334200" y="0"/>
            <a:ext cx="280980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rcRect l="3640" t="3612" r="3616" b="3643"/>
          <a:stretch/>
        </p:blipFill>
        <p:spPr>
          <a:xfrm>
            <a:off x="0" y="3048120"/>
            <a:ext cx="4952880" cy="38210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12408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81240" y="0"/>
            <a:ext cx="6019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ff"/>
                </a:solidFill>
                <a:latin typeface="Times New Roman"/>
              </a:rPr>
              <a:t>Numerical Tests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mpressing at constant T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219320" y="1294920"/>
            <a:ext cx="0" cy="1676520"/>
          </a:xfrm>
          <a:prstGeom prst="line">
            <a:avLst/>
          </a:prstGeom>
          <a:ln w="3816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2971800"/>
            <a:ext cx="3429000" cy="0"/>
          </a:xfrm>
          <a:prstGeom prst="line">
            <a:avLst/>
          </a:prstGeom>
          <a:ln w="3816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2514600"/>
            <a:ext cx="37335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04920" y="2057400"/>
            <a:ext cx="91440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1219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6760" y="1981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98400" y="29559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218960" y="1600200"/>
            <a:ext cx="236196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219320" y="1600200"/>
            <a:ext cx="0" cy="5335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4720" y="160020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22539" t="0" r="35614" b="0"/>
          <a:stretch/>
        </p:blipFill>
        <p:spPr>
          <a:xfrm>
            <a:off x="5430960" y="0"/>
            <a:ext cx="371304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rcRect l="3640" t="3612" r="3616" b="3643"/>
          <a:stretch/>
        </p:blipFill>
        <p:spPr>
          <a:xfrm>
            <a:off x="380880" y="3330720"/>
            <a:ext cx="457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943600" y="-36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van  New work ???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066680" y="-5257800"/>
            <a:ext cx="4483080" cy="55767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5943600" y="-5334120"/>
            <a:ext cx="3822840" cy="55771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-3048120" y="-5105520"/>
            <a:ext cx="3911760" cy="58438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914400" y="22860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-11520" y="0"/>
            <a:ext cx="750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ing of the out-of-equilibrium theor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rcRect l="0" t="0" r="48575" b="0"/>
          <a:stretch/>
        </p:blipFill>
        <p:spPr>
          <a:xfrm>
            <a:off x="457200" y="1066680"/>
            <a:ext cx="3200400" cy="25401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rcRect l="0" t="6330" r="8925" b="5064"/>
          <a:stretch/>
        </p:blipFill>
        <p:spPr>
          <a:xfrm>
            <a:off x="4495680" y="457200"/>
            <a:ext cx="4648320" cy="64008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rcRect l="53424" t="0" r="0" b="0"/>
          <a:stretch/>
        </p:blipFill>
        <p:spPr>
          <a:xfrm>
            <a:off x="380880" y="3657600"/>
            <a:ext cx="2971800" cy="24969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ovacs (cross-over) effect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31520" y="6521400"/>
            <a:ext cx="27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. Mossa and FS, PRL (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00800" y="-381240"/>
            <a:ext cx="2743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reak -down - eis-dos From Kovacs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523880" y="-228600"/>
            <a:ext cx="521352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rcRect l="7523" t="8815" r="15414" b="14351"/>
          <a:stretch/>
        </p:blipFill>
        <p:spPr>
          <a:xfrm>
            <a:off x="609480" y="0"/>
            <a:ext cx="815364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clusion II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838080"/>
            <a:ext cx="86104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hypothesis that the system samples in aging the same basins explored in equilibrium allows to develop an EOS for OOE-liquids depending on one additional par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mall aging times, small perturbations are consistent with such hypothesis. Work is ongoing to evaluate the limit of valid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Symbol"/>
                <a:ea typeface="Symbol"/>
              </a:rPr>
              <a:t>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80ff"/>
                </a:solidFill>
                <a:latin typeface="Times New Roman"/>
              </a:rPr>
              <a:t>This parameter can be chosen as fictive T, fictive P or depth of the explored basin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3417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erspectives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14400"/>
            <a:ext cx="9144000" cy="65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 improved description of the statistical properties of the potential energy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80ff"/>
                </a:solidFill>
                <a:latin typeface="Times New Roman"/>
              </a:rPr>
              <a:t>Role of the statistical properties of the PEL in liquid pheno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 deeper understanding of the concept of P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conf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and of EOS of a g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An estimate of the limit of validity of the assumption that a glass is a frozen liquid (number of parame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8000"/>
                </a:solidFill>
                <a:latin typeface="Times New Roman"/>
              </a:rPr>
              <a:t>Connections between PEL properties and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References and Acknowledgements</a:t>
            </a:r>
            <a:br>
              <a:rPr sz="1600"/>
            </a:b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7680" y="105084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cknowledge important discussions, comments, criticisms from  P. Debenedetti, S. Sastry, R. Speedy, A. Angell, T. Keyes, G. Ruocco and collabo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2666880"/>
            <a:ext cx="76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ff"/>
                </a:solidFill>
                <a:latin typeface="Times New Roman"/>
              </a:rPr>
              <a:t>Francesco Sciortino and Piero Tartag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ff"/>
                </a:solidFill>
                <a:latin typeface="Times New Roman"/>
              </a:rPr>
              <a:t>Extension of the Fluctuation-Dissipation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ff"/>
                </a:solidFill>
                <a:latin typeface="Times New Roman"/>
              </a:rPr>
              <a:t>to the physical aging of a model glass-forming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ff"/>
                </a:solidFill>
                <a:latin typeface="Times New Roman"/>
              </a:rPr>
              <a:t>Phys. Rev. Lett.  </a:t>
            </a:r>
            <a:r>
              <a:rPr b="1" lang="en-US" sz="2400" spc="-1" strike="noStrike">
                <a:solidFill>
                  <a:srgbClr val="0080ff"/>
                </a:solidFill>
                <a:latin typeface="Times New Roman"/>
              </a:rPr>
              <a:t>86</a:t>
            </a:r>
            <a:r>
              <a:rPr b="0" lang="en-US" sz="2400" spc="-1" strike="noStrike">
                <a:solidFill>
                  <a:srgbClr val="0080ff"/>
                </a:solidFill>
                <a:latin typeface="Times New Roman"/>
              </a:rPr>
              <a:t> 107 (200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milia La Nave, Stefano Mossa and Francesco Sciort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Potential Energy Landscape Equation of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Phys. Rev. Lett.,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88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, 225701 (200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efano Mossa,  Emilia La Nave, Francesco Sciortino and Piero Tartaglia,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ging and Energy Landscape: Application to Liquids and Glass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, cond-mat/020507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rcRect l="0" t="65156" r="0" b="0"/>
          <a:stretch/>
        </p:blipFill>
        <p:spPr>
          <a:xfrm>
            <a:off x="5867280" y="1905120"/>
            <a:ext cx="327672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ff"/>
                </a:solidFill>
                <a:latin typeface="Times New Roman"/>
              </a:rPr>
              <a:t>Entering the supercooled region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5562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162920" cy="240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90720" y="3581280"/>
            <a:ext cx="7010280" cy="2256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400" y="708624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itazioni goldstein, stillinger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ame basins in Equilibrium and Aging ?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rcRect l="0" t="8370" r="3456" b="0"/>
          <a:stretch/>
        </p:blipFill>
        <p:spPr>
          <a:xfrm>
            <a:off x="0" y="946080"/>
            <a:ext cx="883908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9073" t="10350" r="9073" b="10350"/>
          <a:stretch/>
        </p:blipFill>
        <p:spPr>
          <a:xfrm>
            <a:off x="2438280" y="1447920"/>
            <a:ext cx="4845240" cy="403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76520" y="4175280"/>
            <a:ext cx="5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41972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65760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4876920"/>
            <a:ext cx="5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51055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6483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38080"/>
            <a:ext cx="89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description of the number, depth and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44792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PEL bas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Potential Energy Landscape, a 3N dimensional surface</a:t>
            </a:r>
            <a:endParaRPr b="1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5105520"/>
            <a:ext cx="5638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PE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oes no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depend on T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exploration of the PE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ends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on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86400" y="6103800"/>
            <a:ext cx="259092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3559320" cy="3119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24080" y="0"/>
            <a:ext cx="1143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8152560" y="609480"/>
            <a:ext cx="12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-2666880"/>
            <a:ext cx="6324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basin 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)= -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ln[Z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)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520" y="1371600"/>
            <a:ext cx="14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sin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457200" y="-3429000"/>
            <a:ext cx="8839080" cy="29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basin 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)=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 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9600" spc="-1" strike="noStrike" baseline="-11000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4000" spc="-1" strike="noStrike" baseline="-3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n [h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 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]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Times New Roman"/>
              </a:rPr>
              <a:t>anharmonic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 i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-838080"/>
            <a:ext cx="18288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normal modes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00600" y="-106704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264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Z(T)=  </a:t>
            </a:r>
            <a:r>
              <a:rPr b="1" lang="en-US" sz="9600" spc="-1" strike="noStrike" baseline="-3000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T) </a:t>
            </a:r>
            <a:br>
              <a:rPr sz="6000"/>
            </a:b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8083440" cy="155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28600" y="4495680"/>
            <a:ext cx="89154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94692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52680" y="4114800"/>
            <a:ext cx="5283360" cy="495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77120" y="-36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illinger formalism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74680" y="2901960"/>
            <a:ext cx="6794640" cy="1054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838080" y="5029200"/>
            <a:ext cx="7988400" cy="1054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905120" y="1752480"/>
            <a:ext cx="5067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1:48:49Z</dcterms:created>
  <dc:creator>P T</dc:creator>
  <dc:description/>
  <dc:language>en-US</dc:language>
  <cp:lastModifiedBy>Administrator</cp:lastModifiedBy>
  <cp:lastPrinted>2002-09-12T07:04:17Z</cp:lastPrinted>
  <dcterms:modified xsi:type="dcterms:W3CDTF">2006-03-10T14:43:40Z</dcterms:modified>
  <cp:revision>150</cp:revision>
  <dc:subject/>
  <dc:title>PowerPoint Presentation</dc:title>
</cp:coreProperties>
</file>