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7.jpeg" ContentType="image/jpeg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12.png" ContentType="image/png"/>
  <Override PartName="/ppt/media/image10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320" y="6480"/>
            <a:ext cx="8991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8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4190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560" y="3389040"/>
            <a:ext cx="4190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6480"/>
            <a:ext cx="8991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8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2044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451960" y="762120"/>
            <a:ext cx="2044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560" y="3389040"/>
            <a:ext cx="2044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2451960" y="3389040"/>
            <a:ext cx="2044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320" y="6480"/>
            <a:ext cx="8991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8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1349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721520" y="762120"/>
            <a:ext cx="1349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138840" y="762120"/>
            <a:ext cx="1349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560" y="3389040"/>
            <a:ext cx="1349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1721520" y="3389040"/>
            <a:ext cx="1349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3138840" y="3389040"/>
            <a:ext cx="1349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320" y="6480"/>
            <a:ext cx="8991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8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762120"/>
            <a:ext cx="41907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6480"/>
            <a:ext cx="8991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8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4190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6480"/>
            <a:ext cx="8991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8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2044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451960" y="762120"/>
            <a:ext cx="2044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6480"/>
            <a:ext cx="8991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8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6320" y="76320"/>
            <a:ext cx="899136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320" y="6480"/>
            <a:ext cx="8991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8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2044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451960" y="762120"/>
            <a:ext cx="2044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04560" y="3389040"/>
            <a:ext cx="2044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320" y="6480"/>
            <a:ext cx="8991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84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560" y="762120"/>
            <a:ext cx="41907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6480"/>
            <a:ext cx="8991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8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2044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451960" y="762120"/>
            <a:ext cx="2044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451960" y="3389040"/>
            <a:ext cx="2044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6480"/>
            <a:ext cx="8991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8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2044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2451960" y="762120"/>
            <a:ext cx="2044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560" y="3389040"/>
            <a:ext cx="4190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6480"/>
            <a:ext cx="8991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8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4190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04560" y="3389040"/>
            <a:ext cx="4190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320" y="6480"/>
            <a:ext cx="8991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8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2044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451960" y="762120"/>
            <a:ext cx="2044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4560" y="3389040"/>
            <a:ext cx="2044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2451960" y="3389040"/>
            <a:ext cx="2044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6480"/>
            <a:ext cx="8991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8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1349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721520" y="762120"/>
            <a:ext cx="1349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138840" y="762120"/>
            <a:ext cx="1349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04560" y="3389040"/>
            <a:ext cx="1349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1721520" y="3389040"/>
            <a:ext cx="1349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3138840" y="3389040"/>
            <a:ext cx="1349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320" y="6480"/>
            <a:ext cx="8991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8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4190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20" y="6480"/>
            <a:ext cx="8991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8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2044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2451960" y="762120"/>
            <a:ext cx="2044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6480"/>
            <a:ext cx="8991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8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6320" y="76320"/>
            <a:ext cx="899136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6480"/>
            <a:ext cx="8991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8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2044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451960" y="762120"/>
            <a:ext cx="2044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560" y="3389040"/>
            <a:ext cx="2044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320" y="6480"/>
            <a:ext cx="8991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8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2044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451960" y="762120"/>
            <a:ext cx="2044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451960" y="3389040"/>
            <a:ext cx="2044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320" y="6480"/>
            <a:ext cx="8991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1008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2044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451960" y="762120"/>
            <a:ext cx="2044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560" y="3389040"/>
            <a:ext cx="4190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84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1008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762120"/>
            <a:ext cx="4190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451"/>
              </a:spcBef>
              <a:buClr>
                <a:srgbClr val="000000"/>
              </a:buClr>
              <a:buSzPct val="11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26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9000" indent="-174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6320" y="6248520"/>
            <a:ext cx="49536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84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10084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908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38080" y="380880"/>
            <a:ext cx="7647120" cy="63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084"/>
                </a:solidFill>
                <a:latin typeface="Arial"/>
              </a:rPr>
              <a:t>Density anomalies and fragile-to-strong dynamical cross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H. Po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artment of Phys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. Francis Xavier Univer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tigonish, Nova Scotia, Can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an Saika-Voivod (Rom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ncesco Sciortino (Rom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0080"/>
                </a:solidFill>
                <a:latin typeface="Arial"/>
              </a:rPr>
              <a:t>Unifying Concepts in Glass Physics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0080"/>
                </a:solidFill>
                <a:latin typeface="Arial"/>
              </a:rPr>
              <a:t>Bangalore, June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90920" y="4495680"/>
            <a:ext cx="1347840" cy="1447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343400" y="4883040"/>
            <a:ext cx="3200400" cy="52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84"/>
                </a:solidFill>
                <a:latin typeface="Arial"/>
              </a:rPr>
              <a:t>Isotherms of pressure vs volume for ST2 water </a:t>
            </a:r>
            <a:endParaRPr b="1" lang="en-US" sz="2800" spc="-1" strike="noStrike">
              <a:solidFill>
                <a:srgbClr val="010084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42880" y="609480"/>
            <a:ext cx="6086520" cy="6096240"/>
            <a:chOff x="542880" y="609480"/>
            <a:chExt cx="6086520" cy="6096240"/>
          </a:xfrm>
        </p:grpSpPr>
        <p:pic>
          <p:nvPicPr>
            <p:cNvPr id="143" name="" descr=""/>
            <p:cNvPicPr/>
            <p:nvPr/>
          </p:nvPicPr>
          <p:blipFill>
            <a:blip r:embed="rId1"/>
            <a:stretch/>
          </p:blipFill>
          <p:spPr>
            <a:xfrm>
              <a:off x="542880" y="609480"/>
              <a:ext cx="6086520" cy="609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3057480" y="4419720"/>
              <a:ext cx="1295640" cy="1295280"/>
            </a:xfrm>
            <a:custGeom>
              <a:avLst/>
              <a:gdLst/>
              <a:ahLst/>
              <a:rect l="l" t="t" r="r" b="b"/>
              <a:pathLst>
                <a:path w="816" h="816">
                  <a:moveTo>
                    <a:pt x="0" y="816"/>
                  </a:moveTo>
                  <a:cubicBezTo>
                    <a:pt x="56" y="684"/>
                    <a:pt x="112" y="552"/>
                    <a:pt x="192" y="432"/>
                  </a:cubicBezTo>
                  <a:cubicBezTo>
                    <a:pt x="272" y="312"/>
                    <a:pt x="376" y="168"/>
                    <a:pt x="480" y="96"/>
                  </a:cubicBezTo>
                  <a:cubicBezTo>
                    <a:pt x="584" y="24"/>
                    <a:pt x="700" y="12"/>
                    <a:pt x="816" y="0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72080" y="990720"/>
              <a:ext cx="76320" cy="4038480"/>
            </a:xfrm>
            <a:custGeom>
              <a:avLst/>
              <a:gdLst/>
              <a:ahLst/>
              <a:rect l="l" t="t" r="r" b="b"/>
              <a:pathLst>
                <a:path w="152" h="2688">
                  <a:moveTo>
                    <a:pt x="104" y="0"/>
                  </a:moveTo>
                  <a:cubicBezTo>
                    <a:pt x="52" y="496"/>
                    <a:pt x="0" y="992"/>
                    <a:pt x="8" y="1440"/>
                  </a:cubicBezTo>
                  <a:cubicBezTo>
                    <a:pt x="16" y="1888"/>
                    <a:pt x="84" y="2288"/>
                    <a:pt x="152" y="2688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53120" y="4419720"/>
              <a:ext cx="457200" cy="3045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72" y="8"/>
                    <a:pt x="144" y="16"/>
                    <a:pt x="192" y="48"/>
                  </a:cubicBezTo>
                  <a:cubicBezTo>
                    <a:pt x="240" y="80"/>
                    <a:pt x="264" y="136"/>
                    <a:pt x="288" y="192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934320" y="101916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vitation: nucleation of gas bubble in stretched liq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5638680" y="1219320"/>
            <a:ext cx="1371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086600" y="5637240"/>
            <a:ext cx="169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quid-liquid phase sepa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4267080" y="4876920"/>
            <a:ext cx="2819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657600" y="2124000"/>
            <a:ext cx="5486400" cy="4734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 flipH="1">
            <a:off x="5374800" y="3154320"/>
            <a:ext cx="3240" cy="199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92760" y="387684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M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4023720" y="3753360"/>
            <a:ext cx="134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quid + g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84920" y="311472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07680" y="524844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D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232120" y="55627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D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72040" y="562932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DL+LD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186760" y="2441520"/>
            <a:ext cx="0" cy="3492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9600" y="2666880"/>
            <a:ext cx="3694320" cy="33879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89913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84"/>
                </a:solidFill>
                <a:latin typeface="Arial"/>
              </a:rPr>
              <a:t>Why ST2 water?</a:t>
            </a:r>
            <a:endParaRPr b="1" lang="en-US" sz="2800" spc="-1" strike="noStrike">
              <a:solidFill>
                <a:srgbClr val="01008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320" y="533520"/>
            <a:ext cx="9067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prominent TM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SW silicon (Sastry and Angell, 2003), has an explicit liquid-liquid phase transition. (PHP, Sciortino, Essmann, Stanley, 1992, 1993, 1997; Harrington, et al. 199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BKS silica, ST2 exhibits onset of fragile-to-strong crossover when passing into LDL region (Paschek and Geiger, 199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57800" y="24066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DL = high density liqu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DL = low density liq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9920" y="518148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D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1680" y="45720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D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84"/>
                </a:solidFill>
                <a:latin typeface="Arial"/>
              </a:rPr>
              <a:t>Isobars of diffusion coefficient for ST2 water </a:t>
            </a:r>
            <a:endParaRPr b="1" lang="en-US" sz="2800" spc="-1" strike="noStrike">
              <a:solidFill>
                <a:srgbClr val="010084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5943600" cy="572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352680" y="1295280"/>
            <a:ext cx="5410440" cy="50421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55627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84"/>
                </a:solidFill>
                <a:latin typeface="Arial"/>
              </a:rPr>
              <a:t>Radial distribution function for i-th nearest neighbours</a:t>
            </a:r>
            <a:endParaRPr b="1" lang="en-US" sz="2800" spc="-1" strike="noStrike">
              <a:solidFill>
                <a:srgbClr val="010084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04920" y="1371600"/>
            <a:ext cx="3047760" cy="4208760"/>
            <a:chOff x="304920" y="1371600"/>
            <a:chExt cx="3047760" cy="4208760"/>
          </a:xfrm>
        </p:grpSpPr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838080" y="4343400"/>
                  <a:ext cx="1752840" cy="85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¥</m:t>
                          </m:r>
                        </m:sup>
                        <m:e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981000" y="2590920"/>
                  <a:ext cx="1609920" cy="43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sSup>
                        <m:e>
                          <m:r>
                            <m:t xml:space="preserve">p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dr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3" name=""/>
            <p:cNvSpPr/>
            <p:nvPr/>
          </p:nvSpPr>
          <p:spPr>
            <a:xfrm>
              <a:off x="304920" y="1371600"/>
              <a:ext cx="3047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99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fine RDF of an i-th nn as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>
                  <a:off x="1432080" y="1676520"/>
                  <a:ext cx="625320" cy="35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5" name=""/>
            <p:cNvSpPr/>
            <p:nvPr/>
          </p:nvSpPr>
          <p:spPr>
            <a:xfrm>
              <a:off x="304920" y="2194200"/>
              <a:ext cx="3047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99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uch that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4920" y="3113280"/>
              <a:ext cx="3047760" cy="12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s the probability that an i-th nn atom is found at a distance between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r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r+dr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from a reference atom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hat is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920" y="5334120"/>
              <a:ext cx="3047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199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here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g(r)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is the usual RDF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492880" y="1890720"/>
            <a:ext cx="1822320" cy="1511280"/>
            <a:chOff x="5492880" y="1890720"/>
            <a:chExt cx="1822320" cy="1511280"/>
          </a:xfrm>
        </p:grpSpPr>
        <p:sp>
          <p:nvSpPr>
            <p:cNvPr id="179" name=""/>
            <p:cNvSpPr/>
            <p:nvPr/>
          </p:nvSpPr>
          <p:spPr>
            <a:xfrm>
              <a:off x="6010200" y="2165400"/>
              <a:ext cx="274680" cy="274680"/>
            </a:xfrm>
            <a:prstGeom prst="ellipse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994360" y="2195640"/>
              <a:ext cx="29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199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84880" y="1890720"/>
              <a:ext cx="274680" cy="27468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67480" y="2233440"/>
              <a:ext cx="274320" cy="27468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97800" y="2508120"/>
              <a:ext cx="272880" cy="27648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906880" y="2508120"/>
              <a:ext cx="274680" cy="27648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84960" y="2243160"/>
              <a:ext cx="274680" cy="27468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423120" y="2784600"/>
              <a:ext cx="274680" cy="274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80040" y="2784600"/>
              <a:ext cx="273240" cy="27468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16480" y="2508120"/>
              <a:ext cx="274680" cy="27648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667480" y="2784600"/>
              <a:ext cx="274320" cy="27468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216480" y="3127320"/>
              <a:ext cx="274680" cy="27468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72400" y="2811600"/>
              <a:ext cx="274320" cy="27468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40520" y="2440080"/>
              <a:ext cx="274680" cy="27468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697800" y="2097000"/>
              <a:ext cx="272880" cy="27468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59560" y="3059280"/>
              <a:ext cx="274680" cy="27432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873760" y="3059280"/>
              <a:ext cx="274680" cy="27432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805360" y="1890720"/>
              <a:ext cx="274680" cy="27468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92880" y="2498760"/>
              <a:ext cx="274320" cy="27468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53280" y="2646360"/>
              <a:ext cx="48096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6145200" y="2303640"/>
              <a:ext cx="208080" cy="34272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353280" y="2646360"/>
              <a:ext cx="206280" cy="27468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423120" y="2830680"/>
              <a:ext cx="29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199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372360" y="2287440"/>
              <a:ext cx="29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199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72120" y="2828880"/>
              <a:ext cx="29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199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899320" y="2557440"/>
              <a:ext cx="29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199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83400" y="2548080"/>
              <a:ext cx="29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199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667480" y="2270160"/>
              <a:ext cx="29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199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551640" y="3100320"/>
              <a:ext cx="29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199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89913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84"/>
                </a:solidFill>
                <a:latin typeface="Arial"/>
              </a:rPr>
              <a:t>Liquid-liquid phase transition in ST2 water</a:t>
            </a:r>
            <a:endParaRPr b="1" lang="en-US" sz="2800" spc="-1" strike="noStrike">
              <a:solidFill>
                <a:srgbClr val="010084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970440" y="533520"/>
            <a:ext cx="4411440" cy="37335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688000" y="19162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M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16200000">
            <a:off x="4169880" y="1632600"/>
            <a:ext cx="134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quid + g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86480" y="131436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76000" y="299736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D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546320" y="32497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D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48760" y="3298680"/>
            <a:ext cx="131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84"/>
                </a:solidFill>
                <a:latin typeface="Arial"/>
              </a:rPr>
              <a:t>LDL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HD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320" y="622440"/>
            <a:ext cx="3809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DL = high density liqu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DL = low density liquid, is a random tetrahedral network (RTN) liquid, that form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operative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rcRect l="17060" t="17060" r="17535" b="17535"/>
          <a:stretch/>
        </p:blipFill>
        <p:spPr>
          <a:xfrm>
            <a:off x="4800600" y="426708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873760" y="3143160"/>
            <a:ext cx="152280" cy="152640"/>
          </a:xfrm>
          <a:prstGeom prst="ellipse">
            <a:avLst/>
          </a:prstGeom>
          <a:solidFill>
            <a:srgbClr val="0000ff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76320" y="2438280"/>
            <a:ext cx="3657600" cy="35625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 flipV="1">
            <a:off x="2057400" y="4495680"/>
            <a:ext cx="0" cy="106704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93320" y="3747960"/>
            <a:ext cx="49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11120" y="49528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84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372680" y="49528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93200" y="26812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94 g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0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438280" y="760320"/>
            <a:ext cx="6705720" cy="57168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84"/>
                </a:solidFill>
                <a:latin typeface="Arial"/>
              </a:rPr>
              <a:t>Development of the RTN in ST2 water</a:t>
            </a:r>
            <a:endParaRPr b="1" lang="en-US" sz="2800" spc="-1" strike="noStrike">
              <a:solidFill>
                <a:srgbClr val="010084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960" y="3074760"/>
            <a:ext cx="25146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cc"/>
              </a:buClr>
              <a:buSzPct val="11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TMD in ST2 water corresponds to T range in which 5th nn is expelled from 1st coordination sh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429000" y="4514760"/>
            <a:ext cx="327672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500"/>
                </a:solidFill>
                <a:latin typeface="Arial"/>
              </a:rPr>
              <a:t>Minimum of pressure isochore corresponds to TM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76920" y="5181480"/>
            <a:ext cx="0" cy="457200"/>
          </a:xfrm>
          <a:prstGeom prst="line">
            <a:avLst/>
          </a:prstGeom>
          <a:ln w="38160">
            <a:solidFill>
              <a:srgbClr val="0095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057400" y="1447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5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95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057400" y="9144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57400" y="19810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438280" y="1219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38280" y="1752480"/>
            <a:ext cx="142884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38280" y="2286000"/>
            <a:ext cx="1406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138744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-O i-th nn RDF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64920" y="5470560"/>
            <a:ext cx="199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1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density=0.83 g/cm</a:t>
            </a:r>
            <a:r>
              <a:rPr b="1" lang="en-US" sz="1600" spc="-1" strike="noStrike" baseline="30000">
                <a:solidFill>
                  <a:srgbClr val="cc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84"/>
                </a:solidFill>
                <a:latin typeface="Arial"/>
              </a:rPr>
              <a:t>Development of the RTN in BKS silica</a:t>
            </a:r>
            <a:endParaRPr b="1" lang="en-US" sz="2800" spc="-1" strike="noStrike">
              <a:solidFill>
                <a:srgbClr val="010084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5960" y="2742840"/>
            <a:ext cx="2514600" cy="29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cc"/>
              </a:buClr>
              <a:buSzPct val="11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As in ST2, TMD seen in BKS corresponds to T range in which 5th nn is expelled from 1st coordination sh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514600" y="685800"/>
            <a:ext cx="6477120" cy="56674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419720" y="4419720"/>
            <a:ext cx="32763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500"/>
                </a:solidFill>
                <a:latin typeface="Arial"/>
              </a:rPr>
              <a:t>Minimum of pressure isochore corresponds to TM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19920" y="5029200"/>
            <a:ext cx="0" cy="457200"/>
          </a:xfrm>
          <a:prstGeom prst="line">
            <a:avLst/>
          </a:prstGeom>
          <a:ln w="38160">
            <a:solidFill>
              <a:srgbClr val="0095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057400" y="1447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5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95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057400" y="9144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057400" y="19810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438280" y="12193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438280" y="175248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438280" y="2286000"/>
            <a:ext cx="1600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52280" y="138744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-O i-th nn RDF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020360" y="5470560"/>
            <a:ext cx="188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1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density=2.3 g/cm</a:t>
            </a:r>
            <a:r>
              <a:rPr b="1" lang="en-US" sz="1600" spc="-1" strike="noStrike" baseline="30000">
                <a:solidFill>
                  <a:srgbClr val="cc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010640" cy="51436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3776760" y="3216240"/>
            <a:ext cx="642960" cy="2270160"/>
          </a:xfrm>
          <a:custGeom>
            <a:avLst/>
            <a:gdLst/>
            <a:ahLst/>
            <a:rect l="l" t="t" r="r" b="b"/>
            <a:pathLst>
              <a:path w="405" h="1430">
                <a:moveTo>
                  <a:pt x="0" y="1417"/>
                </a:moveTo>
                <a:cubicBezTo>
                  <a:pt x="7" y="1293"/>
                  <a:pt x="17" y="910"/>
                  <a:pt x="50" y="674"/>
                </a:cubicBezTo>
                <a:cubicBezTo>
                  <a:pt x="83" y="438"/>
                  <a:pt x="153" y="6"/>
                  <a:pt x="200" y="3"/>
                </a:cubicBezTo>
                <a:cubicBezTo>
                  <a:pt x="247" y="0"/>
                  <a:pt x="301" y="415"/>
                  <a:pt x="335" y="653"/>
                </a:cubicBezTo>
                <a:cubicBezTo>
                  <a:pt x="369" y="891"/>
                  <a:pt x="391" y="1268"/>
                  <a:pt x="405" y="1430"/>
                </a:cubicBezTo>
              </a:path>
            </a:pathLst>
          </a:custGeom>
          <a:noFill/>
          <a:ln w="38160">
            <a:solidFill>
              <a:srgbClr val="01008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84"/>
                </a:solidFill>
                <a:latin typeface="Arial"/>
              </a:rPr>
              <a:t>Curvature at TMD</a:t>
            </a:r>
            <a:endParaRPr b="1" lang="en-US" sz="2800" spc="-1" strike="noStrike">
              <a:solidFill>
                <a:srgbClr val="010084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3124080" y="5600880"/>
            <a:ext cx="187560" cy="342720"/>
          </a:xfrm>
          <a:prstGeom prst="line">
            <a:avLst/>
          </a:prstGeom>
          <a:ln w="38160">
            <a:solidFill>
              <a:srgbClr val="0095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43000" y="5927760"/>
            <a:ext cx="3124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500"/>
                </a:solidFill>
                <a:latin typeface="Arial"/>
              </a:rPr>
              <a:t>Density of BKS silica along P=-1.9GPa isobar, where density at TMD is 2.3 g/cm</a:t>
            </a:r>
            <a:r>
              <a:rPr b="1" lang="en-US" sz="1600" spc="-1" strike="noStrike" baseline="30000">
                <a:solidFill>
                  <a:srgbClr val="0095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" y="1066680"/>
            <a:ext cx="853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99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BKS silica and ST2 water have much sharper TMD’s than real si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3152880"/>
            <a:ext cx="152280" cy="15228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03680" y="5389560"/>
            <a:ext cx="152280" cy="152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45120" y="4191120"/>
            <a:ext cx="152280" cy="152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x0016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336920" y="5397480"/>
            <a:ext cx="152640" cy="152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86120" y="4202280"/>
            <a:ext cx="152640" cy="152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030560" y="3151080"/>
            <a:ext cx="152640" cy="152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100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4512960" y="5544720"/>
            <a:ext cx="1811160" cy="39852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352680" y="3200400"/>
            <a:ext cx="1295640" cy="2286000"/>
          </a:xfrm>
          <a:custGeom>
            <a:avLst/>
            <a:gdLst/>
            <a:ahLst/>
            <a:rect l="l" t="t" r="r" b="b"/>
            <a:pathLst>
              <a:path w="816" h="1440">
                <a:moveTo>
                  <a:pt x="0" y="1440"/>
                </a:moveTo>
                <a:cubicBezTo>
                  <a:pt x="56" y="1128"/>
                  <a:pt x="112" y="816"/>
                  <a:pt x="192" y="576"/>
                </a:cubicBezTo>
                <a:cubicBezTo>
                  <a:pt x="272" y="336"/>
                  <a:pt x="392" y="0"/>
                  <a:pt x="480" y="0"/>
                </a:cubicBezTo>
                <a:cubicBezTo>
                  <a:pt x="568" y="0"/>
                  <a:pt x="664" y="336"/>
                  <a:pt x="720" y="576"/>
                </a:cubicBezTo>
                <a:cubicBezTo>
                  <a:pt x="776" y="816"/>
                  <a:pt x="800" y="1296"/>
                  <a:pt x="816" y="144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638680" y="5943600"/>
            <a:ext cx="3124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84"/>
                </a:solidFill>
                <a:latin typeface="Arial"/>
              </a:rPr>
              <a:t>Density of ST2 along P=0 MPa isobar, where density at TMD is 0.93 g/cm</a:t>
            </a:r>
            <a:r>
              <a:rPr b="1" lang="en-US" sz="1600" spc="-1" strike="noStrike" baseline="30000">
                <a:solidFill>
                  <a:srgbClr val="010084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76720" y="5410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581280" y="40165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21160" y="40384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616280" y="54100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84"/>
                </a:solidFill>
                <a:latin typeface="Arial"/>
              </a:rPr>
              <a:t>The story so far…</a:t>
            </a:r>
            <a:endParaRPr b="1" lang="en-US" sz="2800" spc="-1" strike="noStrike">
              <a:solidFill>
                <a:srgbClr val="010084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48320" y="609120"/>
            <a:ext cx="44193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000000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ther BKS is just a poor model of real silica…i.e. too water-li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000000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, there a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MD’s in real silic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30492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figurational TMD”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33480" indent="-30492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t higher T, near onset of fragile-to-strong cross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33480" indent="-30492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ater-like” TMD, involving emergence of RT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304920">
              <a:spcBef>
                <a:spcPts val="45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Vibrational TMD”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33480" indent="-304920"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At lower T, well below fragile-to-strong cross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33480" indent="-304920"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Viscous liquid version of TMD in (well-formed) amorphous and (perfectly-formed) crystalline tetrahedral networ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33480" indent="-304920"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Ice I</a:t>
            </a:r>
            <a:r>
              <a:rPr b="0" lang="en-US" sz="1800" spc="-1" strike="noStrike" baseline="-25000">
                <a:solidFill>
                  <a:srgbClr val="008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, a-SiO</a:t>
            </a:r>
            <a:r>
              <a:rPr b="0" lang="en-US" sz="1800" spc="-1" strike="noStrike" baseline="-25000">
                <a:solidFill>
                  <a:srgbClr val="008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, and perhaps LDA ice all have density maxima. (H. Tanaka, 2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76320" y="2254320"/>
            <a:ext cx="4647960" cy="4298760"/>
            <a:chOff x="76320" y="2254320"/>
            <a:chExt cx="4647960" cy="4298760"/>
          </a:xfrm>
        </p:grpSpPr>
        <p:pic>
          <p:nvPicPr>
            <p:cNvPr id="273" name="" descr=""/>
            <p:cNvPicPr/>
            <p:nvPr/>
          </p:nvPicPr>
          <p:blipFill>
            <a:blip r:embed="rId1"/>
            <a:stretch/>
          </p:blipFill>
          <p:spPr>
            <a:xfrm>
              <a:off x="76320" y="2254320"/>
              <a:ext cx="4647960" cy="42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88760" y="3835080"/>
              <a:ext cx="1439640" cy="236160"/>
            </a:xfrm>
            <a:custGeom>
              <a:avLst/>
              <a:gdLst/>
              <a:ahLst/>
              <a:rect l="l" t="t" r="r" b="b"/>
              <a:pathLst>
                <a:path w="1011" h="176">
                  <a:moveTo>
                    <a:pt x="0" y="24"/>
                  </a:moveTo>
                  <a:cubicBezTo>
                    <a:pt x="73" y="38"/>
                    <a:pt x="308" y="112"/>
                    <a:pt x="436" y="110"/>
                  </a:cubicBezTo>
                  <a:cubicBezTo>
                    <a:pt x="564" y="108"/>
                    <a:pt x="671" y="0"/>
                    <a:pt x="767" y="11"/>
                  </a:cubicBezTo>
                  <a:cubicBezTo>
                    <a:pt x="863" y="22"/>
                    <a:pt x="960" y="142"/>
                    <a:pt x="1011" y="176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1920" y="4066920"/>
              <a:ext cx="14364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599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500"/>
                  </a:solidFill>
                  <a:latin typeface="Arial"/>
                </a:rPr>
                <a:t>“</a:t>
              </a:r>
              <a:r>
                <a:rPr b="1" lang="en-US" sz="1600" spc="-1" strike="noStrike">
                  <a:solidFill>
                    <a:srgbClr val="009500"/>
                  </a:solidFill>
                  <a:latin typeface="Arial"/>
                </a:rPr>
                <a:t>vibrational TMD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442880" y="2491920"/>
              <a:ext cx="1434600" cy="90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599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quires temperature of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minimum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density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1922400" y="3484440"/>
              <a:ext cx="136080" cy="32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350800" y="5586120"/>
              <a:ext cx="2122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599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“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configurational TMD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76320" y="609480"/>
            <a:ext cx="4419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04920" indent="-30492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SzPct val="11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MD in BKS and ST2 are alike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2200" indent="-304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2200" indent="-304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2200" indent="-304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modynamic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-30492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SzPct val="11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oth differ from TMD in real sil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84"/>
                </a:solidFill>
                <a:latin typeface="Arial"/>
              </a:rPr>
              <a:t>A density </a:t>
            </a:r>
            <a:r>
              <a:rPr b="1" i="1" lang="en-US" sz="2800" spc="-1" strike="noStrike">
                <a:solidFill>
                  <a:srgbClr val="010084"/>
                </a:solidFill>
                <a:latin typeface="Arial"/>
              </a:rPr>
              <a:t>minimum</a:t>
            </a:r>
            <a:r>
              <a:rPr b="1" lang="en-US" sz="2800" spc="-1" strike="noStrike">
                <a:solidFill>
                  <a:srgbClr val="010084"/>
                </a:solidFill>
                <a:latin typeface="Arial"/>
              </a:rPr>
              <a:t> in BKS or ST2? </a:t>
            </a:r>
            <a:endParaRPr b="1" lang="en-US" sz="2800" spc="-1" strike="noStrike">
              <a:solidFill>
                <a:srgbClr val="010084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4675320"/>
            <a:ext cx="4191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KS si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ensity = 2.37 gm/cm3 isoch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rom Horbach and Kob (PRB, 9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05520" y="4846680"/>
            <a:ext cx="396216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2 w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=80 Mpa isob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rom Paschek and Geiger (JPC, 9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0" y="806400"/>
            <a:ext cx="4800600" cy="38019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4876920" y="885960"/>
            <a:ext cx="3962160" cy="37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84"/>
                </a:solidFill>
                <a:latin typeface="Arial"/>
              </a:rPr>
              <a:t>Two tetrahedral liquid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10084"/>
                </a:solidFill>
                <a:latin typeface="Arial"/>
              </a:rPr>
              <a:t>silica                           water</a:t>
            </a:r>
            <a:endParaRPr b="1" lang="en-US" sz="2800" spc="-1" strike="noStrike">
              <a:solidFill>
                <a:srgbClr val="010084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80880" y="3359160"/>
            <a:ext cx="2514600" cy="1746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629400" y="3276720"/>
            <a:ext cx="1841400" cy="2514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rcRect l="0" t="0" r="38463" b="10649"/>
          <a:stretch/>
        </p:blipFill>
        <p:spPr>
          <a:xfrm>
            <a:off x="990720" y="1324080"/>
            <a:ext cx="3504960" cy="1724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5715000" y="933480"/>
            <a:ext cx="2147760" cy="2266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3124080" y="3124080"/>
            <a:ext cx="32641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6400800" cy="60055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84"/>
                </a:solidFill>
                <a:latin typeface="Arial"/>
              </a:rPr>
              <a:t>Isochores of liquid ST2 water</a:t>
            </a:r>
            <a:endParaRPr b="1" lang="en-US" sz="2800" spc="-1" strike="noStrike">
              <a:solidFill>
                <a:srgbClr val="010084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268360" y="3809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D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209320" y="914400"/>
            <a:ext cx="8384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507120" y="484488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84"/>
                </a:solidFill>
                <a:latin typeface="Arial"/>
              </a:rPr>
              <a:t>Density minimum and C</a:t>
            </a:r>
            <a:r>
              <a:rPr b="1" lang="en-US" sz="2800" spc="-1" strike="noStrike" baseline="-25000">
                <a:solidFill>
                  <a:srgbClr val="010084"/>
                </a:solidFill>
                <a:latin typeface="Arial"/>
              </a:rPr>
              <a:t>V</a:t>
            </a:r>
            <a:r>
              <a:rPr b="1" lang="en-US" sz="2800" spc="-1" strike="noStrike">
                <a:solidFill>
                  <a:srgbClr val="010084"/>
                </a:solidFill>
                <a:latin typeface="Arial"/>
              </a:rPr>
              <a:t> maximum in ST2 water</a:t>
            </a:r>
            <a:endParaRPr b="1" lang="en-US" sz="2800" spc="-1" strike="noStrike">
              <a:solidFill>
                <a:srgbClr val="010084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4495680" cy="43182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419720" cy="42386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/>
          <a:srcRect l="7410" t="11113" r="11113" b="12347"/>
          <a:stretch/>
        </p:blipFill>
        <p:spPr>
          <a:xfrm>
            <a:off x="7162920" y="4987800"/>
            <a:ext cx="1828800" cy="17179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457200" y="511812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nfirm hint of a density minimum in N=1728 system, use N=216 to reach lower T in the same compute ti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verage each isochore over 40 independent runs, to reduce uncertaint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162920" y="2362320"/>
            <a:ext cx="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67960" y="1995480"/>
            <a:ext cx="2090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lection =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7080" y="1371600"/>
            <a:ext cx="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30360" y="103500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lection in 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3276720" y="762120"/>
            <a:ext cx="5867280" cy="515916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0920" y="76320"/>
            <a:ext cx="9068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84"/>
                </a:solidFill>
                <a:latin typeface="Arial"/>
              </a:rPr>
              <a:t>Implications of a density minimum for the energy landscape</a:t>
            </a:r>
            <a:endParaRPr b="1" lang="en-US" sz="2800" spc="-1" strike="noStrike">
              <a:solidFill>
                <a:srgbClr val="010084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3581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451"/>
              </a:spcBef>
              <a:buClr>
                <a:srgbClr val="000000"/>
              </a:buClr>
              <a:buSzPct val="11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system approaches the bottom of the landscape, configurational influences on thermodynamic properties fade, restoring positive expansiv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51"/>
              </a:spcBef>
              <a:buClr>
                <a:srgbClr val="000000"/>
              </a:buClr>
              <a:buSzPct val="11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ortino, La Nave and Tartaglia, PRL (2003):  Assuming a Gaussian distribution of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t most one density anomaly (a maximum) is possibl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51"/>
              </a:spcBef>
              <a:buClr>
                <a:srgbClr val="000000"/>
              </a:buClr>
              <a:buSzPct val="11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occurrence of a density minimum implies the breakdown of this assumption, as shown directly by Heuer (this conferenc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330120" y="4070520"/>
                <a:ext cx="28702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T</m:t>
                    </m:r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4038480" y="3733920"/>
            <a:ext cx="186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om of the energy landsc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838080" y="6248520"/>
            <a:ext cx="4648320" cy="3650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3505320" y="5400720"/>
            <a:ext cx="1361880" cy="69516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84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10084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52280" y="380520"/>
            <a:ext cx="8763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SzPct val="11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RTN substances may exhibit several kinds of density anoma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2680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A high-T density maximum in the liquid phase driven by the initial formation of the RTN (e.g. real water, BKS silic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2680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A density minimum in the liquid in the region of the fragile-to-strong crossover (e.g. ST2 wate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2680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A density maximum of vibrational origin in crystal and amorphous solid forms (e.g. ice I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, a-SiO</a:t>
            </a:r>
            <a:r>
              <a:rPr b="1" lang="en-US" sz="1800" spc="-1" strike="noStrike" baseline="-25000">
                <a:solidFill>
                  <a:srgbClr val="008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, and perhaps LDA ic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2680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A density maximum in the strong liquid regime…perhaps (mostly) vibrational in origin (e.g. real liquid silic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51"/>
              </a:spcBef>
              <a:buClr>
                <a:srgbClr val="010084"/>
              </a:buClr>
              <a:buSzPct val="11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84"/>
                </a:solidFill>
                <a:latin typeface="Arial"/>
              </a:rPr>
              <a:t>Existence of a density minimum indicates that the assumption of a Gaussian distribution of inherent structure energies breaks down in the fragile-to-strong crossover region, as the system probes the bottom of the landsca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1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o…water and silica are alike in that they both have density maxima, but the physical origins of these two TMD’s may be quite differ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4876920"/>
            <a:ext cx="8991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84"/>
                </a:solidFill>
                <a:latin typeface="Arial"/>
              </a:rPr>
              <a:t>Thanks t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3"/>
          <a:srcRect l="9078" t="46341" r="13759" b="9761"/>
          <a:stretch/>
        </p:blipFill>
        <p:spPr>
          <a:xfrm>
            <a:off x="4876920" y="5715000"/>
            <a:ext cx="3581280" cy="94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38080" y="1562040"/>
            <a:ext cx="7010640" cy="51436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84"/>
                </a:solidFill>
                <a:latin typeface="Arial"/>
              </a:rPr>
              <a:t>Thermodynamically similar: temperature of maximum density (TMD) in silica and water</a:t>
            </a:r>
            <a:endParaRPr b="1" lang="en-US" sz="2800" spc="-1" strike="noStrike">
              <a:solidFill>
                <a:srgbClr val="010084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1219320"/>
            <a:ext cx="652320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99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Angell and Kanno, Science (1976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199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MD of water and silica, scaled for compari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76320" y="228600"/>
            <a:ext cx="899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ut dynamically different: silica is strong, water is frag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1066680"/>
            <a:ext cx="54100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9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gell’s classification of glass-forming liquids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12359" t="7730" r="12359" b="2964"/>
          <a:stretch/>
        </p:blipFill>
        <p:spPr>
          <a:xfrm>
            <a:off x="457200" y="1295280"/>
            <a:ext cx="5105520" cy="4732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914400" y="5867280"/>
            <a:ext cx="2133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99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 from Debenedetti and Stillinger, Nature (200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4056120"/>
            <a:ext cx="871560" cy="42372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4724280"/>
            <a:ext cx="1143000" cy="588960"/>
          </a:xfrm>
          <a:custGeom>
            <a:avLst/>
            <a:gdLst/>
            <a:ahLst/>
            <a:rect l="l" t="t" r="r" b="b"/>
            <a:pathLst>
              <a:path w="528" h="192">
                <a:moveTo>
                  <a:pt x="0" y="192"/>
                </a:moveTo>
                <a:cubicBezTo>
                  <a:pt x="100" y="184"/>
                  <a:pt x="200" y="176"/>
                  <a:pt x="288" y="144"/>
                </a:cubicBezTo>
                <a:cubicBezTo>
                  <a:pt x="376" y="112"/>
                  <a:pt x="452" y="56"/>
                  <a:pt x="528" y="0"/>
                </a:cubicBezTo>
              </a:path>
            </a:pathLst>
          </a:custGeom>
          <a:noFill/>
          <a:ln w="82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46483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Arial"/>
              </a:rPr>
              <a:t>Wa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1219320"/>
            <a:ext cx="3429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46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the connection between dynamics and thermodynamic properties suggested by the Adam Gibbs relation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can these two substances share such a rare thermodynamic behavior (a TMD), yet exhibit it in such different dynamical regim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200400" y="5181120"/>
            <a:ext cx="0" cy="30492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63800" y="54100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TM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572000" y="2895120"/>
            <a:ext cx="0" cy="30492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41880" y="31240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TM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846760" y="2743200"/>
                <a:ext cx="29354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S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8971" t="4480" r="7237" b="4480"/>
          <a:stretch/>
        </p:blipFill>
        <p:spPr>
          <a:xfrm>
            <a:off x="304920" y="990720"/>
            <a:ext cx="4546440" cy="4952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429000" y="1066680"/>
            <a:ext cx="83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99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257800" y="2286000"/>
                <a:ext cx="3352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r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84"/>
                </a:solidFill>
                <a:latin typeface="Arial"/>
              </a:rPr>
              <a:t>Molecular dynamics simulations of BKS silica</a:t>
            </a:r>
            <a:endParaRPr b="1" lang="en-US" sz="2800" spc="-1" strike="noStrike">
              <a:solidFill>
                <a:srgbClr val="01008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876560" y="1066680"/>
            <a:ext cx="4190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KS silica pair potential:  Van Beest, et al., 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ed soft spheres; ignores polarizability, 3-body interaction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range forces evaluated via Ewald met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, we add switching function to real-space part of potent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 (N,V,E) molecular dynamics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32 ions (888 O, 444 S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Saika-Voivod, et al., PRE (2004) for simulation detai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89913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84"/>
                </a:solidFill>
                <a:latin typeface="Arial"/>
              </a:rPr>
              <a:t>Dynamics and the energy landscape in BKS silica</a:t>
            </a:r>
            <a:endParaRPr b="1" lang="en-US" sz="2800" spc="-1" strike="noStrike">
              <a:solidFill>
                <a:srgbClr val="010084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6320" y="623880"/>
            <a:ext cx="5181480" cy="417672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4419720" y="3124080"/>
            <a:ext cx="4571640" cy="3505320"/>
            <a:chOff x="4419720" y="3124080"/>
            <a:chExt cx="4571640" cy="3505320"/>
          </a:xfrm>
        </p:grpSpPr>
        <p:pic>
          <p:nvPicPr>
            <p:cNvPr id="110" name="" descr=""/>
            <p:cNvPicPr/>
            <p:nvPr/>
          </p:nvPicPr>
          <p:blipFill>
            <a:blip r:embed="rId2"/>
            <a:srcRect l="17188" t="13280" r="12500" b="14845"/>
            <a:stretch/>
          </p:blipFill>
          <p:spPr>
            <a:xfrm>
              <a:off x="4419720" y="3124080"/>
              <a:ext cx="451476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6877080" y="5322240"/>
              <a:ext cx="211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fle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7162560" y="4975920"/>
              <a:ext cx="171360" cy="34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5181480" y="685800"/>
            <a:ext cx="381024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lnSpc>
                <a:spcPct val="100000"/>
              </a:lnSpc>
              <a:spcBef>
                <a:spcPts val="1001"/>
              </a:spcBef>
              <a:buClr>
                <a:srgbClr val="0099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At high density, liquid remains fragile over observed range of 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rbach and Kob (PRB, 99)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showed that at low density, liquid is fragile at high T, but becomes progressively more Arrhenius as T decreas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65360" y="4782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5029200"/>
            <a:ext cx="3657600" cy="17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lnSpc>
                <a:spcPct val="100000"/>
              </a:lnSpc>
              <a:spcBef>
                <a:spcPts val="1001"/>
              </a:spcBef>
              <a:buClr>
                <a:srgbClr val="0099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At high density, inherent structure energy, e</a:t>
            </a:r>
            <a:r>
              <a:rPr b="1" lang="en-US" sz="1600" spc="-1" strike="noStrike" baseline="-25000">
                <a:solidFill>
                  <a:srgbClr val="009900"/>
                </a:solidFill>
                <a:latin typeface="Arial"/>
              </a:rPr>
              <a:t>IS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decreases rapidly, as found for BLJ liqui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lnSpc>
                <a:spcPct val="100000"/>
              </a:lnSpc>
              <a:spcBef>
                <a:spcPts val="1001"/>
              </a:spcBef>
              <a:buClr>
                <a:srgbClr val="0099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At low density, e</a:t>
            </a:r>
            <a:r>
              <a:rPr b="1" lang="en-US" sz="1600" spc="-1" strike="noStrike" baseline="-25000">
                <a:solidFill>
                  <a:srgbClr val="009900"/>
                </a:solidFill>
                <a:latin typeface="Arial"/>
              </a:rPr>
              <a:t>IS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inflects, suggesting the approach to a constant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74600" y="2743200"/>
            <a:ext cx="2527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ika-Voivod, et al., Nature (200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ika-Voivod, et al., PRE (20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6320" y="873000"/>
            <a:ext cx="6933960" cy="53802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89913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84"/>
                </a:solidFill>
                <a:latin typeface="Arial"/>
              </a:rPr>
              <a:t>Energy and specific heat of BKS silica</a:t>
            </a:r>
            <a:endParaRPr b="1" lang="en-US" sz="2800" spc="-1" strike="noStrike">
              <a:solidFill>
                <a:srgbClr val="010084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82200" y="2819520"/>
            <a:ext cx="67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199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crys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87840" y="1752480"/>
            <a:ext cx="58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199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34320" y="1295280"/>
            <a:ext cx="19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1295280"/>
            <a:ext cx="228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ning of fragile-to-strong crossover is accompanied by a specific heat anomaly in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modynamic properti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95680" y="4952880"/>
            <a:ext cx="108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199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from e</a:t>
            </a:r>
            <a:r>
              <a:rPr b="1" lang="en-US" sz="1200" spc="-1" strike="noStrike" baseline="-25000">
                <a:solidFill>
                  <a:srgbClr val="cc0000"/>
                </a:solidFill>
                <a:latin typeface="Arial"/>
              </a:rPr>
              <a:t>IS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34960" y="3641760"/>
            <a:ext cx="90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199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n-US" sz="1200" spc="-1" strike="noStrike" baseline="-25000">
                <a:solidFill>
                  <a:srgbClr val="cc0000"/>
                </a:solidFill>
                <a:latin typeface="Arial"/>
              </a:rPr>
              <a:t>V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 - (3/2)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42640" y="6324480"/>
            <a:ext cx="2527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ika-Voivod, et al., Nature (200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ika-Voivod, et al., PRE (20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rcRect l="7263" t="8147" r="14609" b="10565"/>
          <a:stretch/>
        </p:blipFill>
        <p:spPr>
          <a:xfrm>
            <a:off x="0" y="685800"/>
            <a:ext cx="4572000" cy="39495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343400" y="685800"/>
            <a:ext cx="4724280" cy="3862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620120" y="2752560"/>
            <a:ext cx="9144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frag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743280"/>
            <a:ext cx="9144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stro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3908520"/>
            <a:ext cx="9144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stro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3886200"/>
            <a:ext cx="9144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315200" y="3733920"/>
            <a:ext cx="9144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99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1" lang="en-US" sz="1400" spc="-1" strike="noStrike" baseline="-25000">
                <a:solidFill>
                  <a:srgbClr val="0033cc"/>
                </a:solidFill>
                <a:latin typeface="Arial"/>
              </a:rPr>
              <a:t>V </a:t>
            </a: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m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84"/>
                </a:solidFill>
                <a:latin typeface="Arial"/>
              </a:rPr>
              <a:t>Comparison of real silica and BKS phase diagrams</a:t>
            </a:r>
            <a:endParaRPr b="1" lang="en-US" sz="2800" spc="-1" strike="noStrike">
              <a:solidFill>
                <a:srgbClr val="010084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4572000"/>
            <a:ext cx="83818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172800" indent="-172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ure range of crystal stability fields is too lo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erature of melting lines too high; triple points up to 30% too hig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topology is correct: BKS exhibits a silica-like phase diagra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t…TMD is up to 170% too high (!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2800" indent="-1728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11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s the BKS TMD silica-like or water-lik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52880" y="1066680"/>
            <a:ext cx="19814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 = liqu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= stishov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 = coes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 = beta quart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21600" y="6507000"/>
            <a:ext cx="27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ika-Voivod, et al., cond-mat (20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429000" y="1066680"/>
            <a:ext cx="83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99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89913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84"/>
                </a:solidFill>
                <a:latin typeface="Arial"/>
              </a:rPr>
              <a:t>Molecular dynamics simulations of ST2 water</a:t>
            </a:r>
            <a:endParaRPr b="1" lang="en-US" sz="2800" spc="-1" strike="noStrike">
              <a:solidFill>
                <a:srgbClr val="01008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562720" y="762120"/>
            <a:ext cx="3504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2 water pair potential:  Stillinger and Rahman (197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ve-site rigid molecule: one O atom, two H atoms and two “lone pair” si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 (N,V) molecular dynamics simulations with Berendsen thermost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28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librated at 2633 state po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1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libration/production time is greater of 0.5 ns and time for msd to exceed 1.0 n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9232" t="9232" r="10770" b="9232"/>
          <a:stretch/>
        </p:blipFill>
        <p:spPr>
          <a:xfrm>
            <a:off x="152280" y="762120"/>
            <a:ext cx="5308560" cy="5410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17:28:58Z</dcterms:created>
  <dc:creator>Peter Poole</dc:creator>
  <dc:description/>
  <dc:language>en-US</dc:language>
  <cp:lastModifiedBy>Administrator</cp:lastModifiedBy>
  <dcterms:modified xsi:type="dcterms:W3CDTF">2006-03-10T14:44:00Z</dcterms:modified>
  <cp:revision>81</cp:revision>
  <dc:subject/>
  <dc:title>PowerPoint Presentation</dc:title>
</cp:coreProperties>
</file>