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3.jpeg" ContentType="image/jpeg"/>
  <Override PartName="/ppt/media/image30.png" ContentType="image/png"/>
  <Override PartName="/ppt/media/image37.jpeg" ContentType="image/jpeg"/>
  <Override PartName="/ppt/media/image41.png" ContentType="image/png"/>
  <Override PartName="/ppt/media/image11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CF7C-621F-40E0-ADAD-73619CF4253B}" type="slidenum"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fcvf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 of the width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C45-C392-4DFB-802A-F147D0FE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39C-C007-4F4B-9A4F-E2F2DBC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853-6505-43FE-9A66-FBC9B71C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19D-54FB-46CE-A2C1-AC6EF6E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E8E-820D-4CA8-A9C0-3364CCA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7238520"/>
            <a:ext cx="64008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BCA-B0AD-49B1-83AF-2953CE1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991-4F57-4BB0-A232-47D84FE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49A-6F4B-4538-8838-15B4994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BD-06D7-4B9F-B838-4AF7EAA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39D-0088-48CE-A120-64F1905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722-CBC5-4EE8-A72E-934326CA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9E3-11A6-44EC-92C2-C20EABF7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238520"/>
            <a:ext cx="64008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541920"/>
            <a:ext cx="1905120" cy="316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609480" cy="582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924680" cy="624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2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45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795-2C0F-4B62-AA46-52558E6F1F35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914400"/>
            <a:ext cx="762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low anomalous dynamics close to MCT higher order singularities. A numerical study of short-range attractive colloid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and some additional com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8954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ancesco Scior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ail: francesco.sciortino@phys.uniroma1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4159080"/>
            <a:ext cx="2819520" cy="269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308400" cy="806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tolo 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GMG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apri, Jun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Isodiffusivity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0"/>
            <a:ext cx="76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Isodiffusivity curves       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Times New Roman"/>
              </a:rPr>
              <a:t>(MD Binary Hard Sphe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080" y="5867280"/>
            <a:ext cx="39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ccarelli et al P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041402 (2002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8618" t="6281" r="6285" b="8608"/>
          <a:stretch/>
        </p:blipFill>
        <p:spPr>
          <a:xfrm>
            <a:off x="304920" y="533520"/>
            <a:ext cx="6019560" cy="4647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11324" t="11073" r="7029" b="17271"/>
          <a:stretch/>
        </p:blipFill>
        <p:spPr>
          <a:xfrm>
            <a:off x="4952880" y="4016520"/>
            <a:ext cx="41911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cing the A4 poi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cing the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int: Theory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34426" t="19465" r="1637" b="19397"/>
          <a:stretch/>
        </p:blipFill>
        <p:spPr>
          <a:xfrm>
            <a:off x="457200" y="380880"/>
            <a:ext cx="7848720" cy="580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867280" y="5486400"/>
            <a:ext cx="3276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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1.897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0.39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M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0.5882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 0.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286000"/>
            <a:ext cx="5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6160" y="2438280"/>
            <a:ext cx="18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Y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360" y="548640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 et al, cond-mat/0304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91440" y="6461280"/>
            <a:ext cx="67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-MCT overestimates ideal attractive glass T by a factor of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93840" y="120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SD logaritmic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619400" y="1295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4313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3741" t="6822" r="0" b="0"/>
          <a:stretch/>
        </p:blipFill>
        <p:spPr>
          <a:xfrm>
            <a:off x="685800" y="538200"/>
            <a:ext cx="8458200" cy="6319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44520" y="868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lope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4172" t="8110" r="5067" b="0"/>
          <a:stretch/>
        </p:blipFill>
        <p:spPr>
          <a:xfrm>
            <a:off x="685800" y="609480"/>
            <a:ext cx="7086600" cy="553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18480" y="6172200"/>
            <a:ext cx="6354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n(t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i(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30200" y="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ame T and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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different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13042" t="0" r="25216" b="0"/>
          <a:stretch/>
        </p:blipFill>
        <p:spPr>
          <a:xfrm>
            <a:off x="3048120" y="0"/>
            <a:ext cx="5410080" cy="6772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i h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040" y="1447920"/>
            <a:ext cx="3299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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t)-f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/h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9000" y="1295280"/>
            <a:ext cx="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296120" cy="5638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22680" y="6097680"/>
            <a:ext cx="656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n(t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(q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eck List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entrance (glass-liquid-g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both experiments and simulations)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√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4 dynamics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√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(simul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ass-glass transi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56320" y="289080"/>
            <a:ext cx="27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eck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22860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ass glass theo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4878" t="8289" r="47852" b="19386"/>
          <a:stretch/>
        </p:blipFill>
        <p:spPr>
          <a:xfrm>
            <a:off x="3276720" y="533520"/>
            <a:ext cx="5349600" cy="6324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239240" y="93024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w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520" y="3124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igh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rcRect l="5517" t="21813" r="38051" b="17588"/>
          <a:stretch/>
        </p:blipFill>
        <p:spPr>
          <a:xfrm>
            <a:off x="0" y="380880"/>
            <a:ext cx="3200400" cy="2646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438280" y="1295280"/>
            <a:ext cx="0" cy="121932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61563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11382" t="12437" r="25307" b="22219"/>
          <a:stretch/>
        </p:blipFill>
        <p:spPr>
          <a:xfrm>
            <a:off x="228600" y="3429000"/>
            <a:ext cx="3124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5517" t="21813" r="38051" b="17588"/>
          <a:stretch/>
        </p:blipFill>
        <p:spPr>
          <a:xfrm>
            <a:off x="0" y="0"/>
            <a:ext cx="2514600" cy="2079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19320" y="1066680"/>
            <a:ext cx="83808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57200"/>
            <a:ext cx="0" cy="121932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0" t="13850" r="10254" b="5474"/>
          <a:stretch/>
        </p:blipFill>
        <p:spPr>
          <a:xfrm>
            <a:off x="2057400" y="1676520"/>
            <a:ext cx="7086600" cy="4919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581280" y="4572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umping into the 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3840" y="649116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ccarelli et al, cond-mat/030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ass glas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The attractive glass is not stabl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4878" t="8289" r="47852" b="19386"/>
          <a:stretch/>
        </p:blipFill>
        <p:spPr>
          <a:xfrm>
            <a:off x="0" y="0"/>
            <a:ext cx="2063880" cy="2438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81800" y="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w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0" t="11141" r="32818" b="11110"/>
          <a:stretch/>
        </p:blipFill>
        <p:spPr>
          <a:xfrm>
            <a:off x="2057400" y="723960"/>
            <a:ext cx="6858000" cy="6134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057400" y="762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igh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46880" y="3484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54000" y="5783400"/>
            <a:ext cx="27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ccarelli et 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d-mat/0304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9360" y="0"/>
            <a:ext cx="8705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llaboration with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iuseppe Foff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ero Tarta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manuela Zaccar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lfgang Goetze, Thomas Voigtman, Mattias S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nneth Daw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llaboratori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93320" y="330660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as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13934" r="6411" b="6413"/>
          <a:stretch/>
        </p:blipFill>
        <p:spPr>
          <a:xfrm>
            <a:off x="609480" y="685800"/>
            <a:ext cx="7925040" cy="5207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fronto tempi diversi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flipV="1">
            <a:off x="533520" y="1828800"/>
            <a:ext cx="0" cy="144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3276720"/>
            <a:ext cx="12952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990720" y="32763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60" y="3429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4114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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990720" y="198072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nd  No-bon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4549" r="21824" b="0"/>
          <a:stretch/>
        </p:blipFill>
        <p:spPr>
          <a:xfrm>
            <a:off x="1828800" y="71280"/>
            <a:ext cx="6858000" cy="6465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3680" y="6216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8160" t="38912" r="32818" b="11110"/>
          <a:stretch/>
        </p:blipFill>
        <p:spPr>
          <a:xfrm>
            <a:off x="990720" y="1066680"/>
            <a:ext cx="7162560" cy="468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8160" t="38912" r="33896" b="11110"/>
          <a:stretch/>
        </p:blipFill>
        <p:spPr>
          <a:xfrm>
            <a:off x="990720" y="1066680"/>
            <a:ext cx="7010280" cy="46738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diagra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61504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4820" t="12505" r="34942" b="20459"/>
          <a:stretch/>
        </p:blipFill>
        <p:spPr>
          <a:xfrm>
            <a:off x="304920" y="501480"/>
            <a:ext cx="7391160" cy="63565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rcRect l="12455" t="11369" r="32818" b="36102"/>
          <a:stretch/>
        </p:blipFill>
        <p:spPr>
          <a:xfrm>
            <a:off x="3276720" y="1143000"/>
            <a:ext cx="4114800" cy="3052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q spinodal decomposi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summa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model for theoretical and numeric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dynamics - benchmark for microscopic theories of super-cooled liquid and glass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MCT does we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for activate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W model, the gel li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pproached from equilibrium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what are the colloidal gels ? What is the interaction potential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304920"/>
            <a:ext cx="470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77360" y="533520"/>
            <a:ext cx="838908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80"/>
                </a:solidFill>
                <a:latin typeface="Times New Roman"/>
              </a:rPr>
              <a:t>Structural Arrest Transitions in Colloidal Systems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80"/>
                </a:solidFill>
                <a:latin typeface="Times New Roman"/>
              </a:rPr>
              <a:t>with Short-Range Attr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Taormina, Italy, December  2003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 workshop organ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neva"/>
              </a:rPr>
              <a:t>Sow-Hsin Chen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(MIT)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neva"/>
              </a:rPr>
              <a:t>sowhsin@mit.edu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neva"/>
              </a:rPr>
              <a:t>Francesco Mallamace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(U of Messina)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neva"/>
              </a:rPr>
              <a:t>mallamac@mail.unime.it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neva"/>
              </a:rPr>
              <a:t>Francesco Sciortino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(U of Rome </a:t>
            </a:r>
            <a:r>
              <a:rPr b="0" i="1" lang="en-US" sz="1600" spc="-1" strike="noStrike">
                <a:solidFill>
                  <a:srgbClr val="000000"/>
                </a:solidFill>
                <a:latin typeface="Geneva"/>
              </a:rPr>
              <a:t>La Sapienza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)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neva"/>
              </a:rPr>
              <a:t>francesco.sciortino@phys.uniroma1.it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: To discuss, in depth, the recent progress on both the mode coup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heory predictions and their experimental tests on various aspects of structural arr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ransitions in colloidal systems with short-range attr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erver1.phys.uniroma1.it/DOCS/TA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blicita’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228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ertis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00200" y="952560"/>
            <a:ext cx="532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12683" t="53683" r="8387" b="17244"/>
          <a:stretch/>
        </p:blipFill>
        <p:spPr>
          <a:xfrm>
            <a:off x="380880" y="533520"/>
            <a:ext cx="8534520" cy="5746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876920" y="63403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van Megen and S.M. Underwood 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Phys. Rev. Lett.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, 2766 (199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S e  M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3458" t="82761" r="584" b="-534"/>
          <a:stretch/>
        </p:blipFill>
        <p:spPr>
          <a:xfrm>
            <a:off x="3657600" y="7543800"/>
            <a:ext cx="426708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352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6640" y="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S (slow)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CT fq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157640" cy="5715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89160" cy="5257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7848720" cy="1131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0880" y="7621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ML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04880" y="776160"/>
            <a:ext cx="837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04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Hard Sph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9810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19720"/>
            <a:ext cx="32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IE" sz="2000" spc="-1" strike="noStrike">
                <a:solidFill>
                  <a:srgbClr val="000000"/>
                </a:solidFill>
                <a:latin typeface="Times New Roman"/>
              </a:rPr>
              <a:t>=0.58, the system freezes forming disordered aggreg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4365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2216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CT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5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5589720"/>
            <a:ext cx="540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. van Megen and P.N. Pusey </a:t>
            </a: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Phys. Rev.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, 5429 (19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. Bengtzelius et al. </a:t>
            </a: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J. Phys.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, 5915  (198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. van Megen and S.M. Underwood </a:t>
            </a: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Phys. Rev. Lett.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, 2766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0" t="9346" r="0" b="0"/>
          <a:stretch/>
        </p:blipFill>
        <p:spPr>
          <a:xfrm>
            <a:off x="3405240" y="1295280"/>
            <a:ext cx="5738760" cy="3694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858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5800" y="1295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2096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143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080" y="3276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981080"/>
            <a:ext cx="380880" cy="1143000"/>
          </a:xfrm>
          <a:prstGeom prst="rect">
            <a:avLst/>
          </a:prstGeom>
          <a:gradFill rotWithShape="0">
            <a:gsLst>
              <a:gs pos="0">
                <a:srgbClr val="dafaf1"/>
              </a:gs>
              <a:gs pos="100000">
                <a:srgbClr val="00e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124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5720" y="68580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No temperature, only d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12002" t="16002" r="9998" b="16002"/>
          <a:stretch/>
        </p:blipFill>
        <p:spPr>
          <a:xfrm>
            <a:off x="5715000" y="0"/>
            <a:ext cx="3429000" cy="2989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457200"/>
            <a:ext cx="368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ean square displace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in the glas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MSD in H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190512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244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971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286000" y="4114440"/>
            <a:ext cx="380880" cy="762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642040" y="3809880"/>
            <a:ext cx="17247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3" y="3"/>
                </a:moveTo>
                <a:arcTo wR="10800" hR="10800" stAng="-5322762" swAng="4506536"/>
                <a:lnTo>
                  <a:pt x="10800" y="10800"/>
                </a:lnTo>
                <a:close/>
              </a:path>
              <a:path fill="none" w="21600" h="21600">
                <a:moveTo>
                  <a:pt x="11043" y="3"/>
                </a:moveTo>
                <a:arcTo wR="10800" hR="10800" stAng="-5322762" swAng="4506536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380988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09720" y="533412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65760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38862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971800"/>
            <a:ext cx="86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S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assunt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utline of the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he MCT predictions for SW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repetita ju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A3, A4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Glass-Glass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Hopping Phenomen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Arial"/>
              </a:rPr>
              <a:t>Gels in S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 ergodicity parameters for the two gla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28600"/>
            <a:ext cx="81536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Wavevector dependence of the non ergodicity parame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(plateau) along the glass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3870" t="27802" r="30675" b="5552"/>
          <a:stretch/>
        </p:blipFill>
        <p:spPr>
          <a:xfrm>
            <a:off x="3048120" y="1447920"/>
            <a:ext cx="6095880" cy="4797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345" t="20409" r="38051" b="16178"/>
          <a:stretch/>
        </p:blipFill>
        <p:spPr>
          <a:xfrm>
            <a:off x="0" y="2133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V="1">
            <a:off x="1981080" y="3352680"/>
            <a:ext cx="236232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057400" y="3809880"/>
            <a:ext cx="3124080" cy="1526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7520" y="6081840"/>
            <a:ext cx="429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bian et al PRE R1347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genholtz and Fuchs, PRE 59 5708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439" t="13593" r="8956" b="5193"/>
          <a:stretch/>
        </p:blipFill>
        <p:spPr>
          <a:xfrm>
            <a:off x="914400" y="609480"/>
            <a:ext cx="7772400" cy="5661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latori lungo la line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0"/>
            <a:ext cx="809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Density-density correlators along the iso-diffusivity l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ergodicity facto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12205" r="9646" b="3586"/>
          <a:stretch/>
        </p:blipFill>
        <p:spPr>
          <a:xfrm>
            <a:off x="0" y="609480"/>
            <a:ext cx="8229600" cy="5915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0800" y="22860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 ergodicity parameter along the isodiffusivity curve from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0" t="14863" r="30178" b="18892"/>
          <a:stretch/>
        </p:blipFill>
        <p:spPr>
          <a:xfrm>
            <a:off x="533520" y="838080"/>
            <a:ext cx="7619760" cy="5575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362320" y="685800"/>
            <a:ext cx="2057400" cy="2438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12960" y="2890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ub diffusiv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3276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54920" y="228600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(0.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71920" y="3048120"/>
            <a:ext cx="426960" cy="1440"/>
          </a:xfrm>
          <a:prstGeom prst="line">
            <a:avLst/>
          </a:prstGeom>
          <a:ln w="28440">
            <a:solidFill>
              <a:srgbClr val="ffcf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2 lungo la line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2209680" y="929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09680" y="6188040"/>
            <a:ext cx="5334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8400" y="64008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183200">
            <a:off x="586800" y="323496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724280" y="382572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7080" y="20732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u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169236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Repul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466416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activ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05432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23880" y="5562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4359240"/>
            <a:ext cx="40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2682720"/>
            <a:ext cx="1143000" cy="1219320"/>
          </a:xfrm>
          <a:custGeom>
            <a:avLst/>
            <a:gdLst/>
            <a:ahLst/>
            <a:rect l="l" t="t" r="r" b="b"/>
            <a:pathLst>
              <a:path w="608" h="440">
                <a:moveTo>
                  <a:pt x="448" y="56"/>
                </a:moveTo>
                <a:cubicBezTo>
                  <a:pt x="512" y="104"/>
                  <a:pt x="608" y="288"/>
                  <a:pt x="544" y="344"/>
                </a:cubicBezTo>
                <a:cubicBezTo>
                  <a:pt x="480" y="400"/>
                  <a:pt x="128" y="440"/>
                  <a:pt x="64" y="392"/>
                </a:cubicBezTo>
                <a:cubicBezTo>
                  <a:pt x="0" y="344"/>
                  <a:pt x="88" y="112"/>
                  <a:pt x="160" y="56"/>
                </a:cubicBezTo>
                <a:cubicBezTo>
                  <a:pt x="232" y="0"/>
                  <a:pt x="384" y="8"/>
                  <a:pt x="448" y="5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29000" y="5272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00400" y="4739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276720" y="5120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819520" y="49680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438280" y="5272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95480" y="4739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048120" y="45871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666880" y="5120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352680" y="48920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954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048120" y="42062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3977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4129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095880" y="42822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172200" y="40536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6386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8672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638680" y="4129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629400" y="9295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400800" y="10818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934320" y="1005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705720" y="12344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77120" y="13867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010280" y="1310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705720" y="15390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72200" y="1310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733920"/>
            <a:ext cx="3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6705720" y="39016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45878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09720" y="306396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1680" y="374976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10065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776960" y="2983680"/>
            <a:ext cx="55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adsorbing -polymer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006560"/>
            <a:ext cx="1257480" cy="2819160"/>
          </a:xfrm>
          <a:custGeom>
            <a:avLst/>
            <a:gdLst/>
            <a:ahLst/>
            <a:rect l="l" t="t" r="r" b="b"/>
            <a:pathLst>
              <a:path w="792" h="1776">
                <a:moveTo>
                  <a:pt x="16" y="0"/>
                </a:moveTo>
                <a:cubicBezTo>
                  <a:pt x="8" y="120"/>
                  <a:pt x="0" y="240"/>
                  <a:pt x="16" y="336"/>
                </a:cubicBezTo>
                <a:cubicBezTo>
                  <a:pt x="32" y="432"/>
                  <a:pt x="64" y="480"/>
                  <a:pt x="112" y="576"/>
                </a:cubicBezTo>
                <a:cubicBezTo>
                  <a:pt x="160" y="672"/>
                  <a:pt x="240" y="816"/>
                  <a:pt x="304" y="912"/>
                </a:cubicBezTo>
                <a:cubicBezTo>
                  <a:pt x="368" y="1008"/>
                  <a:pt x="432" y="1080"/>
                  <a:pt x="496" y="1152"/>
                </a:cubicBezTo>
                <a:cubicBezTo>
                  <a:pt x="560" y="1224"/>
                  <a:pt x="640" y="1256"/>
                  <a:pt x="688" y="1344"/>
                </a:cubicBezTo>
                <a:cubicBezTo>
                  <a:pt x="736" y="1432"/>
                  <a:pt x="776" y="1608"/>
                  <a:pt x="784" y="1680"/>
                </a:cubicBezTo>
                <a:cubicBezTo>
                  <a:pt x="792" y="1752"/>
                  <a:pt x="744" y="1760"/>
                  <a:pt x="736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172200" y="3749400"/>
            <a:ext cx="609480" cy="75960"/>
          </a:xfrm>
          <a:prstGeom prst="line">
            <a:avLst/>
          </a:prstGeom>
          <a:ln w="349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93024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131112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30240"/>
            <a:ext cx="76320" cy="5029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1560" y="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mary 2 (and open questions)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62240" y="544032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ctivated Process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g 2 of Nat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276720" y="228600"/>
            <a:ext cx="24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Equations  MC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quazioni base della M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8958" t="7030" r="7447" b="48596"/>
          <a:stretch/>
        </p:blipFill>
        <p:spPr>
          <a:xfrm>
            <a:off x="609480" y="762120"/>
            <a:ext cx="76201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rcRect l="12002" t="16002" r="9998" b="16002"/>
          <a:stretch/>
        </p:blipFill>
        <p:spPr>
          <a:xfrm>
            <a:off x="5715000" y="0"/>
            <a:ext cx="3429000" cy="2989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10116" t="10496" r="3372" b="17551"/>
          <a:stretch/>
        </p:blipFill>
        <p:spPr>
          <a:xfrm>
            <a:off x="609480" y="2209680"/>
            <a:ext cx="6858000" cy="427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52480" y="304920"/>
            <a:ext cx="368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The cage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(in HS)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lanation of the cage and analysis of correlation function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2895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att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the c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4320" y="51814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ge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26640" y="62625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og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9092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4495680"/>
            <a:ext cx="2819520" cy="0"/>
          </a:xfrm>
          <a:prstGeom prst="line">
            <a:avLst/>
          </a:prstGeom>
          <a:ln w="316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417528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 flipV="1">
            <a:off x="2717640" y="1905120"/>
            <a:ext cx="1800" cy="29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41480" y="4495680"/>
            <a:ext cx="1704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824200" y="3504960"/>
            <a:ext cx="426960" cy="438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57520" y="3429000"/>
            <a:ext cx="1065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199680" y="3429000"/>
            <a:ext cx="71100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3" y="3"/>
                </a:moveTo>
                <a:arcTo wR="10800" hR="10800" stAng="-5322762" swAng="5232627"/>
                <a:lnTo>
                  <a:pt x="10800" y="10800"/>
                </a:lnTo>
                <a:close/>
              </a:path>
              <a:path fill="none" w="21600" h="21600">
                <a:moveTo>
                  <a:pt x="11043" y="3"/>
                </a:moveTo>
                <a:arcTo wR="10800" hR="10800" stAng="-5322762" swAng="5232627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900520" y="3123720"/>
            <a:ext cx="639720" cy="7016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580560" y="3048120"/>
            <a:ext cx="711000" cy="17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3" y="3"/>
                </a:moveTo>
                <a:arcTo wR="10800" hR="10800" stAng="-5322762" swAng="5232627"/>
                <a:lnTo>
                  <a:pt x="10800" y="10800"/>
                </a:lnTo>
                <a:close/>
              </a:path>
              <a:path fill="none" w="21600" h="21600">
                <a:moveTo>
                  <a:pt x="11043" y="3"/>
                </a:moveTo>
                <a:arcTo wR="10800" hR="10800" stAng="-5322762" swAng="5232627"/>
              </a:path>
            </a:pathLst>
          </a:cu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83040" y="3048120"/>
            <a:ext cx="63972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9440" y="45561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892760" y="6095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62320" y="914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squared 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82960" y="2057400"/>
            <a:ext cx="49680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2960" y="2362320"/>
            <a:ext cx="496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13680" y="18590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Times New Roman"/>
              </a:rPr>
              <a:t>repul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6200" y="21636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tt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12960" y="2819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0.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24440" y="3352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71920" y="3048120"/>
            <a:ext cx="426960" cy="1440"/>
          </a:xfrm>
          <a:prstGeom prst="line">
            <a:avLst/>
          </a:prstGeom>
          <a:ln w="28440">
            <a:solidFill>
              <a:srgbClr val="ffcf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5600" y="3505320"/>
            <a:ext cx="42696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00200" y="6858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 1 di Nat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80" y="0"/>
            <a:ext cx="87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model with two different localization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8120" y="5562720"/>
            <a:ext cx="80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ow does the system change from one (glass) to the oth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   …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12960" y="3672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90512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pheres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13560" y="144792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-Well short range attractiv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33720" y="1143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16002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590920" y="1219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181480" y="1143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2590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3124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38680" y="2590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16765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11120" y="2590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3276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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55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e localization length be controlled in a different wa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533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if we add a short-range attrac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4956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49528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50292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36576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54864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52578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00200" y="46483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36576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40384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49528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39625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41148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48006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38862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47242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181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05720" y="4952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42670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10280" y="36576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19920" y="56386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5181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62920" y="47242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44197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038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5520" y="51055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10280" y="54100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2560" y="851868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4724280"/>
            <a:ext cx="1295280" cy="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44956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36576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36576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62320" y="44956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71800" y="44956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39625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90920" y="4038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41911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41148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52578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48006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46483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52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54864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50292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00400" y="4952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50480" y="2743200"/>
            <a:ext cx="3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603576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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60357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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03600" y="419112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ing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3419" t="0" r="29064" b="5405"/>
          <a:stretch/>
        </p:blipFill>
        <p:spPr>
          <a:xfrm>
            <a:off x="2362320" y="0"/>
            <a:ext cx="6781680" cy="6634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zioni di correlazio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rcRect l="5517" t="21813" r="38051" b="17588"/>
          <a:stretch/>
        </p:blipFill>
        <p:spPr>
          <a:xfrm>
            <a:off x="0" y="2057400"/>
            <a:ext cx="2743200" cy="2268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62120" y="3200400"/>
            <a:ext cx="761760" cy="0"/>
          </a:xfrm>
          <a:prstGeom prst="line">
            <a:avLst/>
          </a:prstGeom>
          <a:ln w="414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3200400"/>
            <a:ext cx="5181480" cy="22860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3200400"/>
            <a:ext cx="472428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3200400"/>
            <a:ext cx="5943600" cy="1828800"/>
          </a:xfrm>
          <a:prstGeom prst="line">
            <a:avLst/>
          </a:prstGeom>
          <a:ln w="9360">
            <a:solidFill>
              <a:srgbClr val="ff00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2840" y="45720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D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MCT predictions for short-range attractive square wel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760" y="3240"/>
            <a:ext cx="832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333399"/>
                </a:solidFill>
                <a:latin typeface="Times New Roman"/>
              </a:rPr>
              <a:t>MCT predictions for short range attractive square-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593" t="11152" r="41353" b="24440"/>
          <a:stretch/>
        </p:blipFill>
        <p:spPr>
          <a:xfrm>
            <a:off x="1219320" y="914400"/>
            <a:ext cx="5711760" cy="5479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14600" y="1660680"/>
            <a:ext cx="2029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hard-sphere g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(repulsiv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3440" y="5029200"/>
            <a:ext cx="3079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Short-range attractive g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32720" y="3108240"/>
            <a:ext cx="68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fl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581280"/>
            <a:ext cx="3556080" cy="1638360"/>
          </a:xfrm>
          <a:custGeom>
            <a:avLst/>
            <a:gdLst/>
            <a:ahLst/>
            <a:rect l="l" t="t" r="r" b="b"/>
            <a:pathLst>
              <a:path w="2240" h="1032">
                <a:moveTo>
                  <a:pt x="1528" y="208"/>
                </a:moveTo>
                <a:cubicBezTo>
                  <a:pt x="1392" y="136"/>
                  <a:pt x="1400" y="136"/>
                  <a:pt x="1336" y="112"/>
                </a:cubicBezTo>
                <a:cubicBezTo>
                  <a:pt x="1272" y="88"/>
                  <a:pt x="1208" y="80"/>
                  <a:pt x="1144" y="64"/>
                </a:cubicBezTo>
                <a:cubicBezTo>
                  <a:pt x="1080" y="48"/>
                  <a:pt x="1048" y="24"/>
                  <a:pt x="952" y="16"/>
                </a:cubicBezTo>
                <a:cubicBezTo>
                  <a:pt x="856" y="8"/>
                  <a:pt x="680" y="0"/>
                  <a:pt x="568" y="16"/>
                </a:cubicBezTo>
                <a:cubicBezTo>
                  <a:pt x="456" y="32"/>
                  <a:pt x="368" y="64"/>
                  <a:pt x="280" y="112"/>
                </a:cubicBezTo>
                <a:cubicBezTo>
                  <a:pt x="192" y="160"/>
                  <a:pt x="80" y="232"/>
                  <a:pt x="40" y="304"/>
                </a:cubicBezTo>
                <a:cubicBezTo>
                  <a:pt x="0" y="376"/>
                  <a:pt x="16" y="456"/>
                  <a:pt x="40" y="544"/>
                </a:cubicBezTo>
                <a:cubicBezTo>
                  <a:pt x="64" y="632"/>
                  <a:pt x="96" y="760"/>
                  <a:pt x="184" y="832"/>
                </a:cubicBezTo>
                <a:cubicBezTo>
                  <a:pt x="272" y="904"/>
                  <a:pt x="400" y="944"/>
                  <a:pt x="568" y="976"/>
                </a:cubicBezTo>
                <a:cubicBezTo>
                  <a:pt x="736" y="1008"/>
                  <a:pt x="1000" y="1032"/>
                  <a:pt x="1192" y="1024"/>
                </a:cubicBezTo>
                <a:cubicBezTo>
                  <a:pt x="1384" y="1016"/>
                  <a:pt x="1576" y="968"/>
                  <a:pt x="1720" y="928"/>
                </a:cubicBezTo>
                <a:cubicBezTo>
                  <a:pt x="1864" y="888"/>
                  <a:pt x="1984" y="848"/>
                  <a:pt x="2056" y="784"/>
                </a:cubicBezTo>
                <a:cubicBezTo>
                  <a:pt x="2128" y="720"/>
                  <a:pt x="2240" y="640"/>
                  <a:pt x="2152" y="544"/>
                </a:cubicBezTo>
                <a:cubicBezTo>
                  <a:pt x="2064" y="448"/>
                  <a:pt x="1664" y="280"/>
                  <a:pt x="1528" y="208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43280" y="825480"/>
            <a:ext cx="3390840" cy="4051440"/>
          </a:xfrm>
          <a:custGeom>
            <a:avLst/>
            <a:gdLst/>
            <a:ahLst/>
            <a:rect l="l" t="t" r="r" b="b"/>
            <a:pathLst>
              <a:path w="2088" h="2512">
                <a:moveTo>
                  <a:pt x="936" y="152"/>
                </a:moveTo>
                <a:cubicBezTo>
                  <a:pt x="992" y="304"/>
                  <a:pt x="1088" y="880"/>
                  <a:pt x="1128" y="1064"/>
                </a:cubicBezTo>
                <a:cubicBezTo>
                  <a:pt x="1168" y="1248"/>
                  <a:pt x="1144" y="1176"/>
                  <a:pt x="1176" y="1256"/>
                </a:cubicBezTo>
                <a:cubicBezTo>
                  <a:pt x="1208" y="1336"/>
                  <a:pt x="1272" y="1456"/>
                  <a:pt x="1320" y="1544"/>
                </a:cubicBezTo>
                <a:cubicBezTo>
                  <a:pt x="1368" y="1632"/>
                  <a:pt x="1416" y="1704"/>
                  <a:pt x="1464" y="1784"/>
                </a:cubicBezTo>
                <a:cubicBezTo>
                  <a:pt x="1512" y="1864"/>
                  <a:pt x="1544" y="1952"/>
                  <a:pt x="1608" y="2024"/>
                </a:cubicBezTo>
                <a:cubicBezTo>
                  <a:pt x="1672" y="2096"/>
                  <a:pt x="1776" y="2160"/>
                  <a:pt x="1848" y="2216"/>
                </a:cubicBezTo>
                <a:cubicBezTo>
                  <a:pt x="1920" y="2272"/>
                  <a:pt x="2088" y="2328"/>
                  <a:pt x="2040" y="2360"/>
                </a:cubicBezTo>
                <a:cubicBezTo>
                  <a:pt x="1992" y="2392"/>
                  <a:pt x="1784" y="2392"/>
                  <a:pt x="1560" y="2408"/>
                </a:cubicBezTo>
                <a:cubicBezTo>
                  <a:pt x="1336" y="2424"/>
                  <a:pt x="880" y="2440"/>
                  <a:pt x="696" y="2456"/>
                </a:cubicBezTo>
                <a:cubicBezTo>
                  <a:pt x="512" y="2472"/>
                  <a:pt x="560" y="2496"/>
                  <a:pt x="456" y="2504"/>
                </a:cubicBezTo>
                <a:cubicBezTo>
                  <a:pt x="352" y="2512"/>
                  <a:pt x="144" y="2512"/>
                  <a:pt x="72" y="2504"/>
                </a:cubicBezTo>
                <a:cubicBezTo>
                  <a:pt x="0" y="2496"/>
                  <a:pt x="24" y="2472"/>
                  <a:pt x="24" y="2456"/>
                </a:cubicBezTo>
                <a:cubicBezTo>
                  <a:pt x="24" y="2440"/>
                  <a:pt x="48" y="2424"/>
                  <a:pt x="72" y="2408"/>
                </a:cubicBezTo>
                <a:cubicBezTo>
                  <a:pt x="96" y="2392"/>
                  <a:pt x="112" y="2368"/>
                  <a:pt x="168" y="2360"/>
                </a:cubicBezTo>
                <a:cubicBezTo>
                  <a:pt x="224" y="2352"/>
                  <a:pt x="320" y="2360"/>
                  <a:pt x="408" y="2360"/>
                </a:cubicBezTo>
                <a:cubicBezTo>
                  <a:pt x="496" y="2360"/>
                  <a:pt x="584" y="2368"/>
                  <a:pt x="696" y="2360"/>
                </a:cubicBezTo>
                <a:cubicBezTo>
                  <a:pt x="808" y="2352"/>
                  <a:pt x="920" y="2320"/>
                  <a:pt x="1080" y="2312"/>
                </a:cubicBezTo>
                <a:cubicBezTo>
                  <a:pt x="1240" y="2304"/>
                  <a:pt x="1568" y="2328"/>
                  <a:pt x="1656" y="2312"/>
                </a:cubicBezTo>
                <a:cubicBezTo>
                  <a:pt x="1744" y="2296"/>
                  <a:pt x="1640" y="2248"/>
                  <a:pt x="1608" y="2216"/>
                </a:cubicBezTo>
                <a:cubicBezTo>
                  <a:pt x="1576" y="2184"/>
                  <a:pt x="1512" y="2168"/>
                  <a:pt x="1464" y="2120"/>
                </a:cubicBezTo>
                <a:cubicBezTo>
                  <a:pt x="1416" y="2072"/>
                  <a:pt x="1376" y="2008"/>
                  <a:pt x="1320" y="1928"/>
                </a:cubicBezTo>
                <a:cubicBezTo>
                  <a:pt x="1264" y="1848"/>
                  <a:pt x="1176" y="1736"/>
                  <a:pt x="1128" y="1640"/>
                </a:cubicBezTo>
                <a:cubicBezTo>
                  <a:pt x="1080" y="1544"/>
                  <a:pt x="1072" y="1464"/>
                  <a:pt x="1032" y="1352"/>
                </a:cubicBezTo>
                <a:cubicBezTo>
                  <a:pt x="992" y="1240"/>
                  <a:pt x="928" y="1088"/>
                  <a:pt x="888" y="968"/>
                </a:cubicBezTo>
                <a:cubicBezTo>
                  <a:pt x="848" y="848"/>
                  <a:pt x="824" y="768"/>
                  <a:pt x="792" y="632"/>
                </a:cubicBezTo>
                <a:cubicBezTo>
                  <a:pt x="760" y="496"/>
                  <a:pt x="696" y="232"/>
                  <a:pt x="696" y="152"/>
                </a:cubicBezTo>
                <a:cubicBezTo>
                  <a:pt x="696" y="72"/>
                  <a:pt x="752" y="152"/>
                  <a:pt x="792" y="152"/>
                </a:cubicBezTo>
                <a:cubicBezTo>
                  <a:pt x="832" y="152"/>
                  <a:pt x="880" y="0"/>
                  <a:pt x="936" y="152"/>
                </a:cubicBezTo>
                <a:close/>
              </a:path>
            </a:pathLst>
          </a:custGeom>
          <a:gradFill rotWithShape="0">
            <a:gsLst>
              <a:gs pos="0">
                <a:srgbClr val="ff0000">
                  <a:alpha val="35294"/>
                </a:srgbClr>
              </a:gs>
              <a:gs pos="50000">
                <a:srgbClr val="fe2929">
                  <a:alpha val="0"/>
                </a:srgbClr>
              </a:gs>
              <a:gs pos="100000">
                <a:srgbClr val="ff0000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1828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66cc"/>
                </a:solidFill>
                <a:latin typeface="Times New Roman"/>
              </a:rPr>
              <a:t>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886200"/>
            <a:ext cx="1006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362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0010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14479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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914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1066680"/>
            <a:ext cx="1676160" cy="3581640"/>
          </a:xfrm>
          <a:custGeom>
            <a:avLst/>
            <a:gdLst/>
            <a:ahLst/>
            <a:rect l="l" t="t" r="r" b="b"/>
            <a:pathLst>
              <a:path w="1056" h="2256">
                <a:moveTo>
                  <a:pt x="0" y="0"/>
                </a:moveTo>
                <a:cubicBezTo>
                  <a:pt x="92" y="424"/>
                  <a:pt x="184" y="848"/>
                  <a:pt x="240" y="1056"/>
                </a:cubicBezTo>
                <a:cubicBezTo>
                  <a:pt x="296" y="1264"/>
                  <a:pt x="288" y="1152"/>
                  <a:pt x="336" y="1248"/>
                </a:cubicBezTo>
                <a:cubicBezTo>
                  <a:pt x="384" y="1344"/>
                  <a:pt x="464" y="1528"/>
                  <a:pt x="528" y="1632"/>
                </a:cubicBezTo>
                <a:cubicBezTo>
                  <a:pt x="592" y="1736"/>
                  <a:pt x="648" y="1800"/>
                  <a:pt x="720" y="1872"/>
                </a:cubicBezTo>
                <a:cubicBezTo>
                  <a:pt x="792" y="1944"/>
                  <a:pt x="904" y="2000"/>
                  <a:pt x="960" y="2064"/>
                </a:cubicBezTo>
                <a:cubicBezTo>
                  <a:pt x="1016" y="2128"/>
                  <a:pt x="1040" y="2224"/>
                  <a:pt x="1056" y="225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572000"/>
            <a:ext cx="3962160" cy="228600"/>
          </a:xfrm>
          <a:custGeom>
            <a:avLst/>
            <a:gdLst/>
            <a:ahLst/>
            <a:rect l="l" t="t" r="r" b="b"/>
            <a:pathLst>
              <a:path w="2496" h="144">
                <a:moveTo>
                  <a:pt x="0" y="144"/>
                </a:moveTo>
                <a:cubicBezTo>
                  <a:pt x="272" y="124"/>
                  <a:pt x="544" y="104"/>
                  <a:pt x="768" y="96"/>
                </a:cubicBezTo>
                <a:cubicBezTo>
                  <a:pt x="992" y="88"/>
                  <a:pt x="1144" y="104"/>
                  <a:pt x="1344" y="96"/>
                </a:cubicBezTo>
                <a:cubicBezTo>
                  <a:pt x="1544" y="88"/>
                  <a:pt x="1776" y="64"/>
                  <a:pt x="1968" y="48"/>
                </a:cubicBezTo>
                <a:cubicBezTo>
                  <a:pt x="2160" y="32"/>
                  <a:pt x="2400" y="8"/>
                  <a:pt x="2496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4956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96680" y="64008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Fluid-Glass on cooling and heating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4800600"/>
            <a:ext cx="9144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19920" y="4952880"/>
            <a:ext cx="1295280" cy="15264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76680" y="4572000"/>
            <a:ext cx="1867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Control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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9000" y="6127920"/>
            <a:ext cx="339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bbian et al PRE R1347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genholtz and Fuchs, PRE 59 5708 (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ti Thomas Giusepp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04920"/>
            <a:ext cx="952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Comparing MD data  and MCT predictions for binary H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16440" y="630864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next talk by G. Fof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rcRect l="24242" t="11110" r="0" b="37041"/>
          <a:stretch/>
        </p:blipFill>
        <p:spPr>
          <a:xfrm>
            <a:off x="0" y="914400"/>
            <a:ext cx="9372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pletion Interactions Cartoon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554120"/>
            <a:ext cx="182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ple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Cart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22938" r="8264" b="0"/>
          <a:stretch/>
        </p:blipFill>
        <p:spPr>
          <a:xfrm>
            <a:off x="2362320" y="0"/>
            <a:ext cx="6097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15375" t="9339" r="40710" b="77728"/>
          <a:stretch/>
        </p:blipFill>
        <p:spPr>
          <a:xfrm>
            <a:off x="380880" y="228600"/>
            <a:ext cx="358164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cience Pham et al Fig 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5095" r="2520" b="0"/>
          <a:stretch/>
        </p:blipFill>
        <p:spPr>
          <a:xfrm>
            <a:off x="304920" y="1600200"/>
            <a:ext cx="8839080" cy="4892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95080" y="2819520"/>
            <a:ext cx="118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Glass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1480" y="2590920"/>
            <a:ext cx="116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Fluid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733920"/>
            <a:ext cx="1463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MCT fluid-glas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133720"/>
            <a:ext cx="1676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Fluid-glass line from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52480"/>
            <a:ext cx="0" cy="4038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-774720" y="3136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rths PRL (no polymer-with molyme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4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Colloidal-Polymer Mixture with Re-entr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Glass Transition in a Depletion 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720" y="44956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 Eckert and E. Bar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43600"/>
            <a:ext cx="29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hys.Rev. Lett. 89 125701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8270" t="3445" r="5537" b="41387"/>
          <a:stretch/>
        </p:blipFill>
        <p:spPr>
          <a:xfrm>
            <a:off x="0" y="0"/>
            <a:ext cx="7391520" cy="486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60922" r="0" b="-6890"/>
          <a:stretch/>
        </p:blipFill>
        <p:spPr>
          <a:xfrm>
            <a:off x="4038480" y="4952880"/>
            <a:ext cx="4700880" cy="2221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194600" y="685800"/>
            <a:ext cx="19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increasing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808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76560" y="2666880"/>
            <a:ext cx="251460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181120" y="2743200"/>
            <a:ext cx="2210040" cy="685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53080" y="2819520"/>
            <a:ext cx="91440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21480" y="2209680"/>
            <a:ext cx="15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hort-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t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8769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. Eckert and E. Bar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0866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rsh PRL (phi effec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8017" t="952" r="6430" b="64581"/>
          <a:stretch/>
        </p:blipFill>
        <p:spPr>
          <a:xfrm>
            <a:off x="0" y="0"/>
            <a:ext cx="3429000" cy="2841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71645" r="0" b="-2234"/>
          <a:stretch/>
        </p:blipFill>
        <p:spPr>
          <a:xfrm>
            <a:off x="0" y="4419720"/>
            <a:ext cx="3276720" cy="1741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8017" t="34656" r="6430" b="29925"/>
          <a:stretch/>
        </p:blipFill>
        <p:spPr>
          <a:xfrm>
            <a:off x="2819520" y="1981080"/>
            <a:ext cx="6324480" cy="454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3428640" y="6553080"/>
            <a:ext cx="53341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3320" y="65372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762120"/>
            <a:ext cx="2209680" cy="160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33520"/>
            <a:ext cx="5333760" cy="1828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8640" y="11160"/>
            <a:ext cx="90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CT  IDEAL GLASS LINES (P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QUARE WELL MOD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HANGING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69040" y="640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63-011401-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ole of the wid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20968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3131" t="8108" r="3918" b="5404"/>
          <a:stretch/>
        </p:blipFill>
        <p:spPr>
          <a:xfrm>
            <a:off x="1219320" y="533520"/>
            <a:ext cx="7924680" cy="5699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04920" y="1295280"/>
            <a:ext cx="0" cy="1447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743200"/>
            <a:ext cx="6094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276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12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960" y="3505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4419720"/>
            <a:ext cx="685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8920" y="5181480"/>
            <a:ext cx="5252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705720" y="495252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6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6:42:34Z</dcterms:created>
  <dc:creator>P T</dc:creator>
  <dc:description/>
  <dc:language>en-US</dc:language>
  <cp:lastModifiedBy>Administrator</cp:lastModifiedBy>
  <cp:lastPrinted>2003-02-07T17:57:56Z</cp:lastPrinted>
  <dcterms:modified xsi:type="dcterms:W3CDTF">2006-03-10T14:44:51Z</dcterms:modified>
  <cp:revision>110</cp:revision>
  <dc:subject/>
  <dc:title>Short-range attractive colloids:  one simple liquid with  two glasses ? </dc:title>
</cp:coreProperties>
</file>