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1188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6934320" y="58104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104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nova, September 1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outes to Colloidal Gel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411480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5410080" y="5195880"/>
          <a:ext cx="350532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195880"/>
                    <a:ext cx="35053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36040" y="190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P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40" y="3200400"/>
            <a:ext cx="77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llabo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Bulderyev, E. La Nave, A. Moren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Mossa, I. Saika-Voivod, P. Tartaglia, E. Zaccar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 rot="10800000">
            <a:off x="-609480" y="708588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itolo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00440" y="566892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anks to the organizers and to Carlo Pierleon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lation as a result of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hase separatio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interrupted by the glass transition)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240" y="3962520"/>
            <a:ext cx="2235240" cy="1371600"/>
          </a:xfrm>
          <a:custGeom>
            <a:avLst/>
            <a:gdLst/>
            <a:ahLst/>
            <a:rect l="l" t="t" r="r" b="b"/>
            <a:pathLst>
              <a:path w="1600" h="984">
                <a:moveTo>
                  <a:pt x="16" y="984"/>
                </a:moveTo>
                <a:cubicBezTo>
                  <a:pt x="8" y="848"/>
                  <a:pt x="0" y="712"/>
                  <a:pt x="16" y="600"/>
                </a:cubicBezTo>
                <a:cubicBezTo>
                  <a:pt x="32" y="488"/>
                  <a:pt x="72" y="392"/>
                  <a:pt x="112" y="312"/>
                </a:cubicBezTo>
                <a:cubicBezTo>
                  <a:pt x="152" y="232"/>
                  <a:pt x="168" y="168"/>
                  <a:pt x="256" y="120"/>
                </a:cubicBezTo>
                <a:cubicBezTo>
                  <a:pt x="344" y="72"/>
                  <a:pt x="512" y="40"/>
                  <a:pt x="640" y="24"/>
                </a:cubicBezTo>
                <a:cubicBezTo>
                  <a:pt x="768" y="8"/>
                  <a:pt x="896" y="0"/>
                  <a:pt x="1024" y="24"/>
                </a:cubicBezTo>
                <a:cubicBezTo>
                  <a:pt x="1152" y="48"/>
                  <a:pt x="1320" y="96"/>
                  <a:pt x="1408" y="168"/>
                </a:cubicBezTo>
                <a:cubicBezTo>
                  <a:pt x="1496" y="240"/>
                  <a:pt x="1520" y="328"/>
                  <a:pt x="1552" y="456"/>
                </a:cubicBezTo>
                <a:cubicBezTo>
                  <a:pt x="1584" y="584"/>
                  <a:pt x="1592" y="848"/>
                  <a:pt x="1600" y="9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962520"/>
            <a:ext cx="2209680" cy="1371600"/>
          </a:xfrm>
          <a:custGeom>
            <a:avLst/>
            <a:gdLst/>
            <a:ahLst/>
            <a:rect l="l" t="t" r="r" b="b"/>
            <a:pathLst>
              <a:path w="1344" h="824">
                <a:moveTo>
                  <a:pt x="0" y="824"/>
                </a:moveTo>
                <a:cubicBezTo>
                  <a:pt x="56" y="600"/>
                  <a:pt x="112" y="376"/>
                  <a:pt x="192" y="248"/>
                </a:cubicBezTo>
                <a:cubicBezTo>
                  <a:pt x="272" y="120"/>
                  <a:pt x="384" y="96"/>
                  <a:pt x="480" y="56"/>
                </a:cubicBezTo>
                <a:cubicBezTo>
                  <a:pt x="576" y="16"/>
                  <a:pt x="672" y="0"/>
                  <a:pt x="768" y="8"/>
                </a:cubicBezTo>
                <a:cubicBezTo>
                  <a:pt x="864" y="16"/>
                  <a:pt x="984" y="40"/>
                  <a:pt x="1056" y="104"/>
                </a:cubicBezTo>
                <a:cubicBezTo>
                  <a:pt x="1128" y="168"/>
                  <a:pt x="1168" y="328"/>
                  <a:pt x="1200" y="392"/>
                </a:cubicBezTo>
                <a:cubicBezTo>
                  <a:pt x="1232" y="456"/>
                  <a:pt x="1224" y="416"/>
                  <a:pt x="1248" y="488"/>
                </a:cubicBezTo>
                <a:cubicBezTo>
                  <a:pt x="1272" y="560"/>
                  <a:pt x="1328" y="768"/>
                  <a:pt x="1344" y="824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048120"/>
            <a:ext cx="0" cy="12189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114800"/>
            <a:ext cx="838080" cy="30492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0" y="192"/>
                </a:moveTo>
                <a:cubicBezTo>
                  <a:pt x="220" y="112"/>
                  <a:pt x="440" y="32"/>
                  <a:pt x="528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362320"/>
            <a:ext cx="533520" cy="175248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1104"/>
                </a:moveTo>
                <a:cubicBezTo>
                  <a:pt x="268" y="1004"/>
                  <a:pt x="200" y="904"/>
                  <a:pt x="144" y="720"/>
                </a:cubicBezTo>
                <a:cubicBezTo>
                  <a:pt x="88" y="536"/>
                  <a:pt x="44" y="268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3480" y="3962520"/>
            <a:ext cx="2235240" cy="1371600"/>
          </a:xfrm>
          <a:custGeom>
            <a:avLst/>
            <a:gdLst/>
            <a:ahLst/>
            <a:rect l="l" t="t" r="r" b="b"/>
            <a:pathLst>
              <a:path w="1600" h="984">
                <a:moveTo>
                  <a:pt x="16" y="984"/>
                </a:moveTo>
                <a:cubicBezTo>
                  <a:pt x="8" y="848"/>
                  <a:pt x="0" y="712"/>
                  <a:pt x="16" y="600"/>
                </a:cubicBezTo>
                <a:cubicBezTo>
                  <a:pt x="32" y="488"/>
                  <a:pt x="72" y="392"/>
                  <a:pt x="112" y="312"/>
                </a:cubicBezTo>
                <a:cubicBezTo>
                  <a:pt x="152" y="232"/>
                  <a:pt x="168" y="168"/>
                  <a:pt x="256" y="120"/>
                </a:cubicBezTo>
                <a:cubicBezTo>
                  <a:pt x="344" y="72"/>
                  <a:pt x="512" y="40"/>
                  <a:pt x="640" y="24"/>
                </a:cubicBezTo>
                <a:cubicBezTo>
                  <a:pt x="768" y="8"/>
                  <a:pt x="896" y="0"/>
                  <a:pt x="1024" y="24"/>
                </a:cubicBezTo>
                <a:cubicBezTo>
                  <a:pt x="1152" y="48"/>
                  <a:pt x="1320" y="96"/>
                  <a:pt x="1408" y="168"/>
                </a:cubicBezTo>
                <a:cubicBezTo>
                  <a:pt x="1496" y="240"/>
                  <a:pt x="1520" y="328"/>
                  <a:pt x="1552" y="456"/>
                </a:cubicBezTo>
                <a:cubicBezTo>
                  <a:pt x="1584" y="584"/>
                  <a:pt x="1592" y="848"/>
                  <a:pt x="1600" y="9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3962520"/>
            <a:ext cx="2210040" cy="1371600"/>
          </a:xfrm>
          <a:custGeom>
            <a:avLst/>
            <a:gdLst/>
            <a:ahLst/>
            <a:rect l="l" t="t" r="r" b="b"/>
            <a:pathLst>
              <a:path w="1344" h="824">
                <a:moveTo>
                  <a:pt x="0" y="824"/>
                </a:moveTo>
                <a:cubicBezTo>
                  <a:pt x="56" y="600"/>
                  <a:pt x="112" y="376"/>
                  <a:pt x="192" y="248"/>
                </a:cubicBezTo>
                <a:cubicBezTo>
                  <a:pt x="272" y="120"/>
                  <a:pt x="384" y="96"/>
                  <a:pt x="480" y="56"/>
                </a:cubicBezTo>
                <a:cubicBezTo>
                  <a:pt x="576" y="16"/>
                  <a:pt x="672" y="0"/>
                  <a:pt x="768" y="8"/>
                </a:cubicBezTo>
                <a:cubicBezTo>
                  <a:pt x="864" y="16"/>
                  <a:pt x="984" y="40"/>
                  <a:pt x="1056" y="104"/>
                </a:cubicBezTo>
                <a:cubicBezTo>
                  <a:pt x="1128" y="168"/>
                  <a:pt x="1168" y="328"/>
                  <a:pt x="1200" y="392"/>
                </a:cubicBezTo>
                <a:cubicBezTo>
                  <a:pt x="1232" y="456"/>
                  <a:pt x="1224" y="416"/>
                  <a:pt x="1248" y="488"/>
                </a:cubicBezTo>
                <a:cubicBezTo>
                  <a:pt x="1272" y="560"/>
                  <a:pt x="1328" y="768"/>
                  <a:pt x="1344" y="824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304812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4038480"/>
            <a:ext cx="838440" cy="30492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0" y="192"/>
                </a:moveTo>
                <a:cubicBezTo>
                  <a:pt x="220" y="112"/>
                  <a:pt x="440" y="32"/>
                  <a:pt x="528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2286000"/>
            <a:ext cx="533520" cy="175248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1104"/>
                </a:moveTo>
                <a:cubicBezTo>
                  <a:pt x="268" y="1004"/>
                  <a:pt x="200" y="904"/>
                  <a:pt x="144" y="720"/>
                </a:cubicBezTo>
                <a:cubicBezTo>
                  <a:pt x="88" y="536"/>
                  <a:pt x="44" y="268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267080"/>
            <a:ext cx="1828800" cy="0"/>
          </a:xfrm>
          <a:prstGeom prst="line">
            <a:avLst/>
          </a:prstGeom>
          <a:ln w="4428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648320"/>
            <a:ext cx="1828800" cy="0"/>
          </a:xfrm>
          <a:prstGeom prst="line">
            <a:avLst/>
          </a:prstGeom>
          <a:ln w="4428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334120"/>
            <a:ext cx="2819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410080"/>
            <a:ext cx="2819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85800" y="2971800"/>
            <a:ext cx="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638680" y="3047760"/>
            <a:ext cx="0" cy="236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4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7680" y="3352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2160" y="552132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0880" y="556272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360" y="0"/>
            <a:ext cx="8999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The quest for the </a:t>
            </a:r>
            <a:r>
              <a:rPr b="1" i="1" lang="en-US" sz="4400" spc="-1" strike="noStrike">
                <a:solidFill>
                  <a:srgbClr val="ff0080"/>
                </a:solidFill>
                <a:latin typeface="Gill Sans"/>
              </a:rPr>
              <a:t>ideal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(thermoreversible) gel….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1760" y="1473120"/>
            <a:ext cx="831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1) Long Living reversible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2)No Phase S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3) No Crystal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352680"/>
            <a:ext cx="793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ill Sans"/>
              </a:rPr>
              <a:t>Are 1 and 2 mutually exclusiv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40" y="7962840"/>
            <a:ext cx="6884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60" algn="ctr">
              <a:spcAft>
                <a:spcPts val="213"/>
              </a:spcAft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19112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ow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5360" y="5943600"/>
            <a:ext cx="331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d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419720" y="4495680"/>
            <a:ext cx="1295280" cy="1296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14440" y="4038480"/>
            <a:ext cx="272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ong Bo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276360" y="4800240"/>
            <a:ext cx="12600" cy="114300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685800" y="746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ques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urface Tensio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1120" y="0"/>
            <a:ext cx="8999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How to stay at low T without condens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00" y="8215200"/>
            <a:ext cx="688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algn="ctr">
              <a:lnSpc>
                <a:spcPts val="7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Gill Sans"/>
              </a:rPr>
              <a:t>The ques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0280" y="1407960"/>
            <a:ext cx="619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asons for cond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(Frank, Hill, Conigli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Physical Clusters at low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5280" y="4724280"/>
            <a:ext cx="24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4724280"/>
            <a:ext cx="6858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the infinite cluster is the lowest (free)energ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715000"/>
            <a:ext cx="7302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How to make the surface as stable as the bulk (or mor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572000" cy="100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1811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4114800" y="8380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44069" t="44069" r="44069" b="44069"/>
          <a:stretch/>
        </p:blipFill>
        <p:spPr>
          <a:xfrm rot="600000">
            <a:off x="4581360" y="54252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36800" t="36800" r="39204" b="39204"/>
          <a:stretch/>
        </p:blipFill>
        <p:spPr>
          <a:xfrm>
            <a:off x="3733920" y="2590920"/>
            <a:ext cx="3047760" cy="3047760"/>
          </a:xfrm>
          <a:prstGeom prst="rect">
            <a:avLst/>
          </a:prstGeom>
          <a:ln w="0">
            <a:noFill/>
          </a:ln>
        </p:spPr>
      </p:pic>
      <p:cxnSp>
        <p:nvCxnSpPr>
          <p:cNvPr id="166" name=""/>
          <p:cNvCxnSpPr/>
          <p:nvPr/>
        </p:nvCxnSpPr>
        <p:spPr>
          <a:xfrm flipV="1">
            <a:off x="4647960" y="1065960"/>
            <a:ext cx="533880" cy="2293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>
            <a:off x="4343040" y="4648320"/>
            <a:ext cx="15300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4648320" y="1294920"/>
            <a:ext cx="762480" cy="2293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69" name=""/>
          <p:cNvCxnSpPr/>
          <p:nvPr/>
        </p:nvCxnSpPr>
        <p:spPr>
          <a:xfrm>
            <a:off x="4648320" y="1295280"/>
            <a:ext cx="457920" cy="534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70" name=""/>
          <p:cNvCxnSpPr/>
          <p:nvPr/>
        </p:nvCxnSpPr>
        <p:spPr>
          <a:xfrm>
            <a:off x="4267080" y="4572000"/>
            <a:ext cx="61056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71" name=""/>
          <p:cNvCxnSpPr/>
          <p:nvPr/>
        </p:nvCxnSpPr>
        <p:spPr>
          <a:xfrm flipV="1">
            <a:off x="4419360" y="4190400"/>
            <a:ext cx="153000" cy="1911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1219320" y="3200040"/>
            <a:ext cx="129600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4266720" y="4342680"/>
            <a:ext cx="83916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>
            <a:off x="4572000" y="1371240"/>
            <a:ext cx="1372320" cy="108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>
            <a:off x="1219320" y="1447560"/>
            <a:ext cx="1372320" cy="10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V="1">
            <a:off x="3886200" y="4038120"/>
            <a:ext cx="2286720" cy="4579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V="1">
            <a:off x="4114800" y="3580920"/>
            <a:ext cx="1753200" cy="9151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>
            <a:off x="4038480" y="4495320"/>
            <a:ext cx="1067760" cy="6865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>
            <a:off x="4114440" y="3428640"/>
            <a:ext cx="2134440" cy="99144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V="1">
            <a:off x="4114440" y="3657240"/>
            <a:ext cx="610200" cy="9151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V="1">
            <a:off x="4114440" y="4190760"/>
            <a:ext cx="1677240" cy="4579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 flipV="1">
            <a:off x="4191120" y="2895120"/>
            <a:ext cx="1753200" cy="15249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>
            <a:off x="4190760" y="4571640"/>
            <a:ext cx="1981800" cy="68652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>
            <a:off x="4114800" y="4571640"/>
            <a:ext cx="1372320" cy="30564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191120" y="4647960"/>
            <a:ext cx="1829520" cy="108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86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3733920" y="4114800"/>
            <a:ext cx="961920" cy="990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5280" y="167652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hort Range At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65760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ng Range Re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etition Between Short Range Attraction and Long Range Repulsion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7960" y="626256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 et al, PRL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2448000" cy="831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64456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3809880"/>
            <a:ext cx="2311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Groenew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and Ke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rcRect l="11801" t="10462" r="59435" b="45925"/>
          <a:stretch/>
        </p:blipFill>
        <p:spPr>
          <a:xfrm>
            <a:off x="76320" y="-76320"/>
            <a:ext cx="2971800" cy="318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00800" cy="4575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324480" y="838080"/>
            <a:ext cx="22100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ill Sans"/>
              </a:rPr>
              <a:t>Upp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ill Sans"/>
              </a:rPr>
              <a:t>Optima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104800" y="1981080"/>
            <a:ext cx="2361960" cy="182880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637960" y="1980720"/>
            <a:ext cx="838440" cy="129564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0"/>
            <a:ext cx="5302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</a:rPr>
              <a:t>How to make        negat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Yukaw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019920" y="152280"/>
            <a:ext cx="3301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354480" y="251460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wer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6095880"/>
            <a:ext cx="462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creasing  packing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igure gel yukaw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74240" y="30492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ic Constraint: Maximum Val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371600"/>
            <a:ext cx="0" cy="304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42900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66320" y="44197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1905120"/>
            <a:ext cx="624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W if  # of bonded particles &lt;= 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S  if  # of bonded particles  &gt; N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80880"/>
            <a:ext cx="0" cy="3048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ximum Valenc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733920" y="41148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46390" t="46384" r="46390" b="46384"/>
          <a:stretch/>
        </p:blipFill>
        <p:spPr>
          <a:xfrm>
            <a:off x="3505320" y="4724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rcRect l="46390" t="46384" r="46390" b="46384"/>
          <a:stretch/>
        </p:blipFill>
        <p:spPr>
          <a:xfrm>
            <a:off x="3276720" y="36576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4724280" y="41911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rcRect l="46390" t="46384" r="46390" b="46384"/>
          <a:stretch/>
        </p:blipFill>
        <p:spPr>
          <a:xfrm>
            <a:off x="4267080" y="37339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rcRect l="46390" t="46384" r="46390" b="46384"/>
          <a:stretch/>
        </p:blipFill>
        <p:spPr>
          <a:xfrm>
            <a:off x="4800600" y="48769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rcRect l="46390" t="46384" r="46390" b="46384"/>
          <a:stretch/>
        </p:blipFill>
        <p:spPr>
          <a:xfrm>
            <a:off x="5334120" y="39625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rcRect l="46390" t="46384" r="46390" b="46384"/>
          <a:stretch/>
        </p:blipFill>
        <p:spPr>
          <a:xfrm>
            <a:off x="43434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rcRect l="46390" t="46384" r="46390" b="46384"/>
          <a:stretch/>
        </p:blipFill>
        <p:spPr>
          <a:xfrm>
            <a:off x="57913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rcRect l="46390" t="46384" r="46390" b="46384"/>
          <a:stretch/>
        </p:blipFill>
        <p:spPr>
          <a:xfrm>
            <a:off x="5715000" y="33526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rcRect l="46390" t="46384" r="46390" b="46384"/>
          <a:stretch/>
        </p:blipFill>
        <p:spPr>
          <a:xfrm>
            <a:off x="64771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rcRect l="46390" t="46384" r="46390" b="46384"/>
          <a:stretch/>
        </p:blipFill>
        <p:spPr>
          <a:xfrm>
            <a:off x="5029200" y="32004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rcRect l="46390" t="46384" r="46390" b="46384"/>
          <a:stretch/>
        </p:blipFill>
        <p:spPr>
          <a:xfrm>
            <a:off x="36576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4"/>
          <a:srcRect l="46390" t="46384" r="46390" b="46384"/>
          <a:stretch/>
        </p:blipFill>
        <p:spPr>
          <a:xfrm>
            <a:off x="5486400" y="50292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5"/>
          <a:srcRect l="46390" t="46384" r="46390" b="46384"/>
          <a:stretch/>
        </p:blipFill>
        <p:spPr>
          <a:xfrm>
            <a:off x="3581280" y="54100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6"/>
          <a:srcRect l="46390" t="46384" r="46390" b="46384"/>
          <a:stretch/>
        </p:blipFill>
        <p:spPr>
          <a:xfrm>
            <a:off x="4114800" y="49528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7"/>
          <a:srcRect l="46390" t="46384" r="46390" b="46384"/>
          <a:stretch/>
        </p:blipFill>
        <p:spPr>
          <a:xfrm>
            <a:off x="6324480" y="3733920"/>
            <a:ext cx="962280" cy="990360"/>
          </a:xfrm>
          <a:prstGeom prst="rect">
            <a:avLst/>
          </a:prstGeom>
          <a:ln w="0">
            <a:noFill/>
          </a:ln>
        </p:spPr>
      </p:pic>
      <p:cxnSp>
        <p:nvCxnSpPr>
          <p:cNvPr id="236" name=""/>
          <p:cNvCxnSpPr/>
          <p:nvPr/>
        </p:nvCxnSpPr>
        <p:spPr>
          <a:xfrm>
            <a:off x="6248160" y="380988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37" name=""/>
          <p:cNvCxnSpPr/>
          <p:nvPr/>
        </p:nvCxnSpPr>
        <p:spPr>
          <a:xfrm flipH="1" flipV="1">
            <a:off x="5638320" y="3656880"/>
            <a:ext cx="610560" cy="153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flipH="1">
            <a:off x="5866560" y="3809880"/>
            <a:ext cx="381960" cy="496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39" name=""/>
          <p:cNvCxnSpPr/>
          <p:nvPr/>
        </p:nvCxnSpPr>
        <p:spPr>
          <a:xfrm flipV="1">
            <a:off x="5181480" y="4419000"/>
            <a:ext cx="610560" cy="229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>
            <a:off x="5181480" y="4647960"/>
            <a:ext cx="76680" cy="6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 flipH="1" flipV="1">
            <a:off x="4647600" y="419076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72388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900" spc="-1" strike="noStrike">
                <a:solidFill>
                  <a:srgbClr val="ff0000"/>
                </a:solidFill>
                <a:latin typeface="Comic Sans MS"/>
              </a:rPr>
              <a:t>MAX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-modified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Phase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hase Diagra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934320" cy="604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181480" y="1905120"/>
            <a:ext cx="0" cy="36716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ond Lifetime.. Several more decades..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440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l vs Glass - MSD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13726" r="10606" b="2942"/>
          <a:stretch/>
        </p:blipFill>
        <p:spPr>
          <a:xfrm>
            <a:off x="457200" y="609480"/>
            <a:ext cx="7467480" cy="5380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738800" y="77616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26400" y="443376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ical Glas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487692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31484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lin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utline and Moti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76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ef Review of Short-Range Attractive Colloidal Glass (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asymmetric colloid-polymer mix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model disordered arrested states at low packing fraction 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(g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ed phase separation 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(irreversible g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Range Repulsive interactions 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(reversib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al constraints 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(reversib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gel and g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l vs Glass: Density Autocorrelation Function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25000" cy="5538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543800" y="1828800"/>
            <a:ext cx="81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0800" y="24382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q gel vs glas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76736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mmary….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3640" y="1690560"/>
            <a:ext cx="687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gnig Thermoreversible G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with small surface tension (charged colloids, sticky 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simple model for thermoreversibl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ls and Gl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in localization l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in experimental observ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315200" cy="56530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oke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708660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Energy per P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ound State Energy Known !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09320" y="603396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is possible to equilib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low T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6438" t="13432" r="5564" b="5163"/>
          <a:stretch/>
        </p:blipFill>
        <p:spPr>
          <a:xfrm>
            <a:off x="0" y="152388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rcRect l="4939" t="13913" r="7068" b="0"/>
          <a:stretch/>
        </p:blipFill>
        <p:spPr>
          <a:xfrm>
            <a:off x="4876920" y="1523880"/>
            <a:ext cx="42670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84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pletion Interaction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7800" y="304920"/>
            <a:ext cx="329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Deple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Inte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. Likos)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Cart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22938" r="8264" b="0"/>
          <a:stretch/>
        </p:blipFill>
        <p:spPr>
          <a:xfrm>
            <a:off x="3467160" y="0"/>
            <a:ext cx="5676840" cy="601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1640" y="2590920"/>
            <a:ext cx="0" cy="3047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936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0240" y="46483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01280" y="563868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0" cy="434340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640" y="1600200"/>
            <a:ext cx="0" cy="3048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304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9000" y="4191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-360" y="4648320"/>
            <a:ext cx="20574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160" y="3997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400" y="41497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37120" y="51055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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1120" y="0"/>
            <a:ext cx="8999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How to stay at low T without condens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00" y="8215200"/>
            <a:ext cx="688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algn="ctr">
              <a:lnSpc>
                <a:spcPts val="7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Gill Sans"/>
              </a:rPr>
              <a:t>The ques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00280" y="1407960"/>
            <a:ext cx="619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asons for cond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(Frank, Hill, Conigli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Physical Clusters at low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9840" y="5478480"/>
            <a:ext cx="71100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6126120"/>
            <a:ext cx="1270080" cy="127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20" y="5389560"/>
            <a:ext cx="24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389560"/>
            <a:ext cx="7506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the infinite cluster is the lowest energ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6570720"/>
            <a:ext cx="7302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How to make the surface more stable than the bul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031840" y="3649680"/>
            <a:ext cx="5194440" cy="990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2760" y="5416560"/>
            <a:ext cx="135864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rmodynamics in the IS form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523880"/>
            <a:ext cx="744552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T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 T) 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59092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380988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457200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533412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380988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172200" y="525780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ree energ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 is possible to calculat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xactl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he basin free energ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0" t="13203" r="8136" b="19440"/>
          <a:stretch/>
        </p:blipFill>
        <p:spPr>
          <a:xfrm>
            <a:off x="2286000" y="2971800"/>
            <a:ext cx="6858000" cy="3886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6933960" cy="965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6890040" cy="10191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81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asin Free energ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12351" r="9544" b="3088"/>
          <a:stretch/>
        </p:blipFill>
        <p:spPr>
          <a:xfrm>
            <a:off x="539640" y="1052640"/>
            <a:ext cx="7848720" cy="58053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iscosity and Diffusivity: Arrhenius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13432" r="7693" b="0"/>
          <a:stretch/>
        </p:blipFill>
        <p:spPr>
          <a:xfrm>
            <a:off x="685800" y="838080"/>
            <a:ext cx="7772400" cy="52419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oke-Einstein Rela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8640" y="0"/>
            <a:ext cx="90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MCT  IDEAL GLASS LINES (P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UARE WELL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HANGING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6760" y="640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63-011401-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722772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le of the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9852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920" y="128412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73204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43676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65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62120" y="273204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417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960" y="34941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8920" y="5170320"/>
            <a:ext cx="5252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705720" y="4941360"/>
            <a:ext cx="380880" cy="3812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555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723888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Vari de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role of delta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22400" y="349200"/>
            <a:ext cx="7435800" cy="5746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2440" y="4724280"/>
            <a:ext cx="5252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9400" y="350532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4880" y="350532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586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3760" y="5867280"/>
            <a:ext cx="31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. Sciortino, Nat. Mat.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, 145 (200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049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t Mat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440" y="838080"/>
            <a:ext cx="798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rmed b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lamace et al.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PRL (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am et al.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cience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kert and Bartsch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L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ertas et 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L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accarelli et 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tazioni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4724" r="9503" b="6696"/>
          <a:stretch/>
        </p:blipFill>
        <p:spPr>
          <a:xfrm>
            <a:off x="0" y="0"/>
            <a:ext cx="6156360" cy="632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53064" t="5685" r="1122" b="0"/>
          <a:stretch/>
        </p:blipFill>
        <p:spPr>
          <a:xfrm>
            <a:off x="6348240" y="762120"/>
            <a:ext cx="2795760" cy="4876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28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ham et al  2004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quare Well 3% width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04840" y="0"/>
            <a:ext cx="6982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ase Diagram for Square Well  (3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06960" y="6095880"/>
            <a:ext cx="517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637560" y="-455760"/>
            <a:ext cx="8536320" cy="7628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2285" t="13816" r="10408" b="2635"/>
          <a:stretch/>
        </p:blipFill>
        <p:spPr>
          <a:xfrm>
            <a:off x="762120" y="609480"/>
            <a:ext cx="7238880" cy="5345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21200" y="1219320"/>
            <a:ext cx="1828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Repul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37960" y="4038480"/>
            <a:ext cx="1834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6000" y="4495680"/>
            <a:ext cx="47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Liquid+Gas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2360" y="3124080"/>
            <a:ext cx="67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cbd"/>
                </a:solidFill>
                <a:latin typeface="Gill Sans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07400" y="6858000"/>
            <a:ext cx="32180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Spinodal A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(Miller&amp;Frenk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5960" y="1066680"/>
            <a:ext cx="15721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Is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diff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lines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6320" y="1143000"/>
            <a:ext cx="24559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</a:rPr>
              <a:t>Perco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388620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0"/>
                </a:moveTo>
                <a:cubicBezTo>
                  <a:pt x="116" y="56"/>
                  <a:pt x="232" y="112"/>
                  <a:pt x="288" y="144"/>
                </a:cubicBezTo>
                <a:cubicBezTo>
                  <a:pt x="344" y="176"/>
                  <a:pt x="304" y="160"/>
                  <a:pt x="336" y="192"/>
                </a:cubicBezTo>
                <a:cubicBezTo>
                  <a:pt x="368" y="224"/>
                  <a:pt x="432" y="280"/>
                  <a:pt x="480" y="336"/>
                </a:cubicBezTo>
                <a:cubicBezTo>
                  <a:pt x="528" y="392"/>
                  <a:pt x="584" y="464"/>
                  <a:pt x="624" y="528"/>
                </a:cubicBezTo>
                <a:cubicBezTo>
                  <a:pt x="664" y="592"/>
                  <a:pt x="704" y="688"/>
                  <a:pt x="72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809880"/>
            <a:ext cx="241560" cy="1295640"/>
          </a:xfrm>
          <a:custGeom>
            <a:avLst/>
            <a:gdLst/>
            <a:ahLst/>
            <a:rect l="l" t="t" r="r" b="b"/>
            <a:pathLst>
              <a:path w="152" h="816">
                <a:moveTo>
                  <a:pt x="152" y="0"/>
                </a:moveTo>
                <a:cubicBezTo>
                  <a:pt x="116" y="24"/>
                  <a:pt x="80" y="48"/>
                  <a:pt x="56" y="96"/>
                </a:cubicBezTo>
                <a:cubicBezTo>
                  <a:pt x="32" y="144"/>
                  <a:pt x="16" y="184"/>
                  <a:pt x="8" y="288"/>
                </a:cubicBezTo>
                <a:cubicBezTo>
                  <a:pt x="0" y="392"/>
                  <a:pt x="8" y="632"/>
                  <a:pt x="8" y="720"/>
                </a:cubicBezTo>
                <a:cubicBezTo>
                  <a:pt x="8" y="808"/>
                  <a:pt x="8" y="800"/>
                  <a:pt x="8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9320" y="3824280"/>
            <a:ext cx="33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odal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(and Bax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irial Scaling in the dynamic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ward the Baxter Limi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4267080" cy="3298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24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76920" y="914400"/>
            <a:ext cx="42670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7880" y="647532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. Foffi and C. De Michele,pr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26:44Z</dcterms:created>
  <dc:creator>root root</dc:creator>
  <dc:description/>
  <dc:language>en-US</dc:language>
  <cp:lastModifiedBy>Administrator</cp:lastModifiedBy>
  <cp:lastPrinted>2002-09-12T07:04:17Z</cp:lastPrinted>
  <dcterms:modified xsi:type="dcterms:W3CDTF">2006-03-10T14:49:25Z</dcterms:modified>
  <cp:revision>97</cp:revision>
  <dc:subject/>
  <dc:title>titolo</dc:title>
</cp:coreProperties>
</file>