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452-C3C4-425E-9DD9-D7C077CE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7C7-10D9-4029-8109-FA30AD5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25F-36CF-465C-9391-1B1126F7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238-EC6A-477C-9A9C-89A2D879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E71-D87A-4557-9900-9AD37716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7238520"/>
            <a:ext cx="64008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BC4-8CE1-40C8-ABD0-C5102DE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ABC-D097-4AE2-B0FC-76592D78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EF9-B983-407F-AA87-DBF139C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FED-FDD3-4C33-B7D1-01CDE28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9F6-6F64-4D11-B480-CE751AA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83F-7D1E-43B6-902D-D16AFB48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D09-CEBA-4A1A-9052-47526681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5280" y="7238520"/>
            <a:ext cx="64008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7220880"/>
            <a:ext cx="6400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541920"/>
            <a:ext cx="1905120" cy="316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609480" cy="58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4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069-9317-4F97-AE75-7E3BEF880AFB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-range attractive colloids:  one simple liquid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gla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rancesco Scio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versita' di Roma  La Sap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M Center for Statistical Mechanics and Complex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ail: francesco.sciortino@phys.uniroma1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68760" y="292572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renoble, February 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9120" y="295596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 inserire il ruolo del potenziale nel diagramma di f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olo del potenziale nella termodinamic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7680" y="158436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dfdsav cxdzvcfa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istallo-cristall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Universita' di Roma  La Sapienza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78160" y="15238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8320" y="1523880"/>
            <a:ext cx="45720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06760" y="1981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73240" y="20574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11120" y="12193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6560" y="6858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68320" y="25146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920" y="22860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6560" y="16765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30440" y="990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9720" y="6858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6920" y="10666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63760" y="1981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920" y="37339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640" y="11430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040" y="182880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11120" y="3809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36576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8320" y="44956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0960" y="4952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7242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38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06760" y="342900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6040" y="54100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35160" y="4952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59040" y="44956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06560" y="41911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35360" y="38098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640" y="48769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6760" y="518148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9760" y="457200"/>
            <a:ext cx="22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Spheres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44840" y="327672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-Well short range attractive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978360" y="1143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836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4160" y="16765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43556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7836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836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9240" y="4572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9240" y="6324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35560" y="5790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11520" y="4876920"/>
            <a:ext cx="457200" cy="4572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557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5720" y="6477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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204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836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2156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2156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97520" y="373392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3320" y="36576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178040" y="3657600"/>
            <a:ext cx="7614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3" y="3"/>
                </a:moveTo>
                <a:arcTo wR="10800" hR="10800" stAng="-5322762" swAng="5232627"/>
                <a:lnTo>
                  <a:pt x="10800" y="10800"/>
                </a:lnTo>
                <a:close/>
              </a:path>
              <a:path fill="none" w="21600" h="21600">
                <a:moveTo>
                  <a:pt x="11043" y="3"/>
                </a:moveTo>
                <a:arcTo wR="10800" hR="10800" stAng="-5322762" swAng="5232627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73840" y="3352680"/>
            <a:ext cx="685800" cy="6098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558920" y="3276720"/>
            <a:ext cx="76140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3" y="3"/>
                </a:moveTo>
                <a:arcTo wR="10800" hR="10800" stAng="-5322762" swAng="5232627"/>
                <a:lnTo>
                  <a:pt x="10800" y="10800"/>
                </a:lnTo>
                <a:close/>
              </a:path>
              <a:path fill="none" w="21600" h="21600">
                <a:moveTo>
                  <a:pt x="11043" y="3"/>
                </a:moveTo>
                <a:arcTo wR="10800" hR="10800" stAng="-5322762" swAng="5232627"/>
              </a:path>
            </a:pathLst>
          </a:cu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40520" y="327672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8200" y="47847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892760" y="6095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43880" y="13716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squared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50160" y="2286000"/>
            <a:ext cx="533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0160" y="25909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2720" y="20876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Times New Roman"/>
              </a:rPr>
              <a:t>repul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392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tt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30840" y="30481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0.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6320" y="35812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3276720"/>
            <a:ext cx="457200" cy="0"/>
          </a:xfrm>
          <a:prstGeom prst="line">
            <a:avLst/>
          </a:prstGeom>
          <a:ln w="28440">
            <a:solidFill>
              <a:srgbClr val="ffcf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68920" y="3733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0" y="265104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Hard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(repulsi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440" y="562284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6858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gure  1 di Nat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uo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V="1">
            <a:off x="2209680" y="929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09680" y="6188040"/>
            <a:ext cx="5334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88400" y="64008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183200">
            <a:off x="586800" y="323496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724280" y="382572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7080" y="20732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u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69236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Repul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6416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ractive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09320" y="405432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5562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359240"/>
            <a:ext cx="40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682720"/>
            <a:ext cx="1143000" cy="1219320"/>
          </a:xfrm>
          <a:custGeom>
            <a:avLst/>
            <a:gdLst/>
            <a:ahLst/>
            <a:rect l="l" t="t" r="r" b="b"/>
            <a:pathLst>
              <a:path w="608" h="440">
                <a:moveTo>
                  <a:pt x="448" y="56"/>
                </a:moveTo>
                <a:cubicBezTo>
                  <a:pt x="512" y="104"/>
                  <a:pt x="608" y="288"/>
                  <a:pt x="544" y="344"/>
                </a:cubicBezTo>
                <a:cubicBezTo>
                  <a:pt x="480" y="400"/>
                  <a:pt x="128" y="440"/>
                  <a:pt x="64" y="392"/>
                </a:cubicBezTo>
                <a:cubicBezTo>
                  <a:pt x="0" y="344"/>
                  <a:pt x="88" y="112"/>
                  <a:pt x="160" y="56"/>
                </a:cubicBezTo>
                <a:cubicBezTo>
                  <a:pt x="232" y="0"/>
                  <a:pt x="384" y="8"/>
                  <a:pt x="448" y="5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429000" y="5272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00400" y="4739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76720" y="5120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19520" y="49680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38280" y="5272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4739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048120" y="45871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5120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52680" y="48920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954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48120" y="42062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1320" y="39776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43600" y="4129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95880" y="42822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172200" y="40536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6386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86728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38680" y="41299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4434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629400" y="9295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00800" y="10818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934320" y="10058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705720" y="123444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477120" y="138672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10280" y="1310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5720" y="15390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172200" y="1310400"/>
            <a:ext cx="228600" cy="228600"/>
          </a:xfrm>
          <a:prstGeom prst="ellipse">
            <a:avLst/>
          </a:prstGeom>
          <a:solidFill>
            <a:srgbClr val="00e4a8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3733920"/>
            <a:ext cx="3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705720" y="39016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5878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imes New Roman"/>
              </a:rPr>
              <a:t>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409720" y="306396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835360"/>
            <a:ext cx="25909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cket of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749760"/>
            <a:ext cx="763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0065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-1777320" y="300456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adsorbing -polymer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006560"/>
            <a:ext cx="1257480" cy="2819160"/>
          </a:xfrm>
          <a:custGeom>
            <a:avLst/>
            <a:gdLst/>
            <a:ahLst/>
            <a:rect l="l" t="t" r="r" b="b"/>
            <a:pathLst>
              <a:path w="792" h="1776">
                <a:moveTo>
                  <a:pt x="16" y="0"/>
                </a:moveTo>
                <a:cubicBezTo>
                  <a:pt x="8" y="120"/>
                  <a:pt x="0" y="240"/>
                  <a:pt x="16" y="336"/>
                </a:cubicBezTo>
                <a:cubicBezTo>
                  <a:pt x="32" y="432"/>
                  <a:pt x="64" y="480"/>
                  <a:pt x="112" y="576"/>
                </a:cubicBezTo>
                <a:cubicBezTo>
                  <a:pt x="160" y="672"/>
                  <a:pt x="240" y="816"/>
                  <a:pt x="304" y="912"/>
                </a:cubicBezTo>
                <a:cubicBezTo>
                  <a:pt x="368" y="1008"/>
                  <a:pt x="432" y="1080"/>
                  <a:pt x="496" y="1152"/>
                </a:cubicBezTo>
                <a:cubicBezTo>
                  <a:pt x="560" y="1224"/>
                  <a:pt x="640" y="1256"/>
                  <a:pt x="688" y="1344"/>
                </a:cubicBezTo>
                <a:cubicBezTo>
                  <a:pt x="736" y="1432"/>
                  <a:pt x="776" y="1608"/>
                  <a:pt x="784" y="1680"/>
                </a:cubicBezTo>
                <a:cubicBezTo>
                  <a:pt x="792" y="1752"/>
                  <a:pt x="744" y="1760"/>
                  <a:pt x="736" y="17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72200" y="3749400"/>
            <a:ext cx="609480" cy="75960"/>
          </a:xfrm>
          <a:prstGeom prst="line">
            <a:avLst/>
          </a:prstGeom>
          <a:ln w="349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3024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131112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930240"/>
            <a:ext cx="76320" cy="5029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gura 2 di nat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3419" t="0" r="29064" b="5405"/>
          <a:stretch/>
        </p:blipFill>
        <p:spPr>
          <a:xfrm>
            <a:off x="1219320" y="0"/>
            <a:ext cx="6781680" cy="66340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7238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zioni di correlazio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6:58:21Z</dcterms:created>
  <dc:creator>P T</dc:creator>
  <dc:description/>
  <dc:language>en-US</dc:language>
  <cp:lastModifiedBy>Administrator</cp:lastModifiedBy>
  <dcterms:modified xsi:type="dcterms:W3CDTF">2006-03-10T14:49:40Z</dcterms:modified>
  <cp:revision>4</cp:revision>
  <dc:subject/>
  <dc:title>Short-range attractive colloids:  one simple liquid with  two glasses ? </dc:title>
</cp:coreProperties>
</file>