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98A-8920-4FEF-8ABF-5707652C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385-CF9B-4431-BD31-9AF1CB6B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AB6-5D75-46FC-9A82-CA5EFDBF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B58-89FF-491F-BC1C-B232B09C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922-48F3-400F-B285-E9683940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693-A9F5-48FB-A43B-193D074B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B3D-96B4-46E7-82B9-93B094B5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209-05E6-46E2-B462-9250E47F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106-2A86-47E0-8009-15D0C683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252-7AAB-439E-98DB-372D011D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C0F-A0C0-434A-8515-FC295A2E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260-DE35-40C0-BB1C-A8C6BAB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0186-1EA3-4F90-9F97-0F387CBF6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666880"/>
            <a:ext cx="34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3124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95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onstanz, 14-18 September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0040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Potential Energy Landscape Equation of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248520" y="304920"/>
            <a:ext cx="2603520" cy="2490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308400" cy="546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43434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milia La Nave, Francesco Sciortino, Piero Tartag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o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240" y="5165640"/>
            <a:ext cx="38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efano Mos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oston/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5105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th Liquid Matter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ff"/>
                </a:solidFill>
                <a:latin typeface="Times New Roman"/>
              </a:rPr>
              <a:t>T-dependence of &lt;e</a:t>
            </a:r>
            <a:r>
              <a:rPr b="0" lang="en-US" sz="4400" spc="-1" strike="noStrike" baseline="-25000">
                <a:solidFill>
                  <a:srgbClr val="0080ff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0080ff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SPC/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010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ff"/>
                </a:solidFill>
                <a:latin typeface="Times New Roman"/>
              </a:rPr>
              <a:t>T-dependence of &lt;e</a:t>
            </a:r>
            <a:r>
              <a:rPr b="0" lang="en-US" sz="4400" spc="-1" strike="noStrike" baseline="-25000">
                <a:solidFill>
                  <a:srgbClr val="0080ff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0080ff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LW-O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2804" r="23164" b="5552"/>
          <a:stretch/>
        </p:blipFill>
        <p:spPr>
          <a:xfrm>
            <a:off x="762120" y="888840"/>
            <a:ext cx="647676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ff"/>
                </a:solidFill>
                <a:latin typeface="Times New Roman"/>
              </a:rPr>
              <a:t>T-dependence of S</a:t>
            </a:r>
            <a:r>
              <a:rPr b="0" lang="en-US" sz="4400" spc="-1" strike="noStrike" baseline="-25000">
                <a:solidFill>
                  <a:srgbClr val="0080ff"/>
                </a:solidFill>
                <a:latin typeface="Times New Roman"/>
              </a:rPr>
              <a:t>conf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(SPC/E)</a:t>
            </a:r>
            <a:r>
              <a:rPr b="0" lang="en-US" sz="4400" spc="-1" strike="noStrike" baseline="-25000">
                <a:solidFill>
                  <a:srgbClr val="008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3085" t="6040" r="5607" b="10597"/>
          <a:stretch/>
        </p:blipFill>
        <p:spPr>
          <a:xfrm>
            <a:off x="685800" y="814320"/>
            <a:ext cx="762012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-dependence of </a:t>
            </a:r>
            <a:r>
              <a:rPr b="0" lang="en-US" sz="44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4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914400"/>
            <a:ext cx="6705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d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e</a:t>
            </a:r>
            <a:r>
              <a:rPr b="0" lang="en-US" sz="3600" spc="-1" strike="noStrike" baseline="38000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38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---------------d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685800"/>
            <a:ext cx="2568600" cy="7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-(e</a:t>
            </a:r>
            <a:r>
              <a:rPr b="0" lang="en-US" sz="3200" spc="-1" strike="noStrike" baseline="-9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3600" spc="-1" strike="noStrike" baseline="36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9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7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 baseline="36000">
                <a:solidFill>
                  <a:srgbClr val="0000ff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74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00840" y="1274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2407" r="0" b="9210"/>
          <a:stretch/>
        </p:blipFill>
        <p:spPr>
          <a:xfrm>
            <a:off x="1066680" y="1674720"/>
            <a:ext cx="66294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ndscape Equation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990720"/>
            <a:ext cx="2667240" cy="787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=-∂F/∂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|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981080"/>
            <a:ext cx="7729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V,T)=-T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,V)+&lt;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,V)&gt;+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,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666880"/>
            <a:ext cx="630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 Gaussian (and harmonic)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200400"/>
            <a:ext cx="8359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(T,V)=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+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 T +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/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267080"/>
            <a:ext cx="7848720" cy="21740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= - </a:t>
            </a:r>
            <a:r>
              <a:rPr b="0" lang="en-US" sz="4000" spc="-1" strike="noStrike">
                <a:solidFill>
                  <a:srgbClr val="0080ff"/>
                </a:solidFill>
                <a:latin typeface="Times New Roman"/>
              </a:rPr>
              <a:t>d/d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[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b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    =R </a:t>
            </a:r>
            <a:r>
              <a:rPr b="0" lang="en-US" sz="4000" spc="-1" strike="noStrike">
                <a:solidFill>
                  <a:srgbClr val="0080ff"/>
                </a:solidFill>
                <a:latin typeface="Times New Roman"/>
              </a:rPr>
              <a:t>d/d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bE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+b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  =    </a:t>
            </a:r>
            <a:r>
              <a:rPr b="0" lang="en-US" sz="4000" spc="-1" strike="noStrike">
                <a:solidFill>
                  <a:srgbClr val="0080ff"/>
                </a:solidFill>
                <a:latin typeface="Times New Roman"/>
              </a:rPr>
              <a:t>d/d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2R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eveloping an EOS based on PES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10308" t="4193" r="38187" b="0"/>
          <a:stretch/>
        </p:blipFill>
        <p:spPr>
          <a:xfrm>
            <a:off x="2286000" y="762120"/>
            <a:ext cx="4240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SPC/E Water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T,V)=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)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) T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/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1460" t="-1383" r="21665" b="5583"/>
          <a:stretch/>
        </p:blipFill>
        <p:spPr>
          <a:xfrm>
            <a:off x="4724280" y="596880"/>
            <a:ext cx="4816440" cy="6261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23173" t="11048" r="12198" b="21108"/>
          <a:stretch/>
        </p:blipFill>
        <p:spPr>
          <a:xfrm>
            <a:off x="380880" y="609480"/>
            <a:ext cx="3581640" cy="2907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rcRect l="13524" t="12524" r="7068" b="15272"/>
          <a:stretch/>
        </p:blipFill>
        <p:spPr>
          <a:xfrm>
            <a:off x="0" y="3535200"/>
            <a:ext cx="472428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clus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300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ff"/>
                </a:solidFill>
                <a:latin typeface="Times New Roman"/>
              </a:rPr>
              <a:t>The V-dependence of the statistical properties of the PEL has been quantified for two models of molecular liq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ccurate EOS can be constructed from thes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Interesting features of the liquid state  (TMD line) can be correlated to features of the PEL statistical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ging in the PEL-IS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22070" t="12458" r="50002" b="13825"/>
          <a:stretch/>
        </p:blipFill>
        <p:spPr>
          <a:xfrm>
            <a:off x="0" y="1447920"/>
            <a:ext cx="1523880" cy="4038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22070" t="12458" r="50002" b="13825"/>
          <a:stretch/>
        </p:blipFill>
        <p:spPr>
          <a:xfrm>
            <a:off x="3200400" y="1371600"/>
            <a:ext cx="163044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22070" t="12458" r="50002" b="13825"/>
          <a:stretch/>
        </p:blipFill>
        <p:spPr>
          <a:xfrm>
            <a:off x="6248520" y="1600200"/>
            <a:ext cx="160020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772400" y="2971800"/>
            <a:ext cx="884160" cy="1317600"/>
          </a:xfrm>
          <a:custGeom>
            <a:avLst/>
            <a:gdLst/>
            <a:ahLst/>
            <a:rect l="l" t="t" r="r" b="b"/>
            <a:pathLst>
              <a:path w="557" h="830">
                <a:moveTo>
                  <a:pt x="0" y="61"/>
                </a:moveTo>
                <a:cubicBezTo>
                  <a:pt x="25" y="148"/>
                  <a:pt x="48" y="235"/>
                  <a:pt x="71" y="324"/>
                </a:cubicBezTo>
                <a:cubicBezTo>
                  <a:pt x="81" y="416"/>
                  <a:pt x="104" y="507"/>
                  <a:pt x="132" y="597"/>
                </a:cubicBezTo>
                <a:cubicBezTo>
                  <a:pt x="148" y="651"/>
                  <a:pt x="153" y="701"/>
                  <a:pt x="193" y="739"/>
                </a:cubicBezTo>
                <a:cubicBezTo>
                  <a:pt x="206" y="779"/>
                  <a:pt x="222" y="799"/>
                  <a:pt x="253" y="830"/>
                </a:cubicBezTo>
                <a:cubicBezTo>
                  <a:pt x="370" y="818"/>
                  <a:pt x="356" y="828"/>
                  <a:pt x="436" y="749"/>
                </a:cubicBezTo>
                <a:cubicBezTo>
                  <a:pt x="463" y="667"/>
                  <a:pt x="422" y="795"/>
                  <a:pt x="456" y="638"/>
                </a:cubicBezTo>
                <a:cubicBezTo>
                  <a:pt x="485" y="498"/>
                  <a:pt x="467" y="639"/>
                  <a:pt x="486" y="537"/>
                </a:cubicBezTo>
                <a:cubicBezTo>
                  <a:pt x="506" y="423"/>
                  <a:pt x="502" y="306"/>
                  <a:pt x="517" y="192"/>
                </a:cubicBezTo>
                <a:cubicBezTo>
                  <a:pt x="525" y="126"/>
                  <a:pt x="557" y="67"/>
                  <a:pt x="5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2057400"/>
            <a:ext cx="884520" cy="1317600"/>
          </a:xfrm>
          <a:custGeom>
            <a:avLst/>
            <a:gdLst/>
            <a:ahLst/>
            <a:rect l="l" t="t" r="r" b="b"/>
            <a:pathLst>
              <a:path w="557" h="830">
                <a:moveTo>
                  <a:pt x="0" y="61"/>
                </a:moveTo>
                <a:cubicBezTo>
                  <a:pt x="25" y="148"/>
                  <a:pt x="48" y="235"/>
                  <a:pt x="71" y="324"/>
                </a:cubicBezTo>
                <a:cubicBezTo>
                  <a:pt x="81" y="416"/>
                  <a:pt x="104" y="507"/>
                  <a:pt x="132" y="597"/>
                </a:cubicBezTo>
                <a:cubicBezTo>
                  <a:pt x="148" y="651"/>
                  <a:pt x="153" y="701"/>
                  <a:pt x="193" y="739"/>
                </a:cubicBezTo>
                <a:cubicBezTo>
                  <a:pt x="206" y="779"/>
                  <a:pt x="222" y="799"/>
                  <a:pt x="253" y="830"/>
                </a:cubicBezTo>
                <a:cubicBezTo>
                  <a:pt x="370" y="818"/>
                  <a:pt x="356" y="828"/>
                  <a:pt x="436" y="749"/>
                </a:cubicBezTo>
                <a:cubicBezTo>
                  <a:pt x="463" y="667"/>
                  <a:pt x="422" y="795"/>
                  <a:pt x="456" y="638"/>
                </a:cubicBezTo>
                <a:cubicBezTo>
                  <a:pt x="485" y="498"/>
                  <a:pt x="467" y="639"/>
                  <a:pt x="486" y="537"/>
                </a:cubicBezTo>
                <a:cubicBezTo>
                  <a:pt x="506" y="423"/>
                  <a:pt x="502" y="306"/>
                  <a:pt x="517" y="192"/>
                </a:cubicBezTo>
                <a:cubicBezTo>
                  <a:pt x="525" y="126"/>
                  <a:pt x="557" y="67"/>
                  <a:pt x="5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981080"/>
            <a:ext cx="884520" cy="1317600"/>
          </a:xfrm>
          <a:custGeom>
            <a:avLst/>
            <a:gdLst/>
            <a:ahLst/>
            <a:rect l="l" t="t" r="r" b="b"/>
            <a:pathLst>
              <a:path w="557" h="830">
                <a:moveTo>
                  <a:pt x="0" y="61"/>
                </a:moveTo>
                <a:cubicBezTo>
                  <a:pt x="25" y="148"/>
                  <a:pt x="48" y="235"/>
                  <a:pt x="71" y="324"/>
                </a:cubicBezTo>
                <a:cubicBezTo>
                  <a:pt x="81" y="416"/>
                  <a:pt x="104" y="507"/>
                  <a:pt x="132" y="597"/>
                </a:cubicBezTo>
                <a:cubicBezTo>
                  <a:pt x="148" y="651"/>
                  <a:pt x="153" y="701"/>
                  <a:pt x="193" y="739"/>
                </a:cubicBezTo>
                <a:cubicBezTo>
                  <a:pt x="206" y="779"/>
                  <a:pt x="222" y="799"/>
                  <a:pt x="253" y="830"/>
                </a:cubicBezTo>
                <a:cubicBezTo>
                  <a:pt x="370" y="818"/>
                  <a:pt x="356" y="828"/>
                  <a:pt x="436" y="749"/>
                </a:cubicBezTo>
                <a:cubicBezTo>
                  <a:pt x="463" y="667"/>
                  <a:pt x="422" y="795"/>
                  <a:pt x="456" y="638"/>
                </a:cubicBezTo>
                <a:cubicBezTo>
                  <a:pt x="485" y="498"/>
                  <a:pt x="467" y="639"/>
                  <a:pt x="486" y="537"/>
                </a:cubicBezTo>
                <a:cubicBezTo>
                  <a:pt x="506" y="423"/>
                  <a:pt x="502" y="306"/>
                  <a:pt x="517" y="192"/>
                </a:cubicBezTo>
                <a:cubicBezTo>
                  <a:pt x="525" y="126"/>
                  <a:pt x="557" y="67"/>
                  <a:pt x="5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971800"/>
            <a:ext cx="514440" cy="433440"/>
          </a:xfrm>
          <a:custGeom>
            <a:avLst/>
            <a:gdLst/>
            <a:ahLst/>
            <a:rect l="l" t="t" r="r" b="b"/>
            <a:pathLst>
              <a:path w="324" h="273">
                <a:moveTo>
                  <a:pt x="0" y="0"/>
                </a:moveTo>
                <a:cubicBezTo>
                  <a:pt x="13" y="41"/>
                  <a:pt x="29" y="45"/>
                  <a:pt x="41" y="91"/>
                </a:cubicBezTo>
                <a:cubicBezTo>
                  <a:pt x="47" y="153"/>
                  <a:pt x="30" y="212"/>
                  <a:pt x="91" y="233"/>
                </a:cubicBezTo>
                <a:cubicBezTo>
                  <a:pt x="122" y="262"/>
                  <a:pt x="139" y="263"/>
                  <a:pt x="183" y="263"/>
                </a:cubicBezTo>
                <a:cubicBezTo>
                  <a:pt x="245" y="255"/>
                  <a:pt x="262" y="273"/>
                  <a:pt x="284" y="223"/>
                </a:cubicBezTo>
                <a:cubicBezTo>
                  <a:pt x="293" y="200"/>
                  <a:pt x="297" y="175"/>
                  <a:pt x="304" y="152"/>
                </a:cubicBezTo>
                <a:cubicBezTo>
                  <a:pt x="311" y="125"/>
                  <a:pt x="324" y="71"/>
                  <a:pt x="324" y="71"/>
                </a:cubicBezTo>
                <a:cubicBezTo>
                  <a:pt x="248" y="58"/>
                  <a:pt x="232" y="51"/>
                  <a:pt x="152" y="61"/>
                </a:cubicBezTo>
                <a:cubicBezTo>
                  <a:pt x="84" y="83"/>
                  <a:pt x="166" y="61"/>
                  <a:pt x="51" y="61"/>
                </a:cubicBezTo>
                <a:cubicBezTo>
                  <a:pt x="40" y="61"/>
                  <a:pt x="21" y="71"/>
                  <a:pt x="21" y="71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76680" y="5562720"/>
            <a:ext cx="189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5540760"/>
            <a:ext cx="243828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-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19320" y="3429000"/>
            <a:ext cx="12189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314840" y="434340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343040" y="342900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16320" y="3820320"/>
            <a:ext cx="187920" cy="28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945120" y="3516840"/>
            <a:ext cx="130320" cy="357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81320" y="4267080"/>
            <a:ext cx="30492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3429000"/>
            <a:ext cx="30492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2590920"/>
            <a:ext cx="0" cy="8380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297180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10480" y="388620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585520" y="27777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8674560" y="385020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627880" y="293580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2666880"/>
            <a:ext cx="701640" cy="609840"/>
          </a:xfrm>
          <a:custGeom>
            <a:avLst/>
            <a:gdLst/>
            <a:ahLst/>
            <a:rect l="l" t="t" r="r" b="b"/>
            <a:pathLst>
              <a:path w="442" h="384">
                <a:moveTo>
                  <a:pt x="0" y="0"/>
                </a:moveTo>
                <a:lnTo>
                  <a:pt x="48" y="192"/>
                </a:lnTo>
                <a:lnTo>
                  <a:pt x="96" y="336"/>
                </a:lnTo>
                <a:lnTo>
                  <a:pt x="192" y="384"/>
                </a:lnTo>
                <a:lnTo>
                  <a:pt x="288" y="384"/>
                </a:lnTo>
                <a:lnTo>
                  <a:pt x="336" y="336"/>
                </a:lnTo>
                <a:lnTo>
                  <a:pt x="336" y="240"/>
                </a:lnTo>
                <a:lnTo>
                  <a:pt x="384" y="192"/>
                </a:lnTo>
                <a:lnTo>
                  <a:pt x="384" y="96"/>
                </a:lnTo>
                <a:cubicBezTo>
                  <a:pt x="436" y="43"/>
                  <a:pt x="442" y="67"/>
                  <a:pt x="423" y="31"/>
                </a:cubicBez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91640" y="3898800"/>
            <a:ext cx="545760" cy="409680"/>
          </a:xfrm>
          <a:custGeom>
            <a:avLst/>
            <a:gdLst/>
            <a:ahLst/>
            <a:rect l="l" t="t" r="r" b="b"/>
            <a:pathLst>
              <a:path w="344" h="258">
                <a:moveTo>
                  <a:pt x="9" y="25"/>
                </a:moveTo>
                <a:cubicBezTo>
                  <a:pt x="16" y="105"/>
                  <a:pt x="20" y="155"/>
                  <a:pt x="70" y="217"/>
                </a:cubicBezTo>
                <a:cubicBezTo>
                  <a:pt x="88" y="240"/>
                  <a:pt x="151" y="258"/>
                  <a:pt x="151" y="258"/>
                </a:cubicBezTo>
                <a:cubicBezTo>
                  <a:pt x="171" y="251"/>
                  <a:pt x="197" y="253"/>
                  <a:pt x="212" y="238"/>
                </a:cubicBezTo>
                <a:cubicBezTo>
                  <a:pt x="218" y="231"/>
                  <a:pt x="223" y="220"/>
                  <a:pt x="232" y="217"/>
                </a:cubicBezTo>
                <a:cubicBezTo>
                  <a:pt x="247" y="210"/>
                  <a:pt x="266" y="210"/>
                  <a:pt x="283" y="207"/>
                </a:cubicBezTo>
                <a:cubicBezTo>
                  <a:pt x="297" y="149"/>
                  <a:pt x="300" y="66"/>
                  <a:pt x="344" y="25"/>
                </a:cubicBezTo>
                <a:cubicBezTo>
                  <a:pt x="267" y="0"/>
                  <a:pt x="199" y="6"/>
                  <a:pt x="121" y="15"/>
                </a:cubicBezTo>
                <a:cubicBezTo>
                  <a:pt x="45" y="40"/>
                  <a:pt x="150" y="4"/>
                  <a:pt x="40" y="45"/>
                </a:cubicBezTo>
                <a:cubicBezTo>
                  <a:pt x="29" y="48"/>
                  <a:pt x="18" y="60"/>
                  <a:pt x="9" y="55"/>
                </a:cubicBezTo>
                <a:cubicBezTo>
                  <a:pt x="0" y="49"/>
                  <a:pt x="9" y="35"/>
                  <a:pt x="9" y="25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onstructing P(T,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228600"/>
            <a:ext cx="175284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=-∂F/∂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6360" y="990720"/>
            <a:ext cx="8567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V,T)=-T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,V)+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,V)&gt;+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,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819520" y="3116160"/>
            <a:ext cx="470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905120"/>
            <a:ext cx="8229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(T,V)=           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,V)           +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,V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4191120" y="609480"/>
            <a:ext cx="380880" cy="2362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7619760" y="1523880"/>
            <a:ext cx="1080" cy="534240"/>
          </a:xfrm>
          <a:prstGeom prst="straightConnector1">
            <a:avLst/>
          </a:prstGeom>
          <a:ln w="34920">
            <a:solidFill>
              <a:srgbClr val="0000ff"/>
            </a:solidFill>
            <a:miter/>
          </a:ln>
        </p:spPr>
      </p:cxnSp>
      <p:pic>
        <p:nvPicPr>
          <p:cNvPr id="190" name="" descr=""/>
          <p:cNvPicPr/>
          <p:nvPr/>
        </p:nvPicPr>
        <p:blipFill>
          <a:blip r:embed="rId1"/>
          <a:srcRect l="0" t="13128" r="0" b="1868"/>
          <a:stretch/>
        </p:blipFill>
        <p:spPr>
          <a:xfrm>
            <a:off x="0" y="2819520"/>
            <a:ext cx="954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9073" t="10350" r="9073" b="10350"/>
          <a:stretch/>
        </p:blipFill>
        <p:spPr>
          <a:xfrm>
            <a:off x="2438280" y="1447920"/>
            <a:ext cx="484524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417528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41972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65760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87692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51055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description of the number, depth and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4792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PEL bas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otential Energy Lands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rom Equilibrium to OOE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09120" y="1752480"/>
            <a:ext cx="5697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(T,V)=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,V)+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,V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2590920"/>
            <a:ext cx="81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know whic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n the system is explor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3124080"/>
            <a:ext cx="2514600" cy="23623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6019920"/>
            <a:ext cx="4240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acts as a fictive T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352680"/>
            <a:ext cx="23623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3124080"/>
            <a:ext cx="25909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,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ff"/>
                </a:solidFill>
                <a:latin typeface="Times New Roman"/>
              </a:rPr>
              <a:t>Numerical Tests</a:t>
            </a:r>
            <a:br>
              <a:rPr sz="36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Heating a glass at constant 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19320" y="1294920"/>
            <a:ext cx="0" cy="1676520"/>
          </a:xfrm>
          <a:prstGeom prst="line">
            <a:avLst/>
          </a:prstGeom>
          <a:ln w="3816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2971800"/>
            <a:ext cx="2743200" cy="0"/>
          </a:xfrm>
          <a:prstGeom prst="line">
            <a:avLst/>
          </a:prstGeom>
          <a:ln w="3816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2286000"/>
            <a:ext cx="28191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219320" y="1523880"/>
            <a:ext cx="2743200" cy="5335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14479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7120" y="198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98400" y="29559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11110" t="1055" r="41685" b="11577"/>
          <a:stretch/>
        </p:blipFill>
        <p:spPr>
          <a:xfrm>
            <a:off x="6334200" y="0"/>
            <a:ext cx="28098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3640" t="3612" r="3616" b="3643"/>
          <a:stretch/>
        </p:blipFill>
        <p:spPr>
          <a:xfrm>
            <a:off x="762120" y="3448080"/>
            <a:ext cx="44193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81240" y="0"/>
            <a:ext cx="6019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ff"/>
                </a:solidFill>
                <a:latin typeface="Times New Roman"/>
              </a:rPr>
              <a:t>Numerical Test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ompressing at constant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219320" y="1294920"/>
            <a:ext cx="0" cy="1676520"/>
          </a:xfrm>
          <a:prstGeom prst="line">
            <a:avLst/>
          </a:prstGeom>
          <a:ln w="3816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971800"/>
            <a:ext cx="3429000" cy="0"/>
          </a:xfrm>
          <a:prstGeom prst="line">
            <a:avLst/>
          </a:prstGeom>
          <a:ln w="3816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514600"/>
            <a:ext cx="37335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04920" y="2057400"/>
            <a:ext cx="91440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1219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6760" y="1981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98400" y="29559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218960" y="1600200"/>
            <a:ext cx="236196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219320" y="1600200"/>
            <a:ext cx="0" cy="5335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4720" y="160020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2539" t="0" r="35614" b="0"/>
          <a:stretch/>
        </p:blipFill>
        <p:spPr>
          <a:xfrm>
            <a:off x="5430960" y="0"/>
            <a:ext cx="371304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rcRect l="3640" t="3612" r="3616" b="3643"/>
          <a:stretch/>
        </p:blipFill>
        <p:spPr>
          <a:xfrm>
            <a:off x="380880" y="3330720"/>
            <a:ext cx="457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iquid-to-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12882" r="0" b="4288"/>
          <a:stretch/>
        </p:blipFill>
        <p:spPr>
          <a:xfrm>
            <a:off x="-457200" y="2441520"/>
            <a:ext cx="7543800" cy="441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20640" y="2895480"/>
            <a:ext cx="16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constant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1760" y="3048120"/>
            <a:ext cx="161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-jum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constan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rcRect l="2433" t="2021" r="21264" b="33423"/>
          <a:stretch/>
        </p:blipFill>
        <p:spPr>
          <a:xfrm>
            <a:off x="5257800" y="0"/>
            <a:ext cx="38862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clusion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838080"/>
            <a:ext cx="8610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hypothesis that the system samples in aging the same basins explored in equilibrium allows to develop an EOS for OOE-liquids depending on one additional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mall aging times, small perturbations are consistent with such hipothesis. Work is requested to evaluate the limit of valid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ff"/>
                </a:solidFill>
                <a:latin typeface="Times New Roman"/>
              </a:rPr>
              <a:t>This parameter can be chosen as fictive T, fictive P or depth of the explored basin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914400"/>
            <a:ext cx="9144000" cy="75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 improved description of the statistical properties of the potential energy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ff"/>
                </a:solidFill>
                <a:latin typeface="Times New Roman"/>
              </a:rPr>
              <a:t>Role of the statistical properties of the PEL in liquid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deeper understanding of the concept of P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conf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and of EOS of a g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An estimate of the limit of validity of the assumption that a glass is a frozen liquid (number of parame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Connections between PEL properties and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References and Acknowledge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7680" y="105084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cknowledge important discussions, comments, criticisms from  P. Debenedetti, S. Sastry, R. Speedy, A. Angell, T. Keyes, G. Ruocco and collabo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2666880"/>
            <a:ext cx="76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Times New Roman"/>
              </a:rPr>
              <a:t>Francesco Sciortino and Piero Tarta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ff"/>
                </a:solidFill>
                <a:latin typeface="Times New Roman"/>
              </a:rPr>
              <a:t>Extension of the Fluctuation-Dissipation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ff"/>
                </a:solidFill>
                <a:latin typeface="Times New Roman"/>
              </a:rPr>
              <a:t>to the physical aging of a model glass-forming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Times New Roman"/>
              </a:rPr>
              <a:t>Phys. Rev. Lett.  </a:t>
            </a:r>
            <a:r>
              <a:rPr b="1" lang="en-US" sz="2400" spc="-1" strike="noStrike">
                <a:solidFill>
                  <a:srgbClr val="0080ff"/>
                </a:solidFill>
                <a:latin typeface="Times New Roman"/>
              </a:rPr>
              <a:t>86</a:t>
            </a:r>
            <a:r>
              <a:rPr b="0" lang="en-US" sz="2400" spc="-1" strike="noStrike">
                <a:solidFill>
                  <a:srgbClr val="0080ff"/>
                </a:solidFill>
                <a:latin typeface="Times New Roman"/>
              </a:rPr>
              <a:t> 107 (200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milia La Nave, Stefano Mossa and Francesco Sciort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Potential Energy Landscape Equation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hys. Rev. Lett.,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8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, 225701 (200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fano Mossa,  Emilia La Nave, Francesco Sciortino and Piero Tartaglia,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ging and Energy Landscape: Application to Liquids and Glass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, cond-mat/020507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65156" r="0" b="0"/>
          <a:stretch/>
        </p:blipFill>
        <p:spPr>
          <a:xfrm>
            <a:off x="5867280" y="1905120"/>
            <a:ext cx="327672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ff"/>
                </a:solidFill>
                <a:latin typeface="Times New Roman"/>
              </a:rPr>
              <a:t>Entering the supercooled re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5562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Same basins in Equilibrium and Aging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8370" r="3456" b="0"/>
          <a:stretch/>
        </p:blipFill>
        <p:spPr>
          <a:xfrm>
            <a:off x="0" y="946080"/>
            <a:ext cx="88390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3559320" cy="311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2408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152560" y="609480"/>
            <a:ext cx="12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590920"/>
            <a:ext cx="6324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basin 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)= -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ln[Z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1800" y="1371600"/>
            <a:ext cx="14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in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733920"/>
            <a:ext cx="883908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T)=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9600" spc="-1" strike="noStrike" baseline="-11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4000" spc="-1" strike="noStrike" baseline="-3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 [h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/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]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anharmoni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486400"/>
            <a:ext cx="1828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rmal modes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24280" y="51814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14264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Z(T)=  </a:t>
            </a:r>
            <a:r>
              <a:rPr b="0" lang="en-US" sz="9600" spc="-1" strike="noStrike" baseline="-3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T)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rmodynamics in the IS forma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914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illinger-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744516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=-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666880"/>
            <a:ext cx="19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505320"/>
            <a:ext cx="510552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= 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426708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029200"/>
            <a:ext cx="472428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=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562720" y="3809880"/>
            <a:ext cx="129528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3352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Basin depth and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638320" y="5257800"/>
            <a:ext cx="129564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48006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Number of explored bas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8921" t="11537" r="48650" b="11537"/>
          <a:stretch/>
        </p:blipFill>
        <p:spPr>
          <a:xfrm>
            <a:off x="3276720" y="1523880"/>
            <a:ext cx="2666880" cy="533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29400" y="2209680"/>
            <a:ext cx="1506600" cy="1722600"/>
          </a:xfrm>
          <a:custGeom>
            <a:avLst/>
            <a:gdLst/>
            <a:ahLst/>
            <a:rect l="l" t="t" r="r" b="b"/>
            <a:pathLst>
              <a:path w="949" h="1085">
                <a:moveTo>
                  <a:pt x="0" y="32"/>
                </a:moveTo>
                <a:cubicBezTo>
                  <a:pt x="12" y="199"/>
                  <a:pt x="34" y="491"/>
                  <a:pt x="92" y="660"/>
                </a:cubicBezTo>
                <a:cubicBezTo>
                  <a:pt x="102" y="689"/>
                  <a:pt x="107" y="785"/>
                  <a:pt x="132" y="802"/>
                </a:cubicBezTo>
                <a:cubicBezTo>
                  <a:pt x="206" y="851"/>
                  <a:pt x="252" y="957"/>
                  <a:pt x="324" y="1015"/>
                </a:cubicBezTo>
                <a:cubicBezTo>
                  <a:pt x="370" y="1052"/>
                  <a:pt x="440" y="1071"/>
                  <a:pt x="497" y="1085"/>
                </a:cubicBezTo>
                <a:cubicBezTo>
                  <a:pt x="534" y="1081"/>
                  <a:pt x="571" y="1082"/>
                  <a:pt x="608" y="1075"/>
                </a:cubicBezTo>
                <a:cubicBezTo>
                  <a:pt x="645" y="1066"/>
                  <a:pt x="634" y="1050"/>
                  <a:pt x="649" y="1025"/>
                </a:cubicBezTo>
                <a:cubicBezTo>
                  <a:pt x="686" y="957"/>
                  <a:pt x="721" y="895"/>
                  <a:pt x="750" y="822"/>
                </a:cubicBezTo>
                <a:cubicBezTo>
                  <a:pt x="761" y="792"/>
                  <a:pt x="769" y="761"/>
                  <a:pt x="780" y="731"/>
                </a:cubicBezTo>
                <a:cubicBezTo>
                  <a:pt x="786" y="710"/>
                  <a:pt x="800" y="670"/>
                  <a:pt x="800" y="670"/>
                </a:cubicBezTo>
                <a:cubicBezTo>
                  <a:pt x="803" y="646"/>
                  <a:pt x="800" y="620"/>
                  <a:pt x="811" y="599"/>
                </a:cubicBezTo>
                <a:cubicBezTo>
                  <a:pt x="815" y="589"/>
                  <a:pt x="835" y="598"/>
                  <a:pt x="841" y="589"/>
                </a:cubicBezTo>
                <a:cubicBezTo>
                  <a:pt x="851" y="571"/>
                  <a:pt x="847" y="548"/>
                  <a:pt x="851" y="529"/>
                </a:cubicBezTo>
                <a:cubicBezTo>
                  <a:pt x="862" y="471"/>
                  <a:pt x="869" y="413"/>
                  <a:pt x="881" y="356"/>
                </a:cubicBezTo>
                <a:cubicBezTo>
                  <a:pt x="884" y="315"/>
                  <a:pt x="886" y="275"/>
                  <a:pt x="892" y="235"/>
                </a:cubicBezTo>
                <a:cubicBezTo>
                  <a:pt x="898" y="188"/>
                  <a:pt x="922" y="150"/>
                  <a:pt x="922" y="103"/>
                </a:cubicBezTo>
                <a:lnTo>
                  <a:pt x="9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8280" y="3222720"/>
            <a:ext cx="6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048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685440" y="3048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0"/>
            <a:ext cx="29718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local minima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80880"/>
            <a:ext cx="2057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brations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7339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762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4680" y="3049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862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962520"/>
            <a:ext cx="228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971800"/>
            <a:ext cx="30492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304812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5053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7203960" y="3235320"/>
            <a:ext cx="64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v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1320" y="380880"/>
            <a:ext cx="711828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=-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438280"/>
            <a:ext cx="190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rom simulation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(T) </a:t>
            </a: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(steepest descent minim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 </a:t>
            </a: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(harmonic and anharmonic contribu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 </a:t>
            </a: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(thermodynamic integration from ideal g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667480"/>
            <a:ext cx="7620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two rigid-molecul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L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T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SPC/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20240" y="513540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this talk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asin Free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52574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baseline="-5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5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]=a+b e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39186" r="0" b="0"/>
          <a:stretch/>
        </p:blipFill>
        <p:spPr>
          <a:xfrm>
            <a:off x="4952880" y="1036800"/>
            <a:ext cx="4724640" cy="3770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51120" y="113508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PC/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63080" y="1050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LW-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0" t="12938" r="0" b="0"/>
          <a:stretch/>
        </p:blipFill>
        <p:spPr>
          <a:xfrm>
            <a:off x="-304920" y="1752480"/>
            <a:ext cx="53341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45756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ff"/>
                </a:solidFill>
                <a:latin typeface="Times New Roman"/>
              </a:rPr>
              <a:t>The Random Energy Model for e</a:t>
            </a:r>
            <a:r>
              <a:rPr b="0" lang="en-US" sz="4400" spc="-1" strike="noStrike" baseline="-25000">
                <a:solidFill>
                  <a:srgbClr val="0080ff"/>
                </a:solidFill>
                <a:latin typeface="Times New Roman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0240" y="9144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Hypoth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88620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Predi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5880" y="1614600"/>
            <a:ext cx="6944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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d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800" spc="-1" strike="noStrike" baseline="38000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4800" spc="-1" strike="noStrike" baseline="38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---------------d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371600"/>
            <a:ext cx="2568600" cy="7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-(e</a:t>
            </a:r>
            <a:r>
              <a:rPr b="0" lang="en-US" sz="3200" spc="-1" strike="noStrike" baseline="-9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3600" spc="-1" strike="noStrike" baseline="36000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9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7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 baseline="36000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74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22096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9400" y="2895480"/>
            <a:ext cx="473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baseline="-5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]=a+b 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440" y="4876920"/>
            <a:ext cx="5026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&gt;=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5791320"/>
            <a:ext cx="7226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=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T)&gt;-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2209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105160" y="22096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87656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548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3183" t="0" r="28528" b="20830"/>
          <a:stretch/>
        </p:blipFill>
        <p:spPr>
          <a:xfrm>
            <a:off x="457200" y="2513160"/>
            <a:ext cx="3429000" cy="4344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10308" t="5583" r="7068" b="10819"/>
          <a:stretch/>
        </p:blipFill>
        <p:spPr>
          <a:xfrm>
            <a:off x="4267080" y="1523880"/>
            <a:ext cx="4648320" cy="363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33920" y="457200"/>
            <a:ext cx="294948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105520"/>
            <a:ext cx="4191120" cy="28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40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gt;=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aussian Distributi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1:48:49Z</dcterms:created>
  <dc:creator>P T</dc:creator>
  <dc:description/>
  <dc:language>en-US</dc:language>
  <cp:lastModifiedBy>Administrator</cp:lastModifiedBy>
  <cp:lastPrinted>2002-09-12T07:04:17Z</cp:lastPrinted>
  <dcterms:modified xsi:type="dcterms:W3CDTF">2006-03-10T14:50:14Z</dcterms:modified>
  <cp:revision>22</cp:revision>
  <dc:subject/>
  <dc:title>PowerPoint Presentation</dc:title>
</cp:coreProperties>
</file>