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934-B285-4517-A0EF-21226E88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E70-8D22-4B29-9FCA-F9EA41F1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619-3A44-4ABA-910E-9FEC11E3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C50-E705-4B25-8F71-FD6CDEA0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96F-56F3-4731-903F-5AC1CB9B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03E-BEEC-4E64-BC7C-58DBABE1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054-E6AC-4B1C-89F2-2C5D1B5D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752-9497-4C15-9571-F9698B6C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6FF-C248-4420-8901-DD9E1C01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7BD-728B-452C-8C3B-1B518DDF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632-DA55-4BF3-9AD8-DEAA012A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8BE-D3C9-416A-ACE9-5E4F42AB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0F41-6737-43E7-9DA2-6D9967678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176040"/>
            <a:ext cx="9144000" cy="72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6934320" y="5943600"/>
          <a:ext cx="2209680" cy="104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5943600"/>
                    <a:ext cx="22096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6477120"/>
            <a:ext cx="330840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Gels 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and strong liqu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MS"/>
              </a:rPr>
              <a:t>5th International Discussion Meeting on Relaxations in Complex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MS"/>
              </a:rPr>
              <a:t>New results, Directions and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19520" y="308592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ancesco Scior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94320" y="1828800"/>
            <a:ext cx="37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dnesday … last 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85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face 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1120" y="0"/>
            <a:ext cx="89996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How to stay at low T without condens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00" y="8215200"/>
            <a:ext cx="688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 algn="ctr">
              <a:lnSpc>
                <a:spcPts val="76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0000"/>
                </a:solidFill>
                <a:latin typeface="Gill Sans"/>
              </a:rPr>
              <a:t>The ques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00280" y="1407960"/>
            <a:ext cx="6192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Reasons for conden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(Frank, Hill, Conigli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Physical Clusters at low 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5280" y="4724280"/>
            <a:ext cx="24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18"/>
                </a:solidFill>
                <a:latin typeface="Gill Sans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724280"/>
            <a:ext cx="68580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18"/>
                </a:solidFill>
                <a:latin typeface="Gill Sans"/>
              </a:rPr>
              <a:t>the infinite cluster is the lowest (free)energ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5715000"/>
            <a:ext cx="7302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ff"/>
                </a:solidFill>
                <a:latin typeface="Gill Sans"/>
              </a:rPr>
              <a:t>How to make the surface as stable as the bulk (or more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4572000" cy="1003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1811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8120" y="40384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454120" y="4381560"/>
            <a:ext cx="1188000" cy="685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362320" y="472428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454120" y="4381560"/>
            <a:ext cx="1188000" cy="685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705400" y="4130280"/>
            <a:ext cx="685800" cy="118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705040" y="4130280"/>
            <a:ext cx="686160" cy="118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0384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49000" y="4381560"/>
            <a:ext cx="1188000" cy="685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7200" y="472428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9000" y="4381560"/>
            <a:ext cx="1188000" cy="685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800280" y="4130280"/>
            <a:ext cx="685800" cy="118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99920" y="4130280"/>
            <a:ext cx="686160" cy="118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40384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044680" y="4381200"/>
            <a:ext cx="1188000" cy="686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52880" y="472428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044680" y="4381560"/>
            <a:ext cx="1188000" cy="685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295960" y="4130280"/>
            <a:ext cx="685800" cy="118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295600" y="4130280"/>
            <a:ext cx="686160" cy="118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0384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407000" y="4381200"/>
            <a:ext cx="1188000" cy="686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7315200" y="472428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407000" y="4381560"/>
            <a:ext cx="1188000" cy="685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658280" y="4130280"/>
            <a:ext cx="685800" cy="1188000"/>
          </a:xfrm>
          <a:prstGeom prst="line">
            <a:avLst/>
          </a:prstGeom>
          <a:ln w="28440">
            <a:solidFill>
              <a:srgbClr val="0000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658280" y="4130280"/>
            <a:ext cx="685800" cy="1188000"/>
          </a:xfrm>
          <a:prstGeom prst="line">
            <a:avLst/>
          </a:prstGeom>
          <a:ln w="28440">
            <a:solidFill>
              <a:srgbClr val="0000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8380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8120" y="1181160"/>
            <a:ext cx="1188000" cy="685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6320" y="152388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68120" y="1180800"/>
            <a:ext cx="1188000" cy="686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19400" y="929880"/>
            <a:ext cx="685800" cy="118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19040" y="929880"/>
            <a:ext cx="686160" cy="118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03848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4479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24680" y="457200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57200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457200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495288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495288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96252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95288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1523880"/>
            <a:ext cx="106704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1523880"/>
            <a:ext cx="12193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1523880"/>
            <a:ext cx="129564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523880"/>
            <a:ext cx="129564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523880" y="1447560"/>
            <a:ext cx="144792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23880" y="1219320"/>
            <a:ext cx="12956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523880" y="990360"/>
            <a:ext cx="129564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523880" y="914040"/>
            <a:ext cx="106704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447920" y="685800"/>
            <a:ext cx="106668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4960" y="5638680"/>
            <a:ext cx="8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59800" y="5668920"/>
            <a:ext cx="154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=-N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1640" y="5638680"/>
            <a:ext cx="10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=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17440" y="5715000"/>
            <a:ext cx="154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=-N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0" b="14889"/>
          <a:stretch/>
        </p:blipFill>
        <p:spPr>
          <a:xfrm>
            <a:off x="2971800" y="-144360"/>
            <a:ext cx="6248520" cy="41068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Times New Roman"/>
              </a:rPr>
              <a:t>max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on a Bethe lat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61240" y="653724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Sastry and E. La N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03800" y="228600"/>
            <a:ext cx="125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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8360" y="1295280"/>
            <a:ext cx="110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35480" y="2590920"/>
            <a:ext cx="122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69320" y="228600"/>
            <a:ext cx="70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eometric Constraint: Maximum Val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1371600"/>
            <a:ext cx="0" cy="3048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066320" y="4419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76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-360" y="3429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1371600"/>
            <a:ext cx="7696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W if  # of bonded particles &lt;= N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HS  if  # of bonded particles  &gt; N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80880"/>
            <a:ext cx="0" cy="30481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6840" y="898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3680" y="898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47560" y="3489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um Val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46390" t="46384" r="46390" b="46384"/>
          <a:stretch/>
        </p:blipFill>
        <p:spPr>
          <a:xfrm>
            <a:off x="3733920" y="41148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46390" t="46384" r="46390" b="46384"/>
          <a:stretch/>
        </p:blipFill>
        <p:spPr>
          <a:xfrm>
            <a:off x="3505320" y="47242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rcRect l="46390" t="46384" r="46390" b="46384"/>
          <a:stretch/>
        </p:blipFill>
        <p:spPr>
          <a:xfrm>
            <a:off x="3276720" y="36576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rcRect l="46390" t="46384" r="46390" b="46384"/>
          <a:stretch/>
        </p:blipFill>
        <p:spPr>
          <a:xfrm>
            <a:off x="4724280" y="41911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rcRect l="46390" t="46384" r="46390" b="46384"/>
          <a:stretch/>
        </p:blipFill>
        <p:spPr>
          <a:xfrm>
            <a:off x="4267080" y="37339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rcRect l="46390" t="46384" r="46390" b="46384"/>
          <a:stretch/>
        </p:blipFill>
        <p:spPr>
          <a:xfrm>
            <a:off x="4800600" y="48769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rcRect l="46390" t="46384" r="46390" b="46384"/>
          <a:stretch/>
        </p:blipFill>
        <p:spPr>
          <a:xfrm>
            <a:off x="5334120" y="39625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rcRect l="46390" t="46384" r="46390" b="46384"/>
          <a:stretch/>
        </p:blipFill>
        <p:spPr>
          <a:xfrm>
            <a:off x="4343400" y="30481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9"/>
          <a:srcRect l="46390" t="46384" r="46390" b="46384"/>
          <a:stretch/>
        </p:blipFill>
        <p:spPr>
          <a:xfrm>
            <a:off x="5791320" y="44197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0"/>
          <a:srcRect l="46390" t="46384" r="46390" b="46384"/>
          <a:stretch/>
        </p:blipFill>
        <p:spPr>
          <a:xfrm>
            <a:off x="5715000" y="33526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1"/>
          <a:srcRect l="46390" t="46384" r="46390" b="46384"/>
          <a:stretch/>
        </p:blipFill>
        <p:spPr>
          <a:xfrm>
            <a:off x="6477120" y="44197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2"/>
          <a:srcRect l="46390" t="46384" r="46390" b="46384"/>
          <a:stretch/>
        </p:blipFill>
        <p:spPr>
          <a:xfrm>
            <a:off x="5029200" y="32004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3"/>
          <a:srcRect l="46390" t="46384" r="46390" b="46384"/>
          <a:stretch/>
        </p:blipFill>
        <p:spPr>
          <a:xfrm>
            <a:off x="3657600" y="30481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4"/>
          <a:srcRect l="46390" t="46384" r="46390" b="46384"/>
          <a:stretch/>
        </p:blipFill>
        <p:spPr>
          <a:xfrm>
            <a:off x="5486400" y="50292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5"/>
          <a:srcRect l="46390" t="46384" r="46390" b="46384"/>
          <a:stretch/>
        </p:blipFill>
        <p:spPr>
          <a:xfrm>
            <a:off x="3581280" y="5410080"/>
            <a:ext cx="962280" cy="990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6"/>
          <a:srcRect l="46390" t="46384" r="46390" b="46384"/>
          <a:stretch/>
        </p:blipFill>
        <p:spPr>
          <a:xfrm>
            <a:off x="4114800" y="49528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7"/>
          <a:srcRect l="46390" t="46384" r="46390" b="46384"/>
          <a:stretch/>
        </p:blipFill>
        <p:spPr>
          <a:xfrm>
            <a:off x="6324480" y="3733920"/>
            <a:ext cx="962280" cy="990360"/>
          </a:xfrm>
          <a:prstGeom prst="rect">
            <a:avLst/>
          </a:prstGeom>
          <a:ln w="0">
            <a:noFill/>
          </a:ln>
        </p:spPr>
      </p:pic>
      <p:cxnSp>
        <p:nvCxnSpPr>
          <p:cNvPr id="221" name=""/>
          <p:cNvCxnSpPr/>
          <p:nvPr/>
        </p:nvCxnSpPr>
        <p:spPr>
          <a:xfrm>
            <a:off x="6248160" y="3809880"/>
            <a:ext cx="53388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H="1" flipV="1">
            <a:off x="5638320" y="3656880"/>
            <a:ext cx="610560" cy="1530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H="1">
            <a:off x="5866560" y="3809880"/>
            <a:ext cx="381960" cy="496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V="1">
            <a:off x="5181480" y="4419000"/>
            <a:ext cx="610560" cy="2293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5" name=""/>
          <p:cNvCxnSpPr/>
          <p:nvPr/>
        </p:nvCxnSpPr>
        <p:spPr>
          <a:xfrm>
            <a:off x="5181480" y="4647960"/>
            <a:ext cx="76680" cy="6865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 flipH="1" flipV="1">
            <a:off x="4647600" y="4190760"/>
            <a:ext cx="53388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72388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-modifie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Phase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Phase Diagra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2746" t="4623" r="9339" b="0"/>
          <a:stretch/>
        </p:blipFill>
        <p:spPr>
          <a:xfrm>
            <a:off x="1295280" y="546120"/>
            <a:ext cx="6096240" cy="5765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181480" y="1905120"/>
            <a:ext cx="0" cy="367164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124080" y="6575400"/>
            <a:ext cx="4800600" cy="434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971800" y="6084720"/>
            <a:ext cx="2438280" cy="544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394240" y="615636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t is possible to equilibrate at low T !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6438" t="13432" r="5564" b="5163"/>
          <a:stretch/>
        </p:blipFill>
        <p:spPr>
          <a:xfrm>
            <a:off x="647640" y="990720"/>
            <a:ext cx="7353360" cy="4890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rcRect l="4939" t="13913" r="7068" b="0"/>
          <a:stretch/>
        </p:blipFill>
        <p:spPr>
          <a:xfrm>
            <a:off x="685800" y="779400"/>
            <a:ext cx="71629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0" t="11873" r="8222" b="5008"/>
          <a:stretch/>
        </p:blipFill>
        <p:spPr>
          <a:xfrm>
            <a:off x="1981080" y="2971800"/>
            <a:ext cx="4800600" cy="33606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g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rcRect l="0" t="22886" r="0" b="28331"/>
          <a:stretch/>
        </p:blipFill>
        <p:spPr>
          <a:xfrm>
            <a:off x="1143000" y="609480"/>
            <a:ext cx="6456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hat is the gel dynamics (in this model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d lifetime (Arrhenius along isoch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hat is the gel dynamics (in this model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d lif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s t  (along isochores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14235" r="7864" b="4359"/>
          <a:stretch/>
        </p:blipFill>
        <p:spPr>
          <a:xfrm>
            <a:off x="2133720" y="2133720"/>
            <a:ext cx="70102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el vs Glass - MS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755" t="11766" r="0" b="2942"/>
          <a:stretch/>
        </p:blipFill>
        <p:spPr>
          <a:xfrm>
            <a:off x="76320" y="735120"/>
            <a:ext cx="9448560" cy="62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hat is the gel dynamics (in this model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d life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s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76520" y="1163520"/>
            <a:ext cx="746748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versible (Chemical) Gelation in a simple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oreversible (Physical) Ge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ls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(strong liquid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Gla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els…..(water, DNA-ge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91960" y="-154080"/>
            <a:ext cx="82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 along isochores…          D along iso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0" t="12684" r="0" b="0"/>
          <a:stretch/>
        </p:blipFill>
        <p:spPr>
          <a:xfrm>
            <a:off x="38160" y="3807000"/>
            <a:ext cx="4762440" cy="3213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rcRect l="0" t="11766" r="4546" b="3924"/>
          <a:stretch/>
        </p:blipFill>
        <p:spPr>
          <a:xfrm>
            <a:off x="4343400" y="533520"/>
            <a:ext cx="4800600" cy="3276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rcRect l="0" t="6471" r="0" b="5119"/>
          <a:stretch/>
        </p:blipFill>
        <p:spPr>
          <a:xfrm>
            <a:off x="0" y="609480"/>
            <a:ext cx="4572000" cy="3124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 vs isochores and isoth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ynamic Arrest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5851440"/>
            <a:ext cx="870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e possibility of observing strong-liquid behavior intimately connected to reduction of bo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1074" t="2779" r="8140" b="1126"/>
          <a:stretch/>
        </p:blipFill>
        <p:spPr>
          <a:xfrm>
            <a:off x="990720" y="492120"/>
            <a:ext cx="66294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ir-wise model (geometric correlation between bonds)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PMW, I. Nezbe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31302" t="31302" r="34704" b="34704"/>
          <a:stretch/>
        </p:blipFill>
        <p:spPr>
          <a:xfrm>
            <a:off x="5943600" y="1371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rcRect l="1564" t="10108" r="9375" b="6995"/>
          <a:stretch/>
        </p:blipFill>
        <p:spPr>
          <a:xfrm>
            <a:off x="0" y="1295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rcRect l="0" t="13698" r="9525" b="4109"/>
          <a:stretch/>
        </p:blipFill>
        <p:spPr>
          <a:xfrm>
            <a:off x="4191120" y="3459240"/>
            <a:ext cx="49528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oidal Gels, Molecular Gels, …. and DNA ge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08960" cy="1380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82960" y="2971800"/>
            <a:ext cx="76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Arm Ologonucleotide Complexes as precursors for the generation of supramolecular periodic assemb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S 126, 2050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3862440" cy="237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rcRect l="27200" t="22403" r="30801" b="29604"/>
          <a:stretch/>
        </p:blipFill>
        <p:spPr>
          <a:xfrm>
            <a:off x="1066680" y="3429000"/>
            <a:ext cx="2934000" cy="33526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914400" y="35053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546880" y="432756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indroms in complementary sp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5073480" y="3429000"/>
            <a:ext cx="32324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rcRect l="28852" t="12748" r="30305" b="5883"/>
          <a:stretch/>
        </p:blipFill>
        <p:spPr>
          <a:xfrm>
            <a:off x="4986360" y="-152280"/>
            <a:ext cx="4157640" cy="6400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rcRect l="0" t="12781" r="7410" b="0"/>
          <a:stretch/>
        </p:blipFill>
        <p:spPr>
          <a:xfrm>
            <a:off x="0" y="3592440"/>
            <a:ext cx="4800600" cy="3494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0" y="-152280"/>
            <a:ext cx="3873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l propensity: Initial understanding of the ingredients requested to generate an “ideal” g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ls and Glasses (two different faces of the arrest dynamics). Percolation not se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ar and Atomic gels - Strong 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ing questions…. Where is the MCT li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De Michele, E. La Nave, P. Tartaglia, E. Zaccarelli  (U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 Sapien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oma, Italy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Saika-Voivod  (U. Saskatchewan, Canada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Moreno (Donostia International Center, Spain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 Bulderyev (DMD code)  (Yeshiva U., USA)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 Sastry   (Bethe)  (JNCASR, India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 Starr (DNA-Gels) (Wesleyan U., U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el vs Glass: Density Autocorrelation Func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25000" cy="5538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543800" y="1828800"/>
            <a:ext cx="81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90800" y="243828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q gel vs 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7240" y="1206360"/>
            <a:ext cx="77677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nd Lifetime.. Several more decade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3819600"/>
            <a:ext cx="3429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380880"/>
            <a:ext cx="0" cy="3048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76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-360" y="3429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57200"/>
            <a:ext cx="0" cy="2971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840" y="898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3680" y="898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7560" y="3489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an HS g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46390" t="46384" r="46390" b="46384"/>
          <a:stretch/>
        </p:blipFill>
        <p:spPr>
          <a:xfrm>
            <a:off x="3581280" y="3124080"/>
            <a:ext cx="96228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46390" t="46384" r="46390" b="46384"/>
          <a:stretch/>
        </p:blipFill>
        <p:spPr>
          <a:xfrm>
            <a:off x="3505320" y="47242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46390" t="46384" r="46390" b="46384"/>
          <a:stretch/>
        </p:blipFill>
        <p:spPr>
          <a:xfrm>
            <a:off x="2971800" y="27432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46390" t="46384" r="46390" b="46384"/>
          <a:stretch/>
        </p:blipFill>
        <p:spPr>
          <a:xfrm>
            <a:off x="5334120" y="7621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rcRect l="46390" t="46384" r="46390" b="46384"/>
          <a:stretch/>
        </p:blipFill>
        <p:spPr>
          <a:xfrm>
            <a:off x="4267080" y="2209680"/>
            <a:ext cx="9622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rcRect l="46390" t="46384" r="46390" b="46384"/>
          <a:stretch/>
        </p:blipFill>
        <p:spPr>
          <a:xfrm>
            <a:off x="5105520" y="41148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rcRect l="46390" t="46384" r="46390" b="46384"/>
          <a:stretch/>
        </p:blipFill>
        <p:spPr>
          <a:xfrm>
            <a:off x="8182080" y="24382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rcRect l="46390" t="46384" r="46390" b="46384"/>
          <a:stretch/>
        </p:blipFill>
        <p:spPr>
          <a:xfrm>
            <a:off x="4419720" y="15238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rcRect l="46390" t="46384" r="46390" b="46384"/>
          <a:stretch/>
        </p:blipFill>
        <p:spPr>
          <a:xfrm>
            <a:off x="6858000" y="21337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rcRect l="46390" t="46384" r="46390" b="46384"/>
          <a:stretch/>
        </p:blipFill>
        <p:spPr>
          <a:xfrm>
            <a:off x="6172200" y="22860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rcRect l="46390" t="46384" r="46390" b="46384"/>
          <a:stretch/>
        </p:blipFill>
        <p:spPr>
          <a:xfrm>
            <a:off x="7315200" y="11430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rcRect l="46390" t="46384" r="46390" b="46384"/>
          <a:stretch/>
        </p:blipFill>
        <p:spPr>
          <a:xfrm>
            <a:off x="8001000" y="9907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rcRect l="46390" t="46384" r="46390" b="46384"/>
          <a:stretch/>
        </p:blipFill>
        <p:spPr>
          <a:xfrm>
            <a:off x="3733920" y="14479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rcRect l="46390" t="46384" r="46390" b="46384"/>
          <a:stretch/>
        </p:blipFill>
        <p:spPr>
          <a:xfrm>
            <a:off x="1371600" y="45720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5"/>
          <a:srcRect l="46390" t="46384" r="46390" b="46384"/>
          <a:stretch/>
        </p:blipFill>
        <p:spPr>
          <a:xfrm>
            <a:off x="3581280" y="5410080"/>
            <a:ext cx="962280" cy="99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6"/>
          <a:srcRect l="46390" t="46384" r="46390" b="46384"/>
          <a:stretch/>
        </p:blipFill>
        <p:spPr>
          <a:xfrm>
            <a:off x="2971800" y="51055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7"/>
          <a:srcRect l="46390" t="46384" r="46390" b="46384"/>
          <a:stretch/>
        </p:blipFill>
        <p:spPr>
          <a:xfrm>
            <a:off x="6629400" y="838080"/>
            <a:ext cx="961920" cy="99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52480" y="457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Model for Chemical Gels  [with HS g(r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5840" y="342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50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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4678200" y="3429000"/>
            <a:ext cx="4465800" cy="3564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73640" y="-152280"/>
            <a:ext cx="482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versible G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315200" cy="56530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700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k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5791320" cy="5230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68480" y="7772400"/>
            <a:ext cx="5207040" cy="1955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181480" y="1066680"/>
            <a:ext cx="3353040" cy="220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752480" y="914400"/>
            <a:ext cx="1866960" cy="317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92160" y="-1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ehavior of the density autocorrelation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627840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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pend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5791320" cy="502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13120" y="8305920"/>
            <a:ext cx="511776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rreversible Gelation f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31360" y="594360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gnatures of percolation at fixe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66880" y="514440"/>
            <a:ext cx="5867640" cy="5827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inite Lifetime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590920"/>
            <a:ext cx="0" cy="838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76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457200"/>
            <a:ext cx="0" cy="2971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6840" y="898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3680" y="898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47560" y="3489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5840" y="342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50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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-360" y="3429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4008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l Ga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700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uare Well 3% wid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914400"/>
            <a:ext cx="8562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eric Phase Diagram for Square Well  (3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06960" y="6095880"/>
            <a:ext cx="517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637560" y="-455760"/>
            <a:ext cx="8536320" cy="7628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20640" y="0"/>
            <a:ext cx="43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hat on cooling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0" t="12497" r="0" b="8361"/>
          <a:stretch/>
        </p:blipFill>
        <p:spPr>
          <a:xfrm>
            <a:off x="1015920" y="1752480"/>
            <a:ext cx="711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959880" cy="53704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d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360" y="0"/>
            <a:ext cx="8999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The quest for the </a:t>
            </a:r>
            <a:r>
              <a:rPr b="1" i="1" lang="en-US" sz="4400" spc="-1" strike="noStrike">
                <a:solidFill>
                  <a:srgbClr val="ff0080"/>
                </a:solidFill>
                <a:latin typeface="Gill Sans"/>
              </a:rPr>
              <a:t>ideal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(thermoreversible) gel….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760" y="1473120"/>
            <a:ext cx="8313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1) Long Living (but reversible)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2)No Phase Sepa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800" y="3124080"/>
            <a:ext cx="793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ill Sans"/>
              </a:rPr>
              <a:t>Are 1 and 2 mutually exclusiv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191120"/>
            <a:ext cx="4191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Low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96080" y="5943600"/>
            <a:ext cx="3317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onden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419720" y="4495680"/>
            <a:ext cx="1295280" cy="12960"/>
          </a:xfrm>
          <a:prstGeom prst="line">
            <a:avLst/>
          </a:prstGeom>
          <a:ln w="889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15160" y="4038480"/>
            <a:ext cx="2725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Long Bo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Life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276360" y="4800240"/>
            <a:ext cx="12600" cy="1143000"/>
          </a:xfrm>
          <a:prstGeom prst="line">
            <a:avLst/>
          </a:prstGeom>
          <a:ln w="889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5:13:46Z</dcterms:created>
  <dc:creator>root root</dc:creator>
  <dc:description/>
  <dc:language>en-US</dc:language>
  <cp:lastModifiedBy>Administrator</cp:lastModifiedBy>
  <dcterms:modified xsi:type="dcterms:W3CDTF">2006-03-10T14:50:27Z</dcterms:modified>
  <cp:revision>111</cp:revision>
  <dc:subject/>
  <dc:title>PowerPoint Presentation</dc:title>
</cp:coreProperties>
</file>