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1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3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5A2-BE57-46A1-9C9B-DDB04800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BE8-42EB-4A93-BE43-79FC48C5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170-1450-4EB5-BF56-DED5D173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77D-2FC0-48BA-BB19-739011D1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ABE-A1F9-4658-90AA-4C0DA9A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D5B-917B-4C22-8604-A9559BE6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BDE-2B59-4F32-AD1A-208AE68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48B-3C0C-42C2-83D2-658A205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0E7-AC63-407C-BC42-02126651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456-6AD4-4959-927F-521640C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FDF-7D76-4FAE-B7D9-BBF172C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636-EBC3-4A11-BF81-5738C8A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D2F-BE31-4C5F-9DA4-87EB47CB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07200"/>
            <a:ext cx="3308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934320" y="5805360"/>
          <a:ext cx="2209680" cy="104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805360"/>
                    <a:ext cx="22096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0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ROPERTIES OF THE LANDSCAPE OF A SIMPLE STRONG LIQUID MODEL  …. AND SOMETHING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 La Nave, P. Tartaglia, E. Zaccarelli (Rom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Saika-Voivod  (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oreno (S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Bulderyev  (N.Y. U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MS"/>
              </a:rPr>
              <a:t>5th International Discussion Meeting on Relaxations in Complex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MS"/>
              </a:rPr>
              <a:t>New results, Directions and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362320"/>
            <a:ext cx="59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rancesco Sciort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0360" y="0"/>
            <a:ext cx="67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alency Model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dy-Debenedet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76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minimal model  for network forming liq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371600"/>
            <a:ext cx="0" cy="3048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42900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066320" y="44197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76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76212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W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f  # of bonded particles &lt;= N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S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if  # of bonded particles  &gt; N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80880"/>
            <a:ext cx="0" cy="3048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6840" y="898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3680" y="898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7560" y="3489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Val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560" y="5562720"/>
            <a:ext cx="86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s coincide with the bonding pattern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46390" t="46384" r="46390" b="46384"/>
          <a:stretch/>
        </p:blipFill>
        <p:spPr>
          <a:xfrm>
            <a:off x="3886200" y="2819520"/>
            <a:ext cx="96192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46390" t="46384" r="46390" b="46384"/>
          <a:stretch/>
        </p:blipFill>
        <p:spPr>
          <a:xfrm>
            <a:off x="3657600" y="342900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46390" t="46384" r="46390" b="46384"/>
          <a:stretch/>
        </p:blipFill>
        <p:spPr>
          <a:xfrm>
            <a:off x="4876920" y="28954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46390" t="46384" r="46390" b="46384"/>
          <a:stretch/>
        </p:blipFill>
        <p:spPr>
          <a:xfrm>
            <a:off x="4419720" y="24382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rcRect l="46390" t="46384" r="46390" b="46384"/>
          <a:stretch/>
        </p:blipFill>
        <p:spPr>
          <a:xfrm>
            <a:off x="4952880" y="358128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rcRect l="46390" t="46384" r="46390" b="46384"/>
          <a:stretch/>
        </p:blipFill>
        <p:spPr>
          <a:xfrm>
            <a:off x="5486400" y="26668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rcRect l="46390" t="46384" r="46390" b="46384"/>
          <a:stretch/>
        </p:blipFill>
        <p:spPr>
          <a:xfrm>
            <a:off x="5943600" y="312408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rcRect l="46390" t="46384" r="46390" b="46384"/>
          <a:stretch/>
        </p:blipFill>
        <p:spPr>
          <a:xfrm>
            <a:off x="5867280" y="205740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rcRect l="46390" t="46384" r="46390" b="46384"/>
          <a:stretch/>
        </p:blipFill>
        <p:spPr>
          <a:xfrm>
            <a:off x="5181480" y="19051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rcRect l="46390" t="46384" r="46390" b="46384"/>
          <a:stretch/>
        </p:blipFill>
        <p:spPr>
          <a:xfrm>
            <a:off x="5638680" y="37339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rcRect l="46390" t="46384" r="46390" b="46384"/>
          <a:stretch/>
        </p:blipFill>
        <p:spPr>
          <a:xfrm>
            <a:off x="4267080" y="3657600"/>
            <a:ext cx="962280" cy="99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rcRect l="46390" t="46384" r="46390" b="46384"/>
          <a:stretch/>
        </p:blipFill>
        <p:spPr>
          <a:xfrm>
            <a:off x="6477120" y="2438280"/>
            <a:ext cx="961920" cy="99072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6400800" y="2514600"/>
            <a:ext cx="53424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flipV="1">
            <a:off x="5790600" y="2361600"/>
            <a:ext cx="610200" cy="153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 flipH="1">
            <a:off x="6019560" y="2514600"/>
            <a:ext cx="381600" cy="496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V="1">
            <a:off x="5333760" y="3123360"/>
            <a:ext cx="610200" cy="229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5333760" y="3352320"/>
            <a:ext cx="76680" cy="6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H="1" flipV="1">
            <a:off x="4800240" y="2895120"/>
            <a:ext cx="53424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31200" y="6095880"/>
            <a:ext cx="39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ccarelli et al PRL (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no et al Cond Mat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 Well 3% wid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8600" y="0"/>
            <a:ext cx="856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Generic Phase Diagram for Square Well  (3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06960" y="6095880"/>
            <a:ext cx="517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2501" r="8883" b="9540"/>
          <a:stretch/>
        </p:blipFill>
        <p:spPr>
          <a:xfrm>
            <a:off x="0" y="82080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700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 Well 3% wid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31760" y="0"/>
            <a:ext cx="9477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Generic Phase Diagram for N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Gill Sans"/>
              </a:rPr>
              <a:t>MAX</a:t>
            </a: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 Square Well  (3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06960" y="6095880"/>
            <a:ext cx="517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637560" y="-455760"/>
            <a:ext cx="8536320" cy="7628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11513" r="9390" b="10529"/>
          <a:stretch/>
        </p:blipFill>
        <p:spPr>
          <a:xfrm>
            <a:off x="0" y="838080"/>
            <a:ext cx="9067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08660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nergy per Part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State Energy Known !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Liquid free energy known everywhere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4100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is possible to equilibrate  at low T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438" t="13432" r="5564" b="5163"/>
          <a:stretch/>
        </p:blipFill>
        <p:spPr>
          <a:xfrm>
            <a:off x="0" y="152388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4939" t="13913" r="7068" b="0"/>
          <a:stretch/>
        </p:blipFill>
        <p:spPr>
          <a:xfrm>
            <a:off x="4876920" y="1523880"/>
            <a:ext cx="4267080" cy="3225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992640" y="48610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erthe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5240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46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ecific Heat (Cv) Max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739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12351" r="9544" b="3088"/>
          <a:stretch/>
        </p:blipFill>
        <p:spPr>
          <a:xfrm>
            <a:off x="539640" y="1052640"/>
            <a:ext cx="7848720" cy="5805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cosity and Diffusivity: Arrheni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13432" r="7693" b="0"/>
          <a:stretch/>
        </p:blipFill>
        <p:spPr>
          <a:xfrm>
            <a:off x="685800" y="1143000"/>
            <a:ext cx="7772400" cy="5241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-Einstein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ynamics:  Bond Life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787" t="3924" r="0" b="10784"/>
          <a:stretch/>
        </p:blipFill>
        <p:spPr>
          <a:xfrm>
            <a:off x="0" y="646200"/>
            <a:ext cx="90676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r-wise model (geometric correlation between bonds)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PMW, I. Nezbe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1302" t="31302" r="34704" b="34704"/>
          <a:stretch/>
        </p:blipFill>
        <p:spPr>
          <a:xfrm>
            <a:off x="594360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1564" t="10108" r="9375" b="6995"/>
          <a:stretch/>
        </p:blipFill>
        <p:spPr>
          <a:xfrm>
            <a:off x="0" y="1295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rcRect l="0" t="13698" r="9525" b="4109"/>
          <a:stretch/>
        </p:blipFill>
        <p:spPr>
          <a:xfrm>
            <a:off x="4191120" y="3459240"/>
            <a:ext cx="4952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6865" r="8333" b="16667"/>
          <a:stretch/>
        </p:blipFill>
        <p:spPr>
          <a:xfrm>
            <a:off x="-76320" y="914400"/>
            <a:ext cx="922032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79440" y="9036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nection between Dynamics and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62485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Times New Roman"/>
              </a:rPr>
              <a:t>* Peter Harrowell (UCGS Bangal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853920"/>
            <a:ext cx="89316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rt I -- A (numerically exact)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 the statistical properties of the landscap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 a strong liqui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modynamic in the Stillinger-Weber form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aussian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viation from 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s  ---- STRONG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ndscape ----  KNOW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art II -- Dynamic and Static heterogene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the central dogma</a:t>
            </a:r>
            <a:r>
              <a:rPr b="0" lang="en-US" sz="36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 IS is a bonding pattern 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663560"/>
            <a:ext cx="744552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T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 T) 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0988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57200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33412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520" y="380988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172200" y="525780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It is possible to calcula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the basin free energy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13203" r="8136" b="19440"/>
          <a:stretch/>
        </p:blipFill>
        <p:spPr>
          <a:xfrm>
            <a:off x="2286000" y="2971800"/>
            <a:ext cx="6858000" cy="3886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6934320" cy="965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6890040" cy="1019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1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n Fre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080" y="35654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kel-L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2470" r="4127" b="4936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trop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752480"/>
            <a:ext cx="3276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linearly with the # of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9640" y="3429000"/>
            <a:ext cx="1986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on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 ln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952880"/>
            <a:ext cx="3216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rapolate to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927680" y="457200"/>
            <a:ext cx="4502160" cy="6400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280" y="304920"/>
            <a:ext cx="4805640" cy="6476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37000" y="1440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lf-consistent calculation ---&gt; S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consist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rt 1 - Take home message(s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91440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work forming liquids tend to reach their (bonding) ground state on cooling   (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different from 1/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e bonding ground state can be degenerate. Degeneracy related to the number of possible networks with full bon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The discretines of the bonding energy (dominant as compared to the other interactions) favors an Arrhenius dynamics and a logarithmic IS entro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Network liquids are intrinsically different from non-networks, The approach to the ground state is NOT hampered by phase 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52280"/>
            <a:ext cx="6095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t II -Dynam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terogene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-Bold"/>
              </a:rPr>
              <a:t>J. Chem. Phys. B 108,19663,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685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ttempting to avoid any a priori defini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06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ok at differences between different rea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731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Eterogene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4775" t="8825" r="6060" b="9353"/>
          <a:stretch/>
        </p:blipFill>
        <p:spPr>
          <a:xfrm>
            <a:off x="4191120" y="3666960"/>
            <a:ext cx="4952880" cy="309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0" t="9089" r="12121" b="11766"/>
          <a:stretch/>
        </p:blipFill>
        <p:spPr>
          <a:xfrm>
            <a:off x="4191120" y="-19080"/>
            <a:ext cx="4952880" cy="3448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4920" y="367668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C/E Water 100 re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n distance =0.28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 dyanmics f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SD = (2 x 0.28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rcRect l="0" t="8283" r="6400" b="10956"/>
          <a:stretch/>
        </p:blipFill>
        <p:spPr>
          <a:xfrm>
            <a:off x="0" y="3657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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MSD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- vs - M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12331" r="9525" b="3423"/>
          <a:stretch/>
        </p:blipFill>
        <p:spPr>
          <a:xfrm>
            <a:off x="4800600" y="3733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13161" r="11863" b="3474"/>
          <a:stretch/>
        </p:blipFill>
        <p:spPr>
          <a:xfrm>
            <a:off x="0" y="838080"/>
            <a:ext cx="5029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11018" t="9872" r="9321" b="8978"/>
          <a:stretch/>
        </p:blipFill>
        <p:spPr>
          <a:xfrm>
            <a:off x="762120" y="1066680"/>
            <a:ext cx="7315200" cy="5759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7160" y="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nections with the landscape ?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0" t="6263" r="8451" b="4442"/>
          <a:stretch/>
        </p:blipFill>
        <p:spPr>
          <a:xfrm>
            <a:off x="533520" y="685800"/>
            <a:ext cx="7467480" cy="5629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ssione eis -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0" t="8348" r="4840" b="8176"/>
          <a:stretch/>
        </p:blipFill>
        <p:spPr>
          <a:xfrm>
            <a:off x="76320" y="838080"/>
            <a:ext cx="8610480" cy="583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8088" r="4689" b="9015"/>
          <a:stretch/>
        </p:blipFill>
        <p:spPr>
          <a:xfrm>
            <a:off x="285840" y="790560"/>
            <a:ext cx="8572320" cy="5762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32080" y="13644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mory of the landscape location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ch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e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T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91600" y="30492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5 BM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2387520"/>
            <a:ext cx="7048440" cy="1041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1886" t="13434" r="7546" b="5980"/>
          <a:stretch/>
        </p:blipFill>
        <p:spPr>
          <a:xfrm>
            <a:off x="571680" y="990720"/>
            <a:ext cx="80010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rmodynamics in the IS form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illinger-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9240" y="1752480"/>
            <a:ext cx="7445520" cy="718200"/>
          </a:xfrm>
          <a:prstGeom prst="rect">
            <a:avLst/>
          </a:prstGeom>
          <a:noFill/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T)=-T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 T) 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90920"/>
            <a:ext cx="19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809880"/>
            <a:ext cx="510552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bas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=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Times New Roman"/>
              </a:rPr>
              <a:t>vi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57200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334120"/>
            <a:ext cx="4724280" cy="718200"/>
          </a:xfrm>
          <a:prstGeom prst="rect">
            <a:avLst/>
          </a:prstGeom>
          <a:noFill/>
          <a:ln w="3816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=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n[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5520" y="3809880"/>
            <a:ext cx="129564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3352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Basin depth and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72200" y="5257800"/>
            <a:ext cx="1295280" cy="0"/>
          </a:xfrm>
          <a:prstGeom prst="line">
            <a:avLst/>
          </a:prstGeom>
          <a:ln w="76320">
            <a:solidFill>
              <a:srgbClr val="00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8006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ff"/>
                </a:solidFill>
                <a:latin typeface="Times New Roman"/>
              </a:rPr>
              <a:t>Number of explored ba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94320" y="593640"/>
            <a:ext cx="74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r a recent review see FS JSTAT 5, p.05015 (2005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12943" r="10001" b="2923"/>
          <a:stretch/>
        </p:blipFill>
        <p:spPr>
          <a:xfrm>
            <a:off x="5029200" y="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0" t="10511" r="8477" b="6124"/>
          <a:stretch/>
        </p:blipFill>
        <p:spPr>
          <a:xfrm>
            <a:off x="1905120" y="2819520"/>
            <a:ext cx="5638680" cy="3968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49160" y="1371600"/>
            <a:ext cx="3822840" cy="520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371600" y="3429000"/>
            <a:ext cx="482760" cy="2463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ch D(e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T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76240" y="1143000"/>
            <a:ext cx="3695760" cy="965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ch D(e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T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0" t="12943" r="10001" b="2923"/>
          <a:stretch/>
        </p:blipFill>
        <p:spPr>
          <a:xfrm>
            <a:off x="5029200" y="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rcRect l="4410" t="11419" r="7353" b="6740"/>
          <a:stretch/>
        </p:blipFill>
        <p:spPr>
          <a:xfrm>
            <a:off x="304920" y="2379600"/>
            <a:ext cx="6248160" cy="447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515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lusions… 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lear Connection between Local Dynamics and Local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Deeper basins statistically generate slower dynam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Connection with the NG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re work to do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 you in …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kel-Ladd (Einstein Crys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391520" cy="1041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8864640" cy="1090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895480" y="3505320"/>
            <a:ext cx="3403800" cy="520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2133720" y="4724280"/>
            <a:ext cx="53593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ff"/>
                </a:solidFill>
                <a:latin typeface="Times New Roman"/>
              </a:rPr>
              <a:t>The Random Energy Model for e</a:t>
            </a:r>
            <a:r>
              <a:rPr b="0" lang="en-US" sz="32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400" y="914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ypoth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9400" y="1447920"/>
            <a:ext cx="69444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800" spc="-1" strike="noStrike" baseline="38000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8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---------------d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371600"/>
            <a:ext cx="25686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-(e</a:t>
            </a:r>
            <a:r>
              <a:rPr b="0" lang="en-US" sz="3200" spc="-1" strike="noStrike" baseline="-9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3600" spc="-1" strike="noStrike" baseline="36000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9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7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 baseline="36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 baseline="36000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74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096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8680" y="3108240"/>
            <a:ext cx="722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/N=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160" y="22096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87656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47240" y="6094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merican Typewriter"/>
              </a:rPr>
              <a:t>Gaussian Landscape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3848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merican Typewriter"/>
              </a:rPr>
              <a:t>Predictions of Gaussian Landscape </a:t>
            </a: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(for identical bas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17720" y="5715000"/>
            <a:ext cx="62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con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/N=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&gt;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89160" y="4876920"/>
            <a:ext cx="3940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)&gt;=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ff"/>
                </a:solidFill>
                <a:latin typeface="Times New Roman"/>
              </a:rPr>
              <a:t>T-dependence of &lt;e</a:t>
            </a:r>
            <a:r>
              <a:rPr b="0" lang="en-US" sz="6000" spc="-1" strike="noStrike" baseline="-25000">
                <a:solidFill>
                  <a:srgbClr val="0080ff"/>
                </a:solidFill>
                <a:latin typeface="Times New Roman"/>
              </a:rPr>
              <a:t>IS</a:t>
            </a:r>
            <a:r>
              <a:rPr b="0" lang="en-US" sz="6000" spc="-1" strike="noStrike">
                <a:solidFill>
                  <a:srgbClr val="0080ff"/>
                </a:solidFill>
                <a:latin typeface="Times New Roman"/>
              </a:rPr>
              <a:t>&gt;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7896" t="0" r="21054" b="11998"/>
          <a:stretch/>
        </p:blipFill>
        <p:spPr>
          <a:xfrm>
            <a:off x="0" y="1143000"/>
            <a:ext cx="4876920" cy="3971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2804" r="23164" b="5552"/>
          <a:stretch/>
        </p:blipFill>
        <p:spPr>
          <a:xfrm>
            <a:off x="4876920" y="1066680"/>
            <a:ext cx="4267080" cy="3934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852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C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0480" y="13716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W-O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840" y="522756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dependence observed in the studied T-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29400"/>
            <a:ext cx="78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port for the Gaussian Approxi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7311" r="31864" b="24956"/>
          <a:stretch/>
        </p:blipFill>
        <p:spPr>
          <a:xfrm>
            <a:off x="0" y="533520"/>
            <a:ext cx="8915400" cy="564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MLJ Configurational Entr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73915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MLJ Sco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43600" y="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931" t="15661" r="22811" b="24078"/>
          <a:stretch/>
        </p:blipFill>
        <p:spPr>
          <a:xfrm>
            <a:off x="0" y="1528920"/>
            <a:ext cx="7696080" cy="5329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 Gaussian behaviour in BKS silica (low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666880"/>
            <a:ext cx="3581280" cy="3505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6858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Saika-Voivod et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Nature 412, 514-517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Heuer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3080" y="2270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304920" y="304920"/>
            <a:ext cx="9068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nsity minimum and 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maximum in ST2 wa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in the gaussian landasc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-Bold"/>
              </a:rPr>
              <a:t>Phys. Rev. Lett. 91, 155701, 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4318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19720" cy="42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2920" y="236232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67960" y="1995480"/>
            <a:ext cx="209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=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91160" y="40384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4920" y="40384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i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Min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Po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159800" y="2182680"/>
            <a:ext cx="329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is e S conf for sil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Esempio di 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6995" t="13464" r="33620" b="14707"/>
          <a:stretch/>
        </p:blipFill>
        <p:spPr>
          <a:xfrm>
            <a:off x="1295280" y="393840"/>
            <a:ext cx="7086600" cy="6464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0"/>
            <a:ext cx="6531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merican Typewriter"/>
              </a:rPr>
              <a:t>Non-Gaussian Behavior in Si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merican Typewriter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7162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 gaussian si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nf Sil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267080"/>
            <a:ext cx="2209680" cy="1676520"/>
          </a:xfrm>
          <a:custGeom>
            <a:avLst/>
            <a:gdLst/>
            <a:ahLst/>
            <a:rect l="l" t="t" r="r" b="b"/>
            <a:pathLst>
              <a:path w="1392" h="1056">
                <a:moveTo>
                  <a:pt x="1392" y="0"/>
                </a:moveTo>
                <a:cubicBezTo>
                  <a:pt x="1196" y="296"/>
                  <a:pt x="1000" y="592"/>
                  <a:pt x="768" y="768"/>
                </a:cubicBezTo>
                <a:cubicBezTo>
                  <a:pt x="536" y="944"/>
                  <a:pt x="128" y="1016"/>
                  <a:pt x="0" y="1056"/>
                </a:cubicBezTo>
              </a:path>
            </a:pathLst>
          </a:custGeom>
          <a:noFill/>
          <a:ln w="60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26708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1440" y="0"/>
                </a:moveTo>
                <a:cubicBezTo>
                  <a:pt x="1200" y="132"/>
                  <a:pt x="960" y="264"/>
                  <a:pt x="720" y="336"/>
                </a:cubicBezTo>
                <a:cubicBezTo>
                  <a:pt x="480" y="408"/>
                  <a:pt x="240" y="420"/>
                  <a:pt x="0" y="432"/>
                </a:cubicBezTo>
              </a:path>
            </a:pathLst>
          </a:custGeom>
          <a:noFill/>
          <a:ln w="4140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1520" y="5105520"/>
            <a:ext cx="41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Saika-Voivod et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-Bold"/>
              </a:rPr>
              <a:t>Nature 412, 514-517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2:25:11Z</dcterms:created>
  <dc:creator>Francesco Sciortino</dc:creator>
  <dc:description/>
  <dc:language>en-US</dc:language>
  <cp:lastModifiedBy>Administrator</cp:lastModifiedBy>
  <dcterms:modified xsi:type="dcterms:W3CDTF">2006-03-10T14:50:56Z</dcterms:modified>
  <cp:revision>110</cp:revision>
  <dc:subject/>
  <dc:title>Free energy</dc:title>
</cp:coreProperties>
</file>