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33.jpeg" ContentType="image/jpeg"/>
  <Override PartName="/ppt/media/image27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41.png" ContentType="image/png"/>
  <Override PartName="/ppt/media/image42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2.wmf" ContentType="image/x-wmf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11880"/>
            <a:ext cx="3308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6934320" y="5810400"/>
          <a:ext cx="220968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10400"/>
                    <a:ext cx="22096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66688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rleans  Jul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tential Energy Landscap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odels for 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4114800" cy="67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5410080" y="5195880"/>
          <a:ext cx="3505320" cy="166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195880"/>
                    <a:ext cx="35053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045320" y="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-BoldMT"/>
              </a:rPr>
              <a:t>Networks in physics and bi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8560" y="4357800"/>
            <a:ext cx="79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llabo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La Nave, A. Moreno, I. Saika-Voivod, E. Zaccar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240" y="8381520"/>
            <a:ext cx="16002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al Spac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8921" t="11537" r="48650" b="11537"/>
          <a:stretch/>
        </p:blipFill>
        <p:spPr>
          <a:xfrm>
            <a:off x="3276720" y="1523880"/>
            <a:ext cx="2666880" cy="533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29400" y="2209680"/>
            <a:ext cx="1506600" cy="1722600"/>
          </a:xfrm>
          <a:custGeom>
            <a:avLst/>
            <a:gdLst/>
            <a:ahLst/>
            <a:rect l="l" t="t" r="r" b="b"/>
            <a:pathLst>
              <a:path w="949" h="1085">
                <a:moveTo>
                  <a:pt x="0" y="32"/>
                </a:moveTo>
                <a:cubicBezTo>
                  <a:pt x="12" y="199"/>
                  <a:pt x="34" y="491"/>
                  <a:pt x="92" y="660"/>
                </a:cubicBezTo>
                <a:cubicBezTo>
                  <a:pt x="102" y="689"/>
                  <a:pt x="107" y="785"/>
                  <a:pt x="132" y="802"/>
                </a:cubicBezTo>
                <a:cubicBezTo>
                  <a:pt x="206" y="851"/>
                  <a:pt x="252" y="957"/>
                  <a:pt x="324" y="1015"/>
                </a:cubicBezTo>
                <a:cubicBezTo>
                  <a:pt x="370" y="1052"/>
                  <a:pt x="440" y="1071"/>
                  <a:pt x="497" y="1085"/>
                </a:cubicBezTo>
                <a:cubicBezTo>
                  <a:pt x="534" y="1081"/>
                  <a:pt x="571" y="1082"/>
                  <a:pt x="608" y="1075"/>
                </a:cubicBezTo>
                <a:cubicBezTo>
                  <a:pt x="645" y="1066"/>
                  <a:pt x="634" y="1050"/>
                  <a:pt x="649" y="1025"/>
                </a:cubicBezTo>
                <a:cubicBezTo>
                  <a:pt x="686" y="957"/>
                  <a:pt x="721" y="895"/>
                  <a:pt x="750" y="822"/>
                </a:cubicBezTo>
                <a:cubicBezTo>
                  <a:pt x="761" y="792"/>
                  <a:pt x="769" y="761"/>
                  <a:pt x="780" y="731"/>
                </a:cubicBezTo>
                <a:cubicBezTo>
                  <a:pt x="786" y="710"/>
                  <a:pt x="800" y="670"/>
                  <a:pt x="800" y="670"/>
                </a:cubicBezTo>
                <a:cubicBezTo>
                  <a:pt x="803" y="646"/>
                  <a:pt x="800" y="620"/>
                  <a:pt x="811" y="599"/>
                </a:cubicBezTo>
                <a:cubicBezTo>
                  <a:pt x="815" y="589"/>
                  <a:pt x="835" y="598"/>
                  <a:pt x="841" y="589"/>
                </a:cubicBezTo>
                <a:cubicBezTo>
                  <a:pt x="851" y="571"/>
                  <a:pt x="847" y="548"/>
                  <a:pt x="851" y="529"/>
                </a:cubicBezTo>
                <a:cubicBezTo>
                  <a:pt x="862" y="471"/>
                  <a:pt x="869" y="413"/>
                  <a:pt x="881" y="356"/>
                </a:cubicBezTo>
                <a:cubicBezTo>
                  <a:pt x="884" y="315"/>
                  <a:pt x="886" y="275"/>
                  <a:pt x="892" y="235"/>
                </a:cubicBezTo>
                <a:cubicBezTo>
                  <a:pt x="898" y="188"/>
                  <a:pt x="922" y="150"/>
                  <a:pt x="922" y="103"/>
                </a:cubicBezTo>
                <a:lnTo>
                  <a:pt x="9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8280" y="3222720"/>
            <a:ext cx="6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8544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0"/>
            <a:ext cx="29718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local minima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380880"/>
            <a:ext cx="2057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brations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7339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762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4680" y="3049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862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962520"/>
            <a:ext cx="228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2971800"/>
            <a:ext cx="30492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4680" y="304812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7203960" y="3235320"/>
            <a:ext cx="64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049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2040" y="380880"/>
            <a:ext cx="711828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438280"/>
            <a:ext cx="190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simulations…..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(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steepest descent minim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harmonic and anharmonic contribu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thermodynamic integration from ideal g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4440" y="533412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 La Nave et al.,  Numerical Evaluation of the Statistical Properti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otential Energy Landscape, J. Phys.: Condens. Matter 15, S1085 (200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Fragile Liquids: The Random Energy Model for e</a:t>
            </a:r>
            <a:r>
              <a:rPr b="1" lang="en-US" sz="28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0240" y="9144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Hypoth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88620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9400" y="1614600"/>
            <a:ext cx="6944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800" spc="-1" strike="noStrike" baseline="38000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48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37160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2096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39400" y="2895480"/>
            <a:ext cx="473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baseline="-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]=a+b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5160" y="4876920"/>
            <a:ext cx="502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&gt;=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791320"/>
            <a:ext cx="7226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T)&gt;-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105160" y="22096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87656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T-dependence of &lt;e</a:t>
            </a:r>
            <a:r>
              <a:rPr b="1" lang="en-US" sz="28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&gt;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7896" t="0" r="21054" b="11998"/>
          <a:stretch/>
        </p:blipFill>
        <p:spPr>
          <a:xfrm>
            <a:off x="0" y="1143000"/>
            <a:ext cx="4876920" cy="397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2804" r="23164" b="5552"/>
          <a:stretch/>
        </p:blipFill>
        <p:spPr>
          <a:xfrm>
            <a:off x="4876920" y="1066680"/>
            <a:ext cx="4267080" cy="3934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7852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C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40480" y="1371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W-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680" y="5227560"/>
            <a:ext cx="79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dependence observed in the studied T-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320" y="5729400"/>
            <a:ext cx="59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port for the Gaussian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7311" r="31864" b="24956"/>
          <a:stretch/>
        </p:blipFill>
        <p:spPr>
          <a:xfrm>
            <a:off x="0" y="533520"/>
            <a:ext cx="8915400" cy="5648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760" y="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MLJ Configurational 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7391520"/>
            <a:ext cx="3200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MLJ Sconf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ndscape Equation of Stat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762120"/>
            <a:ext cx="2667240" cy="787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=-∂F/∂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|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752480"/>
            <a:ext cx="7729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V,T)=-T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+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&gt;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286000"/>
            <a:ext cx="63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 Gaussian (and harmonic)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200400"/>
            <a:ext cx="8359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(T,V)=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+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T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/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7848720" cy="2174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= -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b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   =R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bE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+b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 =   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2R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943600" y="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9931" t="15661" r="22811" b="24078"/>
          <a:stretch/>
        </p:blipFill>
        <p:spPr>
          <a:xfrm>
            <a:off x="609480" y="609480"/>
            <a:ext cx="7696440" cy="5329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n Gaussian Behaviour in BKS silic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371600"/>
            <a:ext cx="3504960" cy="358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159080" y="2182680"/>
            <a:ext cx="329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Eis e S conf for sil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Esempio di 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6995" t="13464" r="33620" b="14707"/>
          <a:stretch/>
        </p:blipFill>
        <p:spPr>
          <a:xfrm>
            <a:off x="1295280" y="393840"/>
            <a:ext cx="7086600" cy="6464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66680" y="0"/>
            <a:ext cx="653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Non-Gaussian Behavior in S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merican Typewriter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71629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n gaussian si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conf Silica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2209680" cy="1676520"/>
          </a:xfrm>
          <a:custGeom>
            <a:avLst/>
            <a:gdLst/>
            <a:ahLst/>
            <a:rect l="l" t="t" r="r" b="b"/>
            <a:pathLst>
              <a:path w="1392" h="1056">
                <a:moveTo>
                  <a:pt x="1392" y="0"/>
                </a:moveTo>
                <a:cubicBezTo>
                  <a:pt x="1196" y="296"/>
                  <a:pt x="1000" y="592"/>
                  <a:pt x="768" y="768"/>
                </a:cubicBezTo>
                <a:cubicBezTo>
                  <a:pt x="536" y="944"/>
                  <a:pt x="128" y="1016"/>
                  <a:pt x="0" y="1056"/>
                </a:cubicBezTo>
              </a:path>
            </a:pathLst>
          </a:custGeom>
          <a:noFill/>
          <a:ln w="60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26708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0"/>
                </a:moveTo>
                <a:cubicBezTo>
                  <a:pt x="1200" y="132"/>
                  <a:pt x="960" y="264"/>
                  <a:pt x="720" y="336"/>
                </a:cubicBezTo>
                <a:cubicBezTo>
                  <a:pt x="480" y="408"/>
                  <a:pt x="240" y="420"/>
                  <a:pt x="0" y="432"/>
                </a:cubicBezTo>
              </a:path>
            </a:pathLst>
          </a:custGeom>
          <a:noFill/>
          <a:ln w="4140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533520" y="0"/>
            <a:ext cx="899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nsity minimum and 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maximum in ST2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95680" cy="4318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419720" cy="4238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236232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67960" y="1995480"/>
            <a:ext cx="209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 =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27080" y="13716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9640" y="1035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 i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nsity Minim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Po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423720"/>
            <a:ext cx="6858000" cy="6434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320" y="76320"/>
            <a:ext cx="8991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hores of liquid ST2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04812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838080"/>
            <a:ext cx="106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7120" y="4844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457200" y="7162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2 2650 punti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731484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lin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3-slides preamble: Thermodynamics and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Review of thermodynamic formalism in the PE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nergy Landscapes in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rag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Network-Forming) liq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533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7840" y="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Valency Model (Speedy-Debenedet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876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minimal model  for network forming liq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1371600"/>
            <a:ext cx="0" cy="304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066320" y="44197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9051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W if  # of bonded particles &lt;= N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HS  if  # of bonded particles  &gt; N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0880"/>
            <a:ext cx="0" cy="3048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ximum Valenc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2400" y="5562720"/>
            <a:ext cx="85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IS configurations coincide with the bonding pattern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 is possible to calculat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xactl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he basin free energ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13203" r="8136" b="19440"/>
          <a:stretch/>
        </p:blipFill>
        <p:spPr>
          <a:xfrm>
            <a:off x="2286000" y="2971800"/>
            <a:ext cx="6858000" cy="3886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6933960" cy="96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6890040" cy="1019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815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asin Free energ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708660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Energy per P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ound State Energy Known !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6440" y="6033960"/>
            <a:ext cx="40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is possible to equilib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low T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6438" t="13432" r="5564" b="5163"/>
          <a:stretch/>
        </p:blipFill>
        <p:spPr>
          <a:xfrm>
            <a:off x="0" y="152388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4939" t="13913" r="7068" b="0"/>
          <a:stretch/>
        </p:blipFill>
        <p:spPr>
          <a:xfrm>
            <a:off x="4876920" y="1523880"/>
            <a:ext cx="42670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12351" r="9544" b="3088"/>
          <a:stretch/>
        </p:blipFill>
        <p:spPr>
          <a:xfrm>
            <a:off x="539640" y="1052640"/>
            <a:ext cx="7848720" cy="5805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iscosity and Diffusivity: Arrhenius 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2773" t="6947" r="7068" b="12499"/>
          <a:stretch/>
        </p:blipFill>
        <p:spPr>
          <a:xfrm>
            <a:off x="304920" y="304920"/>
            <a:ext cx="8153280" cy="562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H="1">
            <a:off x="1143000" y="533520"/>
            <a:ext cx="678168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143000" y="2286000"/>
            <a:ext cx="6477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figurational Entrop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ggestions for further studies…..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agile Liq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aussian Energy Landsca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nite T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S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T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trong Liqu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Bond Defect” landscape (binom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“quantized” bottom of the landscap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Degenerate Ground St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T=0) different from zero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knowledgements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219320"/>
            <a:ext cx="816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acknowledge important discussions, comments, collaborations, criticisms from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ngell, P. Debenedetti, T. Keyes, A. Heuer, G. Ruocco , S. Sastry, R. Spee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 their collabo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13432" r="7693" b="0"/>
          <a:stretch/>
        </p:blipFill>
        <p:spPr>
          <a:xfrm>
            <a:off x="685800" y="838080"/>
            <a:ext cx="7772400" cy="52419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oke-Einstein Rel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62920" cy="2403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010280" cy="2256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7400" y="708624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tazioni goldstein, stillinger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48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rcRect l="23183" t="0" r="28528" b="20830"/>
          <a:stretch/>
        </p:blipFill>
        <p:spPr>
          <a:xfrm>
            <a:off x="457200" y="2513160"/>
            <a:ext cx="3429000" cy="4344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10308" t="5583" r="7068" b="10819"/>
          <a:stretch/>
        </p:blipFill>
        <p:spPr>
          <a:xfrm>
            <a:off x="4267080" y="1523880"/>
            <a:ext cx="4648320" cy="3635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733920" y="457200"/>
            <a:ext cx="29494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5105520"/>
            <a:ext cx="4191120" cy="28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gt;=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562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aussian Distribution ?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162920"/>
            <a:ext cx="3200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8280" y="-90360"/>
            <a:ext cx="64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rong and Fragile liquids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ynam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553080" cy="581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.G. Debenedetti, and F.H. Stillinger, Nature 410,  259 (200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89880" y="1127160"/>
            <a:ext cx="245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slowing down  that cover more than 15 order of magn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0440" y="585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12351" r="0" b="3088"/>
          <a:stretch/>
        </p:blipFill>
        <p:spPr>
          <a:xfrm>
            <a:off x="395280" y="981000"/>
            <a:ext cx="8424720" cy="5805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ffusivity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72388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900" spc="-1" strike="noStrike">
                <a:solidFill>
                  <a:srgbClr val="ff0000"/>
                </a:solidFill>
                <a:latin typeface="Comic Sans MS"/>
              </a:rPr>
              <a:t>MAX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-modified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Phase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hase Diagra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4939" t="4193" r="4920" b="12499"/>
          <a:stretch/>
        </p:blipFill>
        <p:spPr>
          <a:xfrm>
            <a:off x="228600" y="68580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410080" y="1752480"/>
            <a:ext cx="0" cy="36720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5790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V-dependence of 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E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685800"/>
            <a:ext cx="6705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e</a:t>
            </a:r>
            <a:r>
              <a:rPr b="0" lang="en-US" sz="3600" spc="-1" strike="noStrike" baseline="38000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5720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0000ff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106668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894" r="0" b="8655"/>
          <a:stretch/>
        </p:blipFill>
        <p:spPr>
          <a:xfrm>
            <a:off x="685800" y="1450800"/>
            <a:ext cx="7086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C/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T,V)=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)+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) T 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/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V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21460" t="-1383" r="21665" b="5583"/>
          <a:stretch/>
        </p:blipFill>
        <p:spPr>
          <a:xfrm>
            <a:off x="4800600" y="609480"/>
            <a:ext cx="4748040" cy="6019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23173" t="11048" r="12198" b="21108"/>
          <a:stretch/>
        </p:blipFill>
        <p:spPr>
          <a:xfrm>
            <a:off x="304920" y="533520"/>
            <a:ext cx="3581280" cy="2906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rcRect l="10673" t="11798" r="0" b="41330"/>
          <a:stretch/>
        </p:blipFill>
        <p:spPr>
          <a:xfrm>
            <a:off x="0" y="3429000"/>
            <a:ext cx="4343400" cy="3225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14600" y="649116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, E. La Nave, and P. Tartaglia, PRL. 91, 155701 (200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sobars of diffusion coefficient for ST2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5943600" cy="5726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 ST2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4920" t="11110" r="8141" b="6947"/>
          <a:stretch/>
        </p:blipFill>
        <p:spPr>
          <a:xfrm>
            <a:off x="838080" y="609480"/>
            <a:ext cx="7467840" cy="5438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dam-Gibbs Plo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in Free Energ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39186" r="10909" b="0"/>
          <a:stretch/>
        </p:blipFill>
        <p:spPr>
          <a:xfrm>
            <a:off x="4964040" y="838080"/>
            <a:ext cx="4179960" cy="4221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51120" y="113508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PC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63080" y="1050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W-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6452" t="12938" r="8065" b="0"/>
          <a:stretch/>
        </p:blipFill>
        <p:spPr>
          <a:xfrm>
            <a:off x="0" y="1523880"/>
            <a:ext cx="4495680" cy="3996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918800" y="5410080"/>
            <a:ext cx="567792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baseline="-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5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]=a+b e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25400" y="488880"/>
            <a:ext cx="386136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[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8400" y="621828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if b=0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4394" t="13699" r="22209" b="17730"/>
          <a:stretch/>
        </p:blipFill>
        <p:spPr>
          <a:xfrm>
            <a:off x="609480" y="609480"/>
            <a:ext cx="7848720" cy="5181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7848720"/>
            <a:ext cx="3200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is nel tempo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880" y="-1584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KS 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601992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0" y="-46080"/>
            <a:ext cx="85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Decrease in Configurational Entrop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7391520"/>
            <a:ext cx="3200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y do we care  Thermodyanmic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12952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s the excess entropy vanishing at a finite 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0096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0116" t="10496" r="3372" b="17551"/>
          <a:stretch/>
        </p:blipFill>
        <p:spPr>
          <a:xfrm>
            <a:off x="685800" y="1676520"/>
            <a:ext cx="6858000" cy="427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76720" y="3962520"/>
            <a:ext cx="2819160" cy="0"/>
          </a:xfrm>
          <a:prstGeom prst="line">
            <a:avLst/>
          </a:prstGeom>
          <a:ln w="316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2683" t="53683" r="8387" b="17244"/>
          <a:stretch/>
        </p:blipFill>
        <p:spPr>
          <a:xfrm>
            <a:off x="4648320" y="380880"/>
            <a:ext cx="4267080" cy="287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35720" y="3352680"/>
            <a:ext cx="360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van Megen and S.M. Underw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Phys. Rev. Lett.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70, 2766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0760" y="2133720"/>
            <a:ext cx="8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IE" sz="36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2860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762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20640" y="59738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g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39625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basic idea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aration of time scale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0040" y="525780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Supercooled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040" y="4572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038480" y="4647960"/>
            <a:ext cx="68580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33760" y="4114800"/>
            <a:ext cx="533160" cy="5335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840" y="457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800" y="838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2193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46748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9073" t="10350" r="9073" b="10350"/>
          <a:stretch/>
        </p:blipFill>
        <p:spPr>
          <a:xfrm>
            <a:off x="2438280" y="1447920"/>
            <a:ext cx="48452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76520" y="417528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4419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6576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87692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5105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46483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escription of the number, depth and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4792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PEL bas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524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otential Energy Landscape, a 3N dimensional surface</a:t>
            </a: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105520"/>
            <a:ext cx="5638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E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es no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depend on T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exploration of the PE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end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n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86400" y="6103800"/>
            <a:ext cx="2590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3559320" cy="311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408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152560" y="609480"/>
            <a:ext cx="1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89548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basin 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= -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ln[Z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1800" y="137160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n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33920"/>
            <a:ext cx="8839080" cy="37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9600" spc="-1" strike="noStrike" baseline="-11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[h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/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]                                                       + f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anharmon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4648320"/>
            <a:ext cx="1828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rmal modes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791320" y="44193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533520"/>
            <a:ext cx="63248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Z(T)=  </a:t>
            </a:r>
            <a:r>
              <a:rPr b="1" lang="en-US" sz="96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283360" cy="49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6794640" cy="105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" y="4800600"/>
            <a:ext cx="7988400" cy="1054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609480" y="1295280"/>
            <a:ext cx="35589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rmodynamics in the IS form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inger-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744552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12408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809880"/>
            <a:ext cx="510552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57200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334120"/>
            <a:ext cx="472428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95520" y="3809880"/>
            <a:ext cx="129564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352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Basin depth an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172200" y="5257800"/>
            <a:ext cx="12952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48006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explored ba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6248520" cy="91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1:48:49Z</dcterms:created>
  <dc:creator>P T</dc:creator>
  <dc:description/>
  <dc:language>en-US</dc:language>
  <cp:lastModifiedBy>Administrator</cp:lastModifiedBy>
  <cp:lastPrinted>2002-09-12T07:04:17Z</cp:lastPrinted>
  <dcterms:modified xsi:type="dcterms:W3CDTF">2006-03-10T14:52:05Z</dcterms:modified>
  <cp:revision>178</cp:revision>
  <dc:subject/>
  <dc:title>PowerPoint Presentation</dc:title>
</cp:coreProperties>
</file>