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.jpeg" ContentType="image/jpeg"/>
  <Override PartName="/ppt/media/image28.png" ContentType="image/png"/>
  <Override PartName="/ppt/media/image41.png" ContentType="image/png"/>
  <Override PartName="/ppt/media/image30.png" ContentType="image/png"/>
  <Override PartName="/ppt/media/image32.png" ContentType="image/png"/>
  <Override PartName="/ppt/media/image43.png" ContentType="image/png"/>
  <Override PartName="/ppt/media/image44.jpeg" ContentType="image/jpeg"/>
  <Override PartName="/ppt/media/image3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45.jpeg" ContentType="image/jpeg"/>
  <Override PartName="/ppt/media/image46.png" ContentType="image/png"/>
  <Override PartName="/ppt/media/image49.wmf" ContentType="image/x-wmf"/>
  <Override PartName="/ppt/media/image51.png" ContentType="image/png"/>
  <Override PartName="/ppt/media/image52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0.wmf" ContentType="image/x-wmf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11880"/>
            <a:ext cx="330840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6934320" y="5810400"/>
          <a:ext cx="2209680" cy="104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5810400"/>
                    <a:ext cx="22096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666880"/>
            <a:ext cx="346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31240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95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luster Phases, Gels and Yukawa Glasses  in charged colloid-polymer mix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178680"/>
            <a:ext cx="4114800" cy="67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5410080" y="5195880"/>
          <a:ext cx="3505320" cy="166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195880"/>
                    <a:ext cx="35053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516760" y="-475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th Liquid Matter Co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560" y="3429000"/>
            <a:ext cx="53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llabora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Mossa, P. Tartaglia, E. Zaccare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0800000">
            <a:off x="-609480" y="708588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itolo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6668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sco Scior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0400" y="54864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RTN-CT-2003-504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ukawa Phase Diagram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7648" r="35155" b="7648"/>
          <a:stretch/>
        </p:blipFill>
        <p:spPr>
          <a:xfrm>
            <a:off x="1104840" y="457200"/>
            <a:ext cx="693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ukawa Phase Diagram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4622" r="33731" b="7648"/>
          <a:stretch/>
        </p:blipFill>
        <p:spPr>
          <a:xfrm>
            <a:off x="1028880" y="114480"/>
            <a:ext cx="7086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54480" y="251460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wering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6095880"/>
            <a:ext cx="462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creasing  packing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700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igure gel yukawa  Tc=0.23 n=100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362320"/>
            <a:ext cx="8534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514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259092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617220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3780" t="41575" r="3780" b="41575"/>
          <a:stretch/>
        </p:blipFill>
        <p:spPr>
          <a:xfrm>
            <a:off x="0" y="1600200"/>
            <a:ext cx="5923080" cy="1081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0320" y="0"/>
            <a:ext cx="643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racting Clusters - Linear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ernal Spi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22820" t="21115" r="19967" b="21115"/>
          <a:stretch/>
        </p:blipFill>
        <p:spPr>
          <a:xfrm>
            <a:off x="457200" y="2917800"/>
            <a:ext cx="4815000" cy="3940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32480" y="4343400"/>
            <a:ext cx="325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mpbell, Anderson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n Dujneveldt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rtlett PRL June (200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racting cluster linear case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rcRect l="5301" t="5939" r="21213" b="13860"/>
          <a:stretch/>
        </p:blipFill>
        <p:spPr>
          <a:xfrm>
            <a:off x="5562720" y="888840"/>
            <a:ext cx="35812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448000" cy="229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63280" y="26028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=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5280" y="2492280"/>
            <a:ext cx="2816640" cy="2449440"/>
            <a:chOff x="395280" y="2492280"/>
            <a:chExt cx="2816640" cy="244944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395280" y="2565360"/>
              <a:ext cx="192888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763280" y="249228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=0.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79280" y="4941720"/>
            <a:ext cx="3104280" cy="1652760"/>
            <a:chOff x="179280" y="4941720"/>
            <a:chExt cx="3104280" cy="1652760"/>
          </a:xfrm>
        </p:grpSpPr>
        <p:pic>
          <p:nvPicPr>
            <p:cNvPr id="149" name="" descr=""/>
            <p:cNvPicPr/>
            <p:nvPr/>
          </p:nvPicPr>
          <p:blipFill>
            <a:blip r:embed="rId3"/>
            <a:stretch/>
          </p:blipFill>
          <p:spPr>
            <a:xfrm>
              <a:off x="179280" y="4941720"/>
              <a:ext cx="27306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834920" y="494172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=0.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245120" y="7543800"/>
            <a:ext cx="34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ggshap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GB" sz="3000" spc="-1" strike="noStrike">
                <a:solidFill>
                  <a:srgbClr val="0000ff"/>
                </a:solidFill>
                <a:latin typeface="Comic Sans MS"/>
              </a:rPr>
              <a:t>=0.08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ictures of the clusters at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0.08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rcRect l="24245" t="33335" r="25000" b="2942"/>
          <a:stretch/>
        </p:blipFill>
        <p:spPr>
          <a:xfrm>
            <a:off x="4038480" y="952560"/>
            <a:ext cx="5105520" cy="4952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rcRect l="23486" t="32353" r="24624" b="3924"/>
          <a:stretch/>
        </p:blipFill>
        <p:spPr>
          <a:xfrm>
            <a:off x="3924360" y="952560"/>
            <a:ext cx="5219640" cy="4952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rcRect l="23486" t="33335" r="25000" b="2942"/>
          <a:stretch/>
        </p:blipFill>
        <p:spPr>
          <a:xfrm>
            <a:off x="3962520" y="952560"/>
            <a:ext cx="5181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5549760" cy="6669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08560" y="243828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=0.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23486" t="32353" r="24245" b="2942"/>
          <a:stretch/>
        </p:blipFill>
        <p:spPr>
          <a:xfrm>
            <a:off x="3886200" y="13716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83040" cy="4005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8920" y="1159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=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979280" y="3860640"/>
            <a:ext cx="3467520" cy="2599200"/>
            <a:chOff x="1979280" y="3860640"/>
            <a:chExt cx="3467520" cy="259920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2122560" y="3860640"/>
              <a:ext cx="3324240" cy="24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979280" y="587844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=0.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029200" y="457200"/>
            <a:ext cx="3816360" cy="3468600"/>
            <a:chOff x="5029200" y="457200"/>
            <a:chExt cx="3816360" cy="346860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5029200" y="457200"/>
              <a:ext cx="3816360" cy="34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972120" y="333864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=0.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s of the aggregation </a:t>
            </a:r>
            <a:br>
              <a:rPr sz="3200"/>
            </a:b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5800" y="83808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0.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31840"/>
            <a:ext cx="7921800" cy="6626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342600" y="0"/>
            <a:ext cx="43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uster shap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GB" sz="3000" spc="-1" strike="noStrike">
                <a:solidFill>
                  <a:srgbClr val="0000ff"/>
                </a:solidFill>
                <a:latin typeface="Comic Sans MS"/>
              </a:rPr>
              <a:t>=0.125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8200" y="1159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=0.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gel !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1219320"/>
            <a:ext cx="43434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H="1">
            <a:off x="5724000" y="1052640"/>
            <a:ext cx="2303640" cy="792000"/>
          </a:xfrm>
          <a:prstGeom prst="line">
            <a:avLst/>
          </a:prstGeom>
          <a:ln w="38160">
            <a:solidFill>
              <a:srgbClr val="0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02120" y="1052640"/>
            <a:ext cx="1195560" cy="893160"/>
            <a:chOff x="7602120" y="1052640"/>
            <a:chExt cx="1195560" cy="893160"/>
          </a:xfrm>
        </p:grpSpPr>
        <p:grpSp>
          <p:nvGrpSpPr>
            <p:cNvPr id="177" name=""/>
            <p:cNvGrpSpPr/>
            <p:nvPr/>
          </p:nvGrpSpPr>
          <p:grpSpPr>
            <a:xfrm>
              <a:off x="7602120" y="1197000"/>
              <a:ext cx="1070640" cy="748800"/>
              <a:chOff x="7602120" y="1197000"/>
              <a:chExt cx="1070640" cy="748800"/>
            </a:xfrm>
          </p:grpSpPr>
          <p:sp>
            <p:nvSpPr>
              <p:cNvPr id="178" name=""/>
              <p:cNvSpPr/>
              <p:nvPr/>
            </p:nvSpPr>
            <p:spPr>
              <a:xfrm>
                <a:off x="7602120" y="1197000"/>
                <a:ext cx="1070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n ~ 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96880" y="148608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8461440" y="1052640"/>
              <a:ext cx="33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459560" y="1844640"/>
            <a:ext cx="131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= 2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79760" y="2565360"/>
            <a:ext cx="19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(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perco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luster size distribution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actal Dimension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13726" r="0" b="5883"/>
          <a:stretch/>
        </p:blipFill>
        <p:spPr>
          <a:xfrm>
            <a:off x="152280" y="635040"/>
            <a:ext cx="8686800" cy="5397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16376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10800" y="852480"/>
            <a:ext cx="10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=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731484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utline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oti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360" y="60948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e the competing effects of short range attraction and longer-range repulsion in colloidal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s close to arrested states of matter:  Cluster Phases, Glasses and/or G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0120" y="3886200"/>
            <a:ext cx="8483760" cy="2971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0" y="5715000"/>
            <a:ext cx="4191120" cy="6094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962520"/>
            <a:ext cx="419112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876920"/>
            <a:ext cx="419112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029200"/>
            <a:ext cx="419112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334120"/>
            <a:ext cx="419112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ond Correlation funtions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3032" t="8825" r="8333" b="9802"/>
          <a:stretch/>
        </p:blipFill>
        <p:spPr>
          <a:xfrm>
            <a:off x="0" y="725400"/>
            <a:ext cx="7848720" cy="5567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901560" y="1295280"/>
            <a:ext cx="18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tch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~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866920" y="1981080"/>
            <a:ext cx="1295640" cy="8636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2760" y="5791320"/>
            <a:ext cx="10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.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1514" t="8825" r="9848" b="3924"/>
          <a:stretch/>
        </p:blipFill>
        <p:spPr>
          <a:xfrm>
            <a:off x="1104840" y="1371600"/>
            <a:ext cx="6934320" cy="5275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V="1">
            <a:off x="979560" y="4086360"/>
            <a:ext cx="2343240" cy="2016000"/>
          </a:xfrm>
          <a:prstGeom prst="line">
            <a:avLst/>
          </a:prstGeom>
          <a:ln w="284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5867280"/>
            <a:ext cx="42670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power law f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D~ (T-T</a:t>
            </a:r>
            <a:r>
              <a:rPr b="0" lang="en-US" sz="2800" spc="-1" strike="noStrike" baseline="-25000">
                <a:solidFill>
                  <a:srgbClr val="990099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 )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996840" y="4618440"/>
            <a:ext cx="2464200" cy="153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71960" y="525780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~ 2.1-2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ffusion Coefficien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520" y="635040"/>
            <a:ext cx="8053200" cy="62229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nsity fluctuations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nclusions……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morphologies can be generated by the competition of short-range attraction (fixing the T-scale) and the strength and length of the interaction.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 new route to g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change from a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igner-like glass to a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equilibrium would probably suggest a first order transition to a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mellar p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rrested metastable states appear to be kinetically fav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ility of exporting ideas developed in colloidal systems to protein systems (Schurtenberger, Chen) and, more in general to biological systems in which often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ne dimensional growth followed by g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bser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473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64200" y="333360"/>
            <a:ext cx="183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7760" y="5562720"/>
            <a:ext cx="862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mpbell, Anderson, van Dujneveldt, Bartlett PRL in press (200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00000" y="5084640"/>
            <a:ext cx="158436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89480" y="4797360"/>
            <a:ext cx="501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increasing colloid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artlet data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280" y="3809880"/>
            <a:ext cx="2311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ff"/>
                </a:solidFill>
                <a:latin typeface="Gill Sans"/>
              </a:rPr>
              <a:t>Groenewo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ff"/>
                </a:solidFill>
                <a:latin typeface="Gill Sans"/>
              </a:rPr>
              <a:t>and Keg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11801" t="10462" r="59435" b="45925"/>
          <a:stretch/>
        </p:blipFill>
        <p:spPr>
          <a:xfrm>
            <a:off x="76320" y="-76320"/>
            <a:ext cx="2971800" cy="3184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6400800" cy="4575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324480" y="838080"/>
            <a:ext cx="22100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Gill Sans"/>
              </a:rPr>
              <a:t>Upper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Gill Sans"/>
              </a:rPr>
              <a:t>Optima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104800" y="1981080"/>
            <a:ext cx="2361960" cy="1828800"/>
          </a:xfrm>
          <a:prstGeom prst="line">
            <a:avLst/>
          </a:prstGeom>
          <a:ln w="889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637960" y="1980720"/>
            <a:ext cx="838440" cy="1295640"/>
          </a:xfrm>
          <a:prstGeom prst="line">
            <a:avLst/>
          </a:prstGeom>
          <a:ln w="889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Yukawa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3301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newfilm3" descr=""/>
          <p:cNvPicPr/>
          <p:nvPr/>
        </p:nvPicPr>
        <p:blipFill>
          <a:blip r:embed="rId1"/>
          <a:stretch/>
        </p:blipFill>
        <p:spPr>
          <a:xfrm>
            <a:off x="0" y="1523880"/>
            <a:ext cx="4343400" cy="3988080"/>
          </a:xfrm>
          <a:prstGeom prst="rect">
            <a:avLst/>
          </a:prstGeom>
          <a:ln w="0">
            <a:noFill/>
          </a:ln>
        </p:spPr>
      </p:pic>
      <p:pic>
        <p:nvPicPr>
          <p:cNvPr id="219" name="film3" descr=""/>
          <p:cNvPicPr/>
          <p:nvPr/>
        </p:nvPicPr>
        <p:blipFill>
          <a:blip r:embed="rId2"/>
          <a:stretch/>
        </p:blipFill>
        <p:spPr>
          <a:xfrm>
            <a:off x="4813200" y="1523880"/>
            <a:ext cx="4330800" cy="3957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120760" y="584280"/>
            <a:ext cx="1268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=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05640" y="584280"/>
            <a:ext cx="1268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=0.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D simulation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22360" y="171360"/>
            <a:ext cx="805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o strong density dependence in peak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30393" r="0" b="0"/>
          <a:stretch/>
        </p:blipFill>
        <p:spPr>
          <a:xfrm>
            <a:off x="304920" y="990720"/>
            <a:ext cx="9067680" cy="48765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7391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o density dependence in prepeak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an square displacemen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3924" r="7578" b="19609"/>
          <a:stretch/>
        </p:blipFill>
        <p:spPr>
          <a:xfrm>
            <a:off x="0" y="700200"/>
            <a:ext cx="85345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luster Ground State: Only Attraction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7140" r="15221" b="0"/>
          <a:stretch/>
        </p:blipFill>
        <p:spPr>
          <a:xfrm>
            <a:off x="0" y="380880"/>
            <a:ext cx="7010280" cy="542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59520" y="5638680"/>
            <a:ext cx="602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luster Ground State: Only Repul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-&gt; No cluster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934320" y="1465200"/>
            <a:ext cx="1066680" cy="795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781680" y="2362320"/>
            <a:ext cx="2362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luster Ground State: Attraction and Repulsion (Yukawa)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78068" r="0" b="0"/>
          <a:stretch/>
        </p:blipFill>
        <p:spPr>
          <a:xfrm>
            <a:off x="2590920" y="4800600"/>
            <a:ext cx="6553080" cy="1155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33760" y="5911920"/>
            <a:ext cx="56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anishing 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rface   tension”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1424" t="13699" r="15916" b="4622"/>
          <a:stretch/>
        </p:blipFill>
        <p:spPr>
          <a:xfrm>
            <a:off x="3352680" y="762120"/>
            <a:ext cx="5791320" cy="4044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5999" t="5179" r="21002" b="14587"/>
          <a:stretch/>
        </p:blipFill>
        <p:spPr>
          <a:xfrm>
            <a:off x="0" y="533520"/>
            <a:ext cx="3429000" cy="2913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04920" y="4267080"/>
            <a:ext cx="2819160" cy="11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46390" t="46384" r="46390" b="46384"/>
          <a:stretch/>
        </p:blipFill>
        <p:spPr>
          <a:xfrm>
            <a:off x="3581280" y="14479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44069" t="44069" r="44069" b="44069"/>
          <a:stretch/>
        </p:blipFill>
        <p:spPr>
          <a:xfrm rot="600000">
            <a:off x="4038480" y="1142640"/>
            <a:ext cx="173376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36800" t="36800" r="39204" b="39204"/>
          <a:stretch/>
        </p:blipFill>
        <p:spPr>
          <a:xfrm>
            <a:off x="3733920" y="2590920"/>
            <a:ext cx="3047760" cy="3047760"/>
          </a:xfrm>
          <a:prstGeom prst="rect">
            <a:avLst/>
          </a:prstGeom>
          <a:ln w="0">
            <a:noFill/>
          </a:ln>
        </p:spPr>
      </p:pic>
      <p:cxnSp>
        <p:nvCxnSpPr>
          <p:cNvPr id="76" name=""/>
          <p:cNvCxnSpPr/>
          <p:nvPr/>
        </p:nvCxnSpPr>
        <p:spPr>
          <a:xfrm flipV="1">
            <a:off x="4114800" y="1675800"/>
            <a:ext cx="534240" cy="22932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7" name=""/>
          <p:cNvCxnSpPr/>
          <p:nvPr/>
        </p:nvCxnSpPr>
        <p:spPr>
          <a:xfrm>
            <a:off x="4343040" y="4648320"/>
            <a:ext cx="153000" cy="38160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4114440" y="1904760"/>
            <a:ext cx="762840" cy="22932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>
            <a:off x="4114800" y="1904760"/>
            <a:ext cx="457920" cy="53388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>
            <a:off x="4267080" y="4572000"/>
            <a:ext cx="610560" cy="45792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419360" y="4190400"/>
            <a:ext cx="153000" cy="19116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219320" y="3504960"/>
            <a:ext cx="129600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 flipV="1">
            <a:off x="4266720" y="4342680"/>
            <a:ext cx="839160" cy="15300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84" name=""/>
          <p:cNvCxnSpPr/>
          <p:nvPr/>
        </p:nvCxnSpPr>
        <p:spPr>
          <a:xfrm>
            <a:off x="4038480" y="1980720"/>
            <a:ext cx="1372320" cy="108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>
            <a:off x="1219320" y="1447560"/>
            <a:ext cx="1372320" cy="108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 flipV="1">
            <a:off x="3886200" y="4038120"/>
            <a:ext cx="2286720" cy="45792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7" name=""/>
          <p:cNvCxnSpPr/>
          <p:nvPr/>
        </p:nvCxnSpPr>
        <p:spPr>
          <a:xfrm flipV="1">
            <a:off x="4114800" y="3580920"/>
            <a:ext cx="1753200" cy="91512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>
            <a:off x="4038480" y="4495320"/>
            <a:ext cx="1067760" cy="68652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9" name=""/>
          <p:cNvCxnSpPr/>
          <p:nvPr/>
        </p:nvCxnSpPr>
        <p:spPr>
          <a:xfrm flipV="1">
            <a:off x="4114440" y="3428640"/>
            <a:ext cx="2134440" cy="99144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90" name=""/>
          <p:cNvCxnSpPr/>
          <p:nvPr/>
        </p:nvCxnSpPr>
        <p:spPr>
          <a:xfrm flipV="1">
            <a:off x="4114440" y="3657240"/>
            <a:ext cx="610200" cy="91512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91" name=""/>
          <p:cNvCxnSpPr/>
          <p:nvPr/>
        </p:nvCxnSpPr>
        <p:spPr>
          <a:xfrm flipV="1">
            <a:off x="4114440" y="4190760"/>
            <a:ext cx="1677240" cy="45792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V="1">
            <a:off x="4191120" y="2895120"/>
            <a:ext cx="1753200" cy="15249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>
            <a:off x="4190760" y="4571640"/>
            <a:ext cx="1981800" cy="68652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>
            <a:off x="4114800" y="4571640"/>
            <a:ext cx="1372320" cy="30564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>
            <a:off x="4191120" y="4647960"/>
            <a:ext cx="1829520" cy="108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pic>
        <p:nvPicPr>
          <p:cNvPr id="96" name="" descr=""/>
          <p:cNvPicPr/>
          <p:nvPr/>
        </p:nvPicPr>
        <p:blipFill>
          <a:blip r:embed="rId4"/>
          <a:srcRect l="46390" t="46384" r="46390" b="46384"/>
          <a:stretch/>
        </p:blipFill>
        <p:spPr>
          <a:xfrm>
            <a:off x="3733920" y="4114800"/>
            <a:ext cx="961920" cy="99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-1080" y="1676520"/>
            <a:ext cx="416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hort Range Attrac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--dominant in small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65760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nger Range Repul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petition Between Short Range Attraction and Longer Range Repulsion: Role in the clustering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2880" y="5638680"/>
            <a:ext cx="89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e of the short-range attraction: Only nn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41619" t="3741" r="41619" b="3741"/>
          <a:stretch/>
        </p:blipFill>
        <p:spPr>
          <a:xfrm>
            <a:off x="5029200" y="228600"/>
            <a:ext cx="1119240" cy="6172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25920" y="1219320"/>
            <a:ext cx="139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.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920" y="3733920"/>
            <a:ext cx="12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0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ypical Shapes in the ground state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29609" t="29609" r="29609" b="29609"/>
          <a:stretch/>
        </p:blipFill>
        <p:spPr>
          <a:xfrm>
            <a:off x="1066680" y="1600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ze dependence of the cluster shape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514" t="13726" r="8333" b="4901"/>
          <a:stretch/>
        </p:blipFill>
        <p:spPr>
          <a:xfrm>
            <a:off x="304920" y="609480"/>
            <a:ext cx="7772400" cy="542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09680" y="594360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near” Growth is an “attract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3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 of T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ooling (or on increasing attraction), monomers tend to cluster…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om isolated to interacting clusters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048120"/>
            <a:ext cx="786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the region of the phase diagram where the attractive potential would generate a phase separation….repulsion slows down (or stop) aggrega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range of the attractive interactions plays a r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23680" y="5105520"/>
            <a:ext cx="38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clusters interac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3040" y="38160"/>
            <a:ext cx="9436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ill Sans"/>
              </a:rPr>
              <a:t>How do “</a:t>
            </a:r>
            <a:r>
              <a:rPr b="0" lang="en-US" sz="3200" spc="-1" strike="noStrike">
                <a:solidFill>
                  <a:srgbClr val="00ff00"/>
                </a:solidFill>
                <a:latin typeface="Gill Sans"/>
              </a:rPr>
              <a:t>spherical</a:t>
            </a:r>
            <a:r>
              <a:rPr b="0" lang="en-US" sz="3200" spc="-1" strike="noStrike">
                <a:solidFill>
                  <a:srgbClr val="000080"/>
                </a:solidFill>
                <a:latin typeface="Gill Sans"/>
              </a:rPr>
              <a:t>” clusters interac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2339400">
            <a:off x="228240" y="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30320" y="-179064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04920" y="-167652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467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ow do cluster interact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572000" y="762120"/>
            <a:ext cx="3467160" cy="1168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572000" y="2260440"/>
            <a:ext cx="4203720" cy="1168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0" y="4572000"/>
            <a:ext cx="9144000" cy="1009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2514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0" y="2971800"/>
            <a:ext cx="533520" cy="26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4800600" y="2895480"/>
            <a:ext cx="30492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17:26:44Z</dcterms:created>
  <dc:creator>root root</dc:creator>
  <dc:description/>
  <dc:language>en-US</dc:language>
  <cp:lastModifiedBy>Administrator</cp:lastModifiedBy>
  <cp:lastPrinted>2002-09-12T07:04:17Z</cp:lastPrinted>
  <dcterms:modified xsi:type="dcterms:W3CDTF">2006-03-10T14:52:53Z</dcterms:modified>
  <cp:revision>195</cp:revision>
  <dc:subject/>
  <dc:title>titolo</dc:title>
</cp:coreProperties>
</file>